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0AA-C0B6-4348-A2B4-692F55EA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37E-A6C6-4807-AD6F-7964045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BA6-977A-48F2-A003-9487414A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AB9-BDC5-49B7-88B8-4A8ACC0E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B15-9322-4244-B94D-7BAB9A87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B16B-4653-4DDE-A2E3-CEDF2A3B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261-7F4A-4786-B947-D7ED809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425-FC20-43E2-BBE4-C82D183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B4F-9EF8-43E3-9F0E-E7111E8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0E9E-E9B5-41BA-B25B-D09809DD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957D-FB6A-494B-81EF-668607F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A39-85D2-4A81-985E-66E4DEF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C9AF-667A-4C18-9E70-91F7F74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BE05-4873-4846-871B-C3EE40C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9B4-BF7E-40EF-8256-BDDDD0F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F488-02FA-496E-A754-448A8C4C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7C7B-781E-4288-973D-32E74B09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6DAC-3EB8-44C0-97E2-0C9D71E2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0754-FD79-460A-ABB9-D34EFDF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9B88-A19B-41A5-9813-0DCC9D6D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0B80-B213-40D9-ABF6-5264D7E0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0741-B142-4E4B-81E2-E4798382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716-F94A-43DB-BDD6-3A9B62DA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876F-2FAB-4EFA-858E-02BA788E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308CC-7F86-4184-8215-A73C380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0A57-A7F3-45F5-ACC8-FDFFC0F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9D2D-F2AB-4EEB-B1D9-EE8F104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D5FF-5C33-4FD6-A878-3B4ED1E9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8A25-1774-4B3C-8F64-888CE718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339C-6269-4204-9E08-9BBA08E7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264-E296-4B47-9402-999B061B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8C5-B8FC-4335-9839-45180D95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CEE-B69C-4CBF-9C60-B3516840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925-3667-4F11-A8BA-E6712BC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462-7C10-4D1B-BD60-276F40D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1E1-563D-4F3A-8EE6-A89CF10C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81FFE8-E582-4FBA-A0D4-EF4F12FBE4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783500-74DF-442B-A07E-68D47CF97C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BB89D6-1A41-4EE2-B4C5-17699E3FD5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hyperlink" Target="http://www.samridhi-grand-avenue.com/" TargetMode="External"/><Relationship Id="rId4" Type="http://schemas.openxmlformats.org/officeDocument/2006/relationships/hyperlink" Target="http://www.samridhi-grand-avenue.com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mridhi-grand-avenue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samridhi-grand-avenue.com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amridhi-grand-avenue.com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9800" spc="-1" strike="noStrike">
                <a:solidFill>
                  <a:srgbClr val="ffffff"/>
                </a:solidFill>
                <a:latin typeface="Script MT Bold"/>
              </a:rPr>
              <a:t>Samridhi Group</a:t>
            </a:r>
            <a:br>
              <a:rPr sz="4400"/>
            </a:br>
            <a:endParaRPr b="0" lang="en-US" sz="9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19320" y="5867280"/>
            <a:ext cx="64004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cript MT Bold"/>
              </a:rPr>
              <a:t>Projects Name 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mridhi Grand A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mridhi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Grand Avenu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jects Area 7 Acres and offering 2/3 BHK flats with 33.76 Lass onwards and given possession 3 years, best payment plan for more details visit us -samridhi-grand-avenu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7000"/>
          </a:bodyPr>
          <a:p>
            <a:pPr indent="0" algn="ctr">
              <a:lnSpc>
                <a:spcPct val="100000"/>
              </a:lnSpc>
              <a:buNone/>
            </a:pPr>
            <a:br>
              <a:rPr sz="2700"/>
            </a:b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Projects Location - Samridhi Grand Avenue Noida @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9628472111</a:t>
            </a:r>
            <a:br>
              <a:rPr sz="44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Samridhi Grand Avenue location-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1240" y="1752480"/>
            <a:ext cx="8312400" cy="4876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Site Plan of Samridhi Grand Avenue @ 96284721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3" descr="Samridhi Grand Avenue- site-plan.jpg"/>
          <p:cNvPicPr/>
          <p:nvPr/>
        </p:nvPicPr>
        <p:blipFill>
          <a:blip r:embed="rId1"/>
          <a:stretch/>
        </p:blipFill>
        <p:spPr>
          <a:xfrm>
            <a:off x="228600" y="1600200"/>
            <a:ext cx="8762760" cy="51051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BHK Flats with size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@ 91-96284721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4" descr="Samridhi Grand Avenue- floorplan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676520"/>
            <a:ext cx="3334320" cy="4525560"/>
          </a:xfrm>
          <a:prstGeom prst="rect">
            <a:avLst/>
          </a:prstGeom>
          <a:ln w="0">
            <a:noFill/>
          </a:ln>
        </p:spPr>
      </p:pic>
      <p:pic>
        <p:nvPicPr>
          <p:cNvPr id="134" name="Content Placeholder 5" descr="Samridhi Grand Avenue 1080 Sq. ft..jpg"/>
          <p:cNvPicPr/>
          <p:nvPr/>
        </p:nvPicPr>
        <p:blipFill>
          <a:blip r:embed="rId4"/>
          <a:stretch/>
        </p:blipFill>
        <p:spPr>
          <a:xfrm>
            <a:off x="5051160" y="1600200"/>
            <a:ext cx="3232440" cy="4525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BHK flats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@ 91-96284721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4" descr="Samridhi Grand Avenue 1380 sq. ft..jpg"/>
          <p:cNvPicPr/>
          <p:nvPr/>
        </p:nvPicPr>
        <p:blipFill>
          <a:blip r:embed="rId2"/>
          <a:stretch/>
        </p:blipFill>
        <p:spPr>
          <a:xfrm>
            <a:off x="56520" y="2332080"/>
            <a:ext cx="3905640" cy="4525560"/>
          </a:xfrm>
          <a:prstGeom prst="rect">
            <a:avLst/>
          </a:prstGeom>
          <a:ln w="0">
            <a:noFill/>
          </a:ln>
        </p:spPr>
      </p:pic>
      <p:pic>
        <p:nvPicPr>
          <p:cNvPr id="137" name="Content Placeholder 5" descr="Samridhi Grand Avenue 1610 Sq.Ft.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332080"/>
            <a:ext cx="3786120" cy="45255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BHK+4 Toilet+Servan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@ 91-96284721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Content Placeholder 3" descr="Samridhi Grand Avenue- 3-4 Bedroo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66880"/>
            <a:ext cx="9143640" cy="419076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ridhi Grand Avenue: Cont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A- 8, 2nd Floor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Sector 9, Noida.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Gautam Budh Nagar. ( U.P. ) 201301</a:t>
            </a:r>
            <a:br>
              <a:rPr sz="3200"/>
            </a:b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Landmark-NCPL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Mb- +91-9628472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  <Words>44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8:44:44Z</dcterms:created>
  <dc:creator>vivek dubey</dc:creator>
  <dc:description/>
  <dc:language>en-US</dc:language>
  <cp:lastModifiedBy>vivek dubey</cp:lastModifiedBy>
  <dcterms:modified xsi:type="dcterms:W3CDTF">2015-03-18T09:42:03Z</dcterms:modified>
  <cp:revision>6</cp:revision>
  <dc:subject/>
  <dc:title>Samridhi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