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005-01D5-4E5B-BC4A-13C8FC71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E22-8CE4-4887-BE63-B33198F0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F34-8099-452B-A48B-80C88161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4E9-F364-4504-884A-BFFF4FCD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FF39-1182-447A-B233-F729555F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59E9-D903-4565-8CFB-FEE116D6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53E8-E5A1-49E6-93AC-112BE2CC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55E2-D7FC-4ABD-8D17-AB9CFAA4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5442-B527-4D9D-94F0-B3D2CB81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EC35-A353-4C02-9BCE-30CEA843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B7F6-7755-4448-9092-30CE4174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59A-F59F-4366-8358-75FF95E9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C6FC-870D-4B82-80E3-D753309E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6BE2-A0E6-4B9F-84C0-34559C4C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D786-2B33-4050-A31D-99302AB4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B6AE-36F1-420E-AF4A-D56AA066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8C85-6DFD-448C-BCBD-3C744D61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D816B-2585-4082-8D5A-210D304D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5456E-92BD-47ED-8BF0-B2A4DD62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0A0B9-E0A6-4BCE-A2EE-D79B45A2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D7FE8-99CF-4563-9EFE-75F1BEBF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A3F4-CAF3-4681-BEE1-81278DF9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9C6-139A-4FE8-955B-D1B570C7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CDC2B-26BB-448F-834F-B79CCF59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2D216-EEC3-485F-B662-57F2D661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DC58A-9B08-49CF-B750-03BA8D7F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7AAE9-FFF6-4608-AE1B-BA7740B4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803B-B1F3-4B60-87F6-826A0479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CAD8A-50C0-48D7-AD3F-FC200ECB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BC262-46B3-4747-BA24-BB0321E5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481-3657-4DD1-A2B0-51AB0963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969-6E13-47FE-8CEF-051E5DB8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62A-7D55-477B-89EE-4328C717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8C6-A84C-4904-8291-B306D949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A7F-4256-4A5B-A542-9455E784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D3B-85F8-4469-809A-ED0A48DD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12D1C7-7530-48FE-AF5D-4E48ABAD812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5175F8-80FD-4823-B0BF-A403A03BAA4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ABC46B-E8BF-41B3-BD3E-868893569EB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samridhi-grand-avenue.com/" TargetMode="External"/><Relationship Id="rId3" Type="http://schemas.openxmlformats.org/officeDocument/2006/relationships/hyperlink" Target="http://www.samridhi-grand-avenue.com/" TargetMode="External"/><Relationship Id="rId4" Type="http://schemas.openxmlformats.org/officeDocument/2006/relationships/hyperlink" Target="http://www.samridhi-grand-avenue.com/" TargetMode="Externa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amridhi-grand-avenue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samridhi-grand-avenue.com/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samridhi-grand-avenue.com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samridhi-grand-avenue.com/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9800" spc="-1" strike="noStrike">
                <a:solidFill>
                  <a:srgbClr val="ffffff"/>
                </a:solidFill>
                <a:latin typeface="Script MT Bold"/>
              </a:rPr>
              <a:t>Samridhi Group</a:t>
            </a:r>
            <a:br>
              <a:rPr sz="4400"/>
            </a:br>
            <a:endParaRPr b="0" lang="en-US" sz="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19320" y="5867280"/>
            <a:ext cx="64004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Projects Name 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mridhi Grand A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mridhi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Grand Avenu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jects Area 7 Acres and offering 2/3 BHK flats with 33.76 Lass onwards and given possession 3 years, best payment plan for more details visit us -samridhi-grand-avenue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7000"/>
          </a:bodyPr>
          <a:p>
            <a:pPr indent="0" algn="ctr">
              <a:lnSpc>
                <a:spcPct val="100000"/>
              </a:lnSpc>
              <a:buNone/>
            </a:pPr>
            <a:br>
              <a:rPr sz="2700"/>
            </a:b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rojects Location - Samridhi Grand Avenue Noida @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9628472111</a:t>
            </a:r>
            <a:br>
              <a:rPr sz="44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3" descr="Samridhi Grand Avenue location-ma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1240" y="1752480"/>
            <a:ext cx="8312400" cy="4876560"/>
          </a:xfrm>
          <a:prstGeom prst="rect">
            <a:avLst/>
          </a:prstGeom>
          <a:ln w="0">
            <a:noFill/>
          </a:ln>
        </p:spPr>
      </p:pic>
    </p:spTree>
  </p:cSld>
  <p:transition advTm="1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Site Plan of Samridhi Grand Avenue @ 96284721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ontent Placeholder 3" descr="Samridhi Grand Avenue- site-plan.jpg"/>
          <p:cNvPicPr/>
          <p:nvPr/>
        </p:nvPicPr>
        <p:blipFill>
          <a:blip r:embed="rId1"/>
          <a:stretch/>
        </p:blipFill>
        <p:spPr>
          <a:xfrm>
            <a:off x="228600" y="1600200"/>
            <a:ext cx="8762760" cy="5105160"/>
          </a:xfrm>
          <a:prstGeom prst="rect">
            <a:avLst/>
          </a:prstGeom>
          <a:ln w="0">
            <a:noFill/>
          </a:ln>
        </p:spPr>
      </p:pic>
    </p:spTree>
  </p:cSld>
  <p:transition advTm="1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BHK Flats with size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@ 91-96284721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Content Placeholder 4" descr="Samridhi Grand Avenue- floorplan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676520"/>
            <a:ext cx="3334320" cy="4525560"/>
          </a:xfrm>
          <a:prstGeom prst="rect">
            <a:avLst/>
          </a:prstGeom>
          <a:ln w="0">
            <a:noFill/>
          </a:ln>
        </p:spPr>
      </p:pic>
      <p:pic>
        <p:nvPicPr>
          <p:cNvPr id="134" name="Content Placeholder 5" descr="Samridhi Grand Avenue 1080 Sq. ft..jpg"/>
          <p:cNvPicPr/>
          <p:nvPr/>
        </p:nvPicPr>
        <p:blipFill>
          <a:blip r:embed="rId4"/>
          <a:stretch/>
        </p:blipFill>
        <p:spPr>
          <a:xfrm>
            <a:off x="5051160" y="1600200"/>
            <a:ext cx="3232440" cy="4525560"/>
          </a:xfrm>
          <a:prstGeom prst="rect">
            <a:avLst/>
          </a:prstGeom>
          <a:ln w="0">
            <a:noFill/>
          </a:ln>
        </p:spPr>
      </p:pic>
    </p:spTree>
  </p:cSld>
  <p:transition advTm="1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BHK flats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@ 91-96284721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Content Placeholder 4" descr="Samridhi Grand Avenue 1380 sq. ft..jpg"/>
          <p:cNvPicPr/>
          <p:nvPr/>
        </p:nvPicPr>
        <p:blipFill>
          <a:blip r:embed="rId2"/>
          <a:stretch/>
        </p:blipFill>
        <p:spPr>
          <a:xfrm>
            <a:off x="56520" y="2332080"/>
            <a:ext cx="3905640" cy="4525560"/>
          </a:xfrm>
          <a:prstGeom prst="rect">
            <a:avLst/>
          </a:prstGeom>
          <a:ln w="0">
            <a:noFill/>
          </a:ln>
        </p:spPr>
      </p:pic>
      <p:pic>
        <p:nvPicPr>
          <p:cNvPr id="137" name="Content Placeholder 5" descr="Samridhi Grand Avenue 1610 Sq.Ft.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2332080"/>
            <a:ext cx="3786120" cy="4525560"/>
          </a:xfrm>
          <a:prstGeom prst="rect">
            <a:avLst/>
          </a:prstGeom>
          <a:ln w="0">
            <a:noFill/>
          </a:ln>
        </p:spPr>
      </p:pic>
    </p:spTree>
  </p:cSld>
  <p:transition advTm="1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BHK+4 Toilet+Servan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@ 91-96284721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Content Placeholder 3" descr="Samridhi Grand Avenue- 3-4 Bedroo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666880"/>
            <a:ext cx="9143640" cy="4190760"/>
          </a:xfrm>
          <a:prstGeom prst="rect">
            <a:avLst/>
          </a:prstGeom>
          <a:ln w="0">
            <a:noFill/>
          </a:ln>
        </p:spPr>
      </p:pic>
    </p:spTree>
  </p:cSld>
  <p:transition advTm="1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ridhi Grand Avenue: Cont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A- 8, 2nd Floor</a:t>
            </a:r>
            <a:br>
              <a:rPr sz="3200"/>
            </a:b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Sector 9, Noida.</a:t>
            </a:r>
            <a:br>
              <a:rPr sz="3200"/>
            </a:b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Gautam Budh Nagar. ( U.P. ) 201301</a:t>
            </a:r>
            <a:br>
              <a:rPr sz="3200"/>
            </a:b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Landmark-NCPL T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Mb- +91-9628472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  <Words>44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8:44:44Z</dcterms:created>
  <dc:creator>vivek dubey</dc:creator>
  <dc:description/>
  <dc:language>en-US</dc:language>
  <cp:lastModifiedBy>vivek dubey</cp:lastModifiedBy>
  <dcterms:modified xsi:type="dcterms:W3CDTF">2015-03-18T09:42:03Z</dcterms:modified>
  <cp:revision>6</cp:revision>
  <dc:subject/>
  <dc:title>Samridhi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