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917-A91C-42F2-96C0-3088BEEF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4E7-AC18-4080-B1B4-D986E2EB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B54-F6EC-41D0-B6D7-39AA0919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D5F-80E0-4BAE-90F3-B2FDE82F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FE1-B72E-4A43-A9BD-4857D81D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540-379E-465D-B060-8F88C506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078-2D10-4784-BA13-545C9F8B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A2A-E8CF-4911-98D7-4D3143BA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09E-B40C-41F5-94A0-9A6295CD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92D-4AA7-47F2-937E-3A2CB2F5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63B-CE1A-4001-A667-DC1DEF8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BEF-0929-4830-B92C-ECC7A327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0100-F417-4701-8333-B552EED6C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7C6D-BE4D-40E9-8831-0376D774FB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60020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666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CEPCION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609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UAJE DE PROGRAMAC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DO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3860640"/>
            <a:ext cx="6769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dad Nacional de Ingenierí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ad de Ingeniería Industrial y de Sistem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gel Chata Tintaya (angel.chata@gmail.com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aulaportal.googlepage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9DFE-8F3A-4EC7-A32C-46545CFDB9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apturando múltiples excepcione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33520"/>
            <a:ext cx="8915400" cy="62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ste ejemplo convierte una cadena en un entero y realiza una divi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Multi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antidad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visor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 = "5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  cantidad = Integer.parseInt(caden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anti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ado = cantidad / divis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resultad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 NumberFormatException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cadena + " no es un entero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 ArithmeticException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"Error en "+cantidad+"/"+diviso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uebe este ejemplo en un programa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MultiException.java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Cambie la cadena  por "cinco", "1.1", "5" y divisor cambie por 0, 1,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2934-077D-4DA3-8C43-366041AB82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jecución del bloque </a:t>
            </a:r>
            <a:r>
              <a:rPr b="1" lang="es-PE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620640"/>
            <a:ext cx="8785080" cy="62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loque finally se ejecuta dependiendo como se termina el bloque 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sta terminar la ultima sentencia del bloque 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ido a sentencias return o break en el bloque 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ido a una excepción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Finall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antidad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visor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 = "5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  if (cadena.equals("5")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ntidad = Integer.parseInt(caden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anti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ado = cantidad / divis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resultad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 NumberFormatException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cadena + " no es un entero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 ArithmeticException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"Error "+cantidad+"/"+diviso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 { System.err.println(cadena+" y "+divisor);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9A39-0068-4991-97D8-F7B8A67938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asar la excepción al método invocad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685800"/>
            <a:ext cx="845820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pasar el método al invocador, se declara con la declaración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xcepción se propaga al método que lo invo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ejemplo, las excepciones de los métodos se manejan en el método invoc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odoInvocado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Metod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Resultad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miMetodo() throws 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ódigo que podria lanzar la 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getResultado() throws NumberFormat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ódigo que podria lanzar la exception NumberFormat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34EF-CCC3-487A-AB5F-3D31585E56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TestThrows.java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09480"/>
            <a:ext cx="83822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Throw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 = "abcde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posicion = 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letra = ' 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tra = getLetra(cadena,posic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letra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IndexOutOfBoundsException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"Error en "+cadena+" "+posic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char getLetra(String cadena, int posic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 IndexOutOfBounds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 cadena.charAt(posic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Cambie posición por –1, 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o lanzar una excepció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14400"/>
            <a:ext cx="853416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lanzar una excepción use las declaraciones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crear excepciones para manejar posibles problemas en el códi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Valor(int indic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 IndexOutOfBounds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indice &lt; 0 || indice &gt; 10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 IndexOutOfBoundsExcep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5106-FF10-4D9D-8B01-D2FCC7516F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estExceptionTeclado.jav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685800"/>
            <a:ext cx="853416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ExcepcionTeclado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 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ombre = readString("Ingrese un nombre: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u longitud es "+nombre.length(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ntero = readInt("Ingrese un entero: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l cuadrado es "+entero*entero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NumberFormatException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xcepcion numerica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.printStackTrace(System.er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ArithmeticException 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xcepcion artimetica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.printStackTrace(System.er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IndexOutOfBoundsException  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xcepcion de arreglo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.printStackTrace(System.er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xception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xcepcio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.printStackTrace(System.er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CFA5-B28C-4CA3-91B4-075F5F38D0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..TestExceptionTeclado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914400"/>
            <a:ext cx="853416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String readString(String etique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 Exce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etiquet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=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fferedReader in = new BufferedReader(ne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treamReader(System.in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dena = in.readLin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aden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int readInt(String etique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 Exce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ntero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 = readString(etiquet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enteroInteger = new Integer( cadena.trim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o = enteroInteger.intValu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nter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8DD1-A7C9-4C31-AA25-4C84BB95AD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895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A010-2EF3-4FC8-9602-3C22262AF5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Excepcione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14400"/>
            <a:ext cx="79246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es una excepción? Es un evento que interrumpe la ejecución de un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Usar un índice fuera de los limites de un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Dividir entre 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Realizar métodos de objetos nu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es un err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java es cuando la situación es irrecuperable y termina el pr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No hay memoria para correr 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Errores internos en 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l es la di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excepción se puede controlar en el programa. Un error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3119-6489-47AB-A5C5-D10CC4F606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aracterísticas del Java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914400"/>
            <a:ext cx="79246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ocurre una excepción en un método, Java lanza (throws) una excepcion (Exceptio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objeto Exception generado contiene el tipo de excepción, y el estado del programa cuando ocurrió el error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manejo de excepciones en java permite separarlos del algoritmo prin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sultado es un código mas legible y menos propenso a errore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va separa los detalles del manejo de errores del código principal, obteniéndose un código mas legible y menos propenso a errores de codificación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B980-5D6F-4A19-AB75-819A45C163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ndo el manejo de errore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838080"/>
            <a:ext cx="457200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ejo tradicional de err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erRegistroArchiv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orCod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bri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rrorAbri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 = OPEN_ERR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e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rrorLee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 = READ_ERR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erra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rrorCerra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 = CLOSE_ERR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rror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762120"/>
            <a:ext cx="4343400" cy="47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ejo de excepciones en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erRegistroArchiv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bri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e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errarArchivo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rrorAbri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jarErrorAbrirArchiv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rrorLee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jarErrorLeerArchivo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rrorCerrarArchiv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nejarErrorCerrarArchivo;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060F-CB6B-4C3C-97AC-00105850D0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volviendo la excepción hasta el manejador de excepciones.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528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se requiere que cada método invocado maneje la excepción, sino únicamente lo hará el primer manejador de excepciones de la lista de métodos invo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242748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514600" cy="2468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34360" y="4876920"/>
            <a:ext cx="4658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eo Tradicional de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 método4 retorna el código de error al método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 método3 retorna el código de error al métod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 método2 retorna el código de error al metodo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Arial"/>
              </a:rPr>
              <a:t>El metodo1 maneja el error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0600" y="4952880"/>
            <a:ext cx="384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pciones en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 metodo4 lanza una exce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Arial"/>
              </a:rPr>
              <a:t>El metodo1 captura la excepción y la manej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1728-BD71-4A84-89D3-0AB2F42D60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Las excepciones no pueden ignorarse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9144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vez que un método lanza un error no puede ignorarse a diferencia de la programación tradicional donde se debe controlar en cada punto de invocación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047760" cy="2992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5640" y="5421240"/>
            <a:ext cx="35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eo Tradicional de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78600" y="5410080"/>
            <a:ext cx="25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pciones en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977C-D078-457F-A7EB-504374AF88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Que se puede hacer con una Excepción?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676520"/>
            <a:ext cx="7925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pciones contro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apturar la excepción y manipula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Pasar la excepción al método invoc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apturar la excepción y lanzar una excepción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pciones no contro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necesitan ser controladas en el códi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JVM terminara el programa cuando las encuen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no desea que el programa termine tendrá que manejar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F867-13F7-4894-945C-E5E272DCA7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o capturar y manejar una excepció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914400"/>
            <a:ext cx="792468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cierre el código del método en un bloque 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eje cada exception en un bloque c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lquier proceso final realícelo en un bloque finally. Este bloque siempre se ejecutara, ocurra o no una excep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ocumentación del java indicara que excepciones lanza los métodos del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ódigo del mé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xception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nejar la excepció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xception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nejar la excepció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ualquier otro proces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296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AD5A-E9AE-4728-A196-EF4E38474E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45120" y="655308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Universidad Nacional de Ingeni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apturando una excepción.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914400"/>
            <a:ext cx="79246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ste ejemplo convierte una cadena en un ent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antid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adena = "5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ntidad = Integer.parseInt(caden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 NumberFormat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rr.println(cadena+"no es un entero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uebe este ejemplo en un programa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Exception.java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Cambie la cadena  por "cinco", "1.1", "2f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1:30:48Z</dcterms:created>
  <dc:creator>ANGEL CHATA</dc:creator>
  <dc:description/>
  <dc:language>en-US</dc:language>
  <cp:lastModifiedBy>Maquina</cp:lastModifiedBy>
  <dcterms:modified xsi:type="dcterms:W3CDTF">2008-03-25T04:04:59Z</dcterms:modified>
  <cp:revision>208</cp:revision>
  <dc:subject/>
  <dc:title>Presentación de PowerPoint</dc:title>
</cp:coreProperties>
</file>