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449-2697-4964-9726-0DC8C5BB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21D-96A6-4217-8A69-D0660FF0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69A-D0A4-4728-A0C5-7E822F92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1FB-8ABA-4BED-8A3D-AFF951F3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991-BB33-49ED-9EE2-4B666B2B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1D3-BDFA-4260-99E6-1E73AA6E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9D2F-4D70-4159-A7CE-40D3E696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A49-5482-440C-9739-EAA15A30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798-76D8-4722-AB52-9E9F0AA7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ED5-04DC-4DF2-817C-3DEB817D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142-6095-466F-ACC6-445EACC0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641-527A-4E20-8E1A-25DDBBE9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A60F-E994-4053-8AF8-4222E19D3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66FF-7A14-4050-89BE-2FEEB76ECE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60020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666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CEPCION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609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UAJE DE PROGRAMAC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DO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3860640"/>
            <a:ext cx="6769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idad Nacional de Ingenierí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cultad de Ingeniería Industrial y de Sistema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gel Chata Tintaya (angel.chata@gmail.com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aulaportal.googlepage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3D39-7B53-4E3E-B9CC-2BED7E5F44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apturando múltiples excepciones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33520"/>
            <a:ext cx="8915400" cy="62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ste ejemplo convierte una cadena en un entero y realiza una divi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Multi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 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antidad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ivisor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adena = "5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  cantidad = Integer.parseInt(caden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antida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ado = cantidad / diviso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resultad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 NumberFormatException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err.println(cadena + " no es un entero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 ArithmeticException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err.println("Error en "+cantidad+"/"+diviso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uebe este ejemplo en un programa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MultiException.java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Cambie la cadena  por "cinco", "1.1", "5" y divisor cambie por 0, 1,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6CDD-1F38-4CC8-AA69-5CDE323112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jecución del bloque </a:t>
            </a:r>
            <a:r>
              <a:rPr b="1" lang="es-PE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620640"/>
            <a:ext cx="8785080" cy="62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bloque finally se ejecuta dependiendo como se termina el bloque 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sta terminar la ultima sentencia del bloque 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ido a sentencias return o break en el bloque 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ido a una excepción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Finall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 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antidad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ivisor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adena = "5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  if (cadena.equals("5")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ntidad = Integer.parseInt(caden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antida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ado = cantidad / diviso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resultad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 NumberFormatException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err.println(cadena + " no es un entero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 ArithmeticException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err.println("Error "+cantidad+"/"+diviso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 { System.err.println(cadena+" y "+divisor);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9109-AE49-483C-A6C7-B6C055F4BD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asar la excepción al método invocado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685800"/>
            <a:ext cx="845820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a pasar el método al invocador, se declara con la declaración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xcepción se propaga al método que lo invo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el ejemplo, las excepciones de los métodos se manejan en el método invoca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odoInvocado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Metodo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Resultado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miMetodo() throws 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ódigo que podria lanzar la 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getResultado() throws NumberFormat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ódigo que podria lanzar la exception NumberFormat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1B23-247A-45F2-935F-5F853A408C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TestThrows.java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09480"/>
            <a:ext cx="83822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Throw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 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adena = "abcde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posicion = 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letra = ' 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tra = getLetra(cadena,posic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letra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IndexOutOfBoundsException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err.println("Error en "+cadena+" "+posic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char getLetra(String cadena, int posic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 IndexOutOfBounds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 cadena.charAt(posic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Cambie posición por –1, 0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o lanzar una excepción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914400"/>
            <a:ext cx="853416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a lanzar una excepción use las declaraciones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 crear excepciones para manejar posibles problemas en el códi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getValor(int indic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 IndexOutOfBounds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indice &lt; 0 || indice &gt; 10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 IndexOutOfBoundsExcept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4E1D-A718-4F84-A7BC-F8D10826BC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estExceptionTeclado.jav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685800"/>
            <a:ext cx="853416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ExcepcionTeclado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 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ombre = readString("Ingrese un nombre: 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u longitud es "+nombre.length()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ntero = readInt("Ingrese un entero: 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l cuadrado es "+entero*entero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NumberFormatException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xcepcion numerica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.printStackTrace(System.er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ArithmeticException 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xcepcion artimetica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.printStackTrace(System.er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IndexOutOfBoundsException  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xcepcion de arreglos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.printStackTrace(System.er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Exception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xcepcio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.printStackTrace(System.er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1EDD-3880-4C60-B07C-B5C72E3F57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..TestExceptionTeclado.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914400"/>
            <a:ext cx="853416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String readString(String etique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 Exce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etiquet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adena=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fferedReader in = new BufferedReader(ne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StreamReader(System.in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dena = in.readLin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caden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int readInt(String etique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 Exce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ntero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adena = readString(etiquet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enteroInteger = new Integer( cadena.trim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o = enteroInteger.intValu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nter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DCD4-BFA8-4584-909C-7225EC3F27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2895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7AFD-98CC-4EF0-B383-E16F275C85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Excepciones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14400"/>
            <a:ext cx="79246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e es una excepción? Es un evento que interrumpe la ejecución de un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Usar un índice fuera de los limites de un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Dividir entre c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Realizar métodos de objetos nu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e es un err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java es cuando la situación es irrecuperable y termina el prog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No hay memoria para correr J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Errores internos en J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al es la di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excepción se puede controlar en el programa. Un error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6729-D7C4-4500-8399-AA702F19C1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aracterísticas del Java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914400"/>
            <a:ext cx="79246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ocurre una excepción en un método, Java lanza (throws) una excepcion (Exception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objeto Exception generado contiene el tipo de excepción, y el estado del programa cuando ocurrió el error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manejo de excepciones en java permite separarlos del algoritmo princip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sultado es un código mas legible y menos propenso a errores de program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va separa los detalles del manejo de errores del código principal, obteniéndose un código mas legible y menos propenso a errores de codificación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25B8-49C6-4143-85CB-3D2BDF5EAC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ndo el manejo de errores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838080"/>
            <a:ext cx="457200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ejo tradicional de err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erRegistroArchiv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orCod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brirArchivo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rrorAbrirArchivo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 = OPEN_ERRO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erArchivo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rrorLeerArchivo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 = READ_ERRO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errarArchivo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rrorCerrarArchivo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 = CLOSE_ERRO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rrorC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762120"/>
            <a:ext cx="4343400" cy="47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ejo de excepciones en Ja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erRegistroArchiv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brirArchivo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erArchivo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errarArchivo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errorAbrirArchivo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nejarErrorAbrirArchiv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errorLeerArchivo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nejarErrorLeerArchivo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errorCerrarArchivo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nejarErrorCerrarArchivo;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C786-3CE5-4190-8413-3590A48565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volviendo la excepción hasta el manejador de excepciones.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9528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se requiere que cada método invocado maneje la excepción, sino únicamente lo hará el primer manejador de excepciones de la lista de métodos invoc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2427480" cy="243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2514600" cy="2468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34360" y="4876920"/>
            <a:ext cx="4658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eo Tradicional de 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 método4 retorna el código de error al método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 método3 retorna el código de error al métod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 método2 retorna el código de error al metodo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Arial"/>
              </a:rPr>
              <a:t>El metodo1 maneja el error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0600" y="4952880"/>
            <a:ext cx="384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pciones en 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 metodo4 lanza una exce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Arial"/>
              </a:rPr>
              <a:t>El metodo1 captura la excepción y la manej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2DE0-34DB-4F11-9CCA-C1516A4E3E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Las excepciones no pueden ignorarse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9144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vez que un método lanza un error no puede ignorarse a diferencia de la programación tradicional donde se debe controlar en cada punto de invocación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047760" cy="2992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5640" y="5421240"/>
            <a:ext cx="350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eo Tradicional de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78600" y="5410080"/>
            <a:ext cx="25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epciones en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6A1A-6F65-4A74-9435-8EE640ECB1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Que se puede hacer con una Excepción?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676520"/>
            <a:ext cx="7925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epciones control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Capturar la excepción y manipula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Pasar la excepción al método invoca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Capturar la excepción y lanzar una excepción dife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epciones no control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necesitan ser controladas en el códi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JVM terminara el programa cuando las encuen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no desea que el programa termine tendrá que manejar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4D21-D646-4816-BC1A-32F1742D13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o capturar y manejar una excepción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914400"/>
            <a:ext cx="792468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cierre el código del método en un bloque 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eje cada exception en un bloque ca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alquier proceso final realícelo en un bloque finally. Este bloque siempre se ejecutara, ocurra o no una excep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documentación del java indicara que excepciones lanza los métodos del ja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ódigo del mé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exception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nejar la excepció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exception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nejar la excepció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ualquier otro proces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4D95-06F2-42D5-88E5-9263D98FD2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apturando una excepción.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914400"/>
            <a:ext cx="79246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ste ejemplo convierte una cadena en un ent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antid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adena = "5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ntidad = Integer.parseInt(caden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 NumberFormat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err.println(cadena+"no es un entero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uebe este ejemplo en un programa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Exception.java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Cambie la cadena  por "cinco", "1.1", "2f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01:30:48Z</dcterms:created>
  <dc:creator>ANGEL CHATA</dc:creator>
  <dc:description/>
  <dc:language>en-US</dc:language>
  <cp:lastModifiedBy>Maquina</cp:lastModifiedBy>
  <dcterms:modified xsi:type="dcterms:W3CDTF">2008-03-25T04:04:59Z</dcterms:modified>
  <cp:revision>208</cp:revision>
  <dc:subject/>
  <dc:title>Presentación de PowerPoint</dc:title>
</cp:coreProperties>
</file>