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1BA-47DC-4506-8DC2-AC83C2E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C1F-D706-48AC-AAEE-972847D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FCE-38E2-4107-88F8-C8014E43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B26-6A6C-4E92-B0B1-340BEBA5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9377-2B2F-4EB3-A7AB-2C4F5FE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DEF-AE49-4D78-AF14-CD55DA0B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6E8-CFE8-431A-9599-19C7505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2350-CF7F-4565-AA9A-2681830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C80-5A1C-449C-ADDD-38E6C393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37F7-316D-4E8C-955E-B41C411C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DEC-4C92-4010-98FC-A7C4F76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623-780C-4326-83D4-83875B3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ECC6-3264-4FE8-B10F-0F1F6F4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604D-D775-4E60-B72B-2B697F8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06D5-6F80-42EF-B641-14F2327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3BE0-E20C-4A6E-A5F3-8CA83F0F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4CE-7372-4184-8247-DFF020B8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10F-CE2A-4487-9FD4-343D5EC4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602-A6E8-4DBF-968D-BB89FE9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8E2-AE02-419D-BD83-918EDEE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4EF-93E8-4610-ACBB-7A5F5616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BA6-4EC8-47F4-B356-28996B1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619-9192-4556-A13A-0E12F87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B6B-7DB5-49BD-B489-070DF55C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059-99BA-4ED5-8AF8-76A5EA32F9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30E4-7EF7-441B-B15F-7407CFF554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280" y="1218960"/>
            <a:ext cx="7791480" cy="4267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nh÷ng vÊn ®Ò c¬ b¶n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vÒ ®Êu tranh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phßng chèng téi ph¹m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vµ tÖ n¹n x· héi</a:t>
            </a:r>
            <a:endParaRPr b="0" lang="en-US" sz="43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0440" y="1294920"/>
            <a:ext cx="8223120" cy="53341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HelvetInsH"/>
              </a:rPr>
              <a:t>2. Néi dung, nhiÖm vô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HelvetInsH"/>
              </a:rPr>
              <a:t>ho¹t ®éng phßng chèng téi ph¹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7d9e9"/>
                </a:solidFill>
                <a:latin typeface=".VnTim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Nghiªn cøu x¸c ®Þnh râ c¸c nguyªn nh©n, ®iÒu kiÖn cña t×nh tr¹ng ph¹m téi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N.cøu so¹n th¶o ®Ò ra c¸c chñ tr­¬ng, GP, BP thÝch hîp nh»m tõng b­íc xãa bá nguyªn nh©n, ®iÒu kiÖn (c¸c gp vÒ KT, hoµn thiÖn PL, kÕt hîp víi c¸c chÝnh s¸ch x· héi...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Tæ chøc tiÕn hµnh c¸c ho¹t ®éng PNTP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Tæ chøc tiÕn hµnh c¸c ho¹t ®éng ph¸t hiÖn, ®iÒu tra xö lý téi ph¹m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C78-D812-4607-B12E-7DCC8D40B26E}" type="slidenum">
              <a:t>10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3120" cy="50292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87d9e9"/>
                </a:solidFill>
                <a:latin typeface=".VnTime"/>
              </a:rPr>
              <a:t>	</a:t>
            </a:r>
            <a:r>
              <a:rPr b="1" lang="en-US" sz="3200" spc="-1" strike="noStrike">
                <a:solidFill>
                  <a:srgbClr val="f67aa9"/>
                </a:solidFill>
                <a:latin typeface=".VnTime"/>
              </a:rPr>
              <a:t>a) Nghiªn cøu x¸c ®Þnh râ c¸c nguyªn nh©n, ®iÒu kiÖn cña t×nh tr¹ng ph¹m té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Do sù t¸c ®éng bëi nh÷ng mÆt tr¸i cña nÒn kinh tÕ thÞ tr­ê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Sù t¸c ®éng trùc tiÕp toµn diÖn cña nh÷ng hiÖn t­îng tiªu cùc x· héi do chÕ ®é cò ®Ó l¹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­ t­ëng träng nam khinh n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- ¶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nh h­ëng sù th©m nhËp cña téi ph¹m vµ tÖ n¹n x· héi cña c¸c quèc gia kh¸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87d9e9"/>
                </a:solidFill>
                <a:latin typeface=".VnTime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1FD-C344-4690-9607-1083E5F397F8}" type="slidenum">
              <a:t>11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0440" y="1294920"/>
            <a:ext cx="8223120" cy="53341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78000"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Nh÷ng s¬ hë thiÕu sãt trong qu¶n lý cña Nhµ n­íc vÒ v¨n ho¸, nghÒ nghiÖp, con ng­ê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ThiÕu sãt trong gi¸o dôc ®¹o ®øc lèi sè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HÖ thèng ph¸p luËt ch­a hoµn thiÖn, chÝnh s¸ch kinh tÕ x· héi chËm ®æi mí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Ph¸p luËt ViÖt Nam ch­a t­¬ng thÝch ph¸p luËt quåc tÕ vµ c¸c n­íc trong khu vù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C«ng t¸c ®Êu tranh chèng téi ph¹m cña c¸c c¬ quan chøc n¨ng nãi chung vµ ngµnh C«ng an nãi riªng cßn béc lé nhiÒu yÕu kÐm thiÕu sãt (Sè vô ph¸t hiÖn ®iÒu tra Ýt h¬n so víi thùc tÕ téi ph¹m x¶y 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Phong trµo quÇn chóng tham gia ®Êu tranh phßng chèng téi ph¹m ë mét sè n¬i ch­a thËt m¹nh mÏ, kÐm hiÖu qu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87d9e9"/>
                </a:solidFill>
                <a:latin typeface=".VnTime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589-EF36-4409-BAAD-4CD20A192F8B}" type="slidenum">
              <a:t>12</a:t>
            </a:fld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25520"/>
            <a:ext cx="8223120" cy="46483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indent="0">
              <a:lnSpc>
                <a:spcPct val="16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b) N.cøu so¹n th¶o ®Ò ra c¸c chñ tr­¬ng, GP, BP thÝch hîp nh»m tõng b­íc xãa bá nguyªn nh©n, ®iÒu kiÖn (c¸c gp vÒ KT, hoµn thiÖn PL, kÕt hîp víi c¸c chÝnh s¸ch x· héi...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C¸c gi¶i ph¸p vÒ ph¸t triÓn kinh t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C¸c gi¶i ph¸p vÒ hoµn thiÖn hÖ thèng ph¸p luË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DA5-4FF8-437D-83D2-F1B3EFCE9F1D}" type="slidenum">
              <a:t>13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724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87000"/>
          </a:bodyPr>
          <a:p>
            <a:pPr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c)  Tæ chøc tiÕn hµnh c¸c ho¹t ®éng phßng ngõa téi ph¹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d) Tæ chøc tiÕn hµnh c¸c ho¹t ®éng ph¸t hiÖn ®iÒu tra xö lý téi ph¹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Tæ chøc ®iÒu tra lµm râ hµnh vi ph¹m téi..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C¸c c¬ quan truy tè xÐt xö c¨n cø tÝnh chÊt, møc ®é hµnh vi ph¹m téi ®Ó xö lý ®óng ng­êi, ®óng téi, ®óng ph¸p luËt (kh«ng ®Ó lät ng­êi ph¹m téi- kh«ng lµm oan ng­êi v« téi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AD7-8B2C-4061-8C16-22B1810B161D}" type="slidenum">
              <a:t>14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ff99ff"/>
                </a:solidFill>
                <a:uFillTx/>
                <a:latin typeface=".VnHelvetInsH"/>
              </a:rPr>
              <a:t>3) Chñ thÓ vµ nguyªn t¾c tæ chøc ho¹t ®éng phßng, chèng téi ph¹m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99ff"/>
                </a:solidFill>
                <a:latin typeface=".VnHelvetIns"/>
              </a:rPr>
              <a:t>     </a:t>
            </a:r>
            <a:r>
              <a:rPr b="0" lang="en-US" sz="2700" spc="-1" strike="noStrike">
                <a:solidFill>
                  <a:srgbClr val="ff99ff"/>
                </a:solidFill>
                <a:latin typeface=".VnHelvetIns"/>
              </a:rPr>
              <a:t>a) Chñ thÓ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7d9e9"/>
                </a:solidFill>
                <a:latin typeface=".VnTime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Quèc héi, Héi ®ång nh©n d©n c¸c cÊp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hÝnh phñ vµ UBND c¸c cÊ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c¬ quan qu¶n lý KT, VH GD, DV, DL…trong ph¹m vi tæ chøc ho¹t ®éng chuyªn m«n cña m×n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tæ chøc XH, c¸c tæ chøc quÇn chóng tù qu¶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C¬ quan b¶o vÖ ph¸p luËt (CA, TA, VK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«ng d©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89E-1411-47B7-B29C-EC93056D7311}" type="slidenum">
              <a:t>15</a:t>
            </a:fld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2428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ctr">
            <a:normAutofit fontScale="92000"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.VnHelvetIns"/>
              </a:rPr>
              <a:t>b) Nguyªn t¾c tæ chøc phßng chèng téi ph¹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Nhµ n­íc qu¶n 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KÕt hîp gi÷a chñ ®éng phßng ngõa vµ chñ ®éng tiÕn c«ng (phèi hîp vµ cô th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ph¸p chÕ (tu©n thñ ph¸p luË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d©n chñ, nh©n ®¹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khoa häc vµ tiÕn b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564-3C3B-4AC7-9E86-EBED4A5C2AFE}" type="slidenum">
              <a:t>16</a:t>
            </a:fld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ff99ff"/>
                </a:solidFill>
                <a:uFillTx/>
                <a:latin typeface=".VnHelvetInsH"/>
              </a:rPr>
              <a:t>4. Ph©n lo¹i C¸c biÖn ph¸p phßng ngõa téi ph¹m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ßng ngõa chung: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tæng thÓ c¸c biÖn ph¸p vÒ CT, KT, VH, PL-GD…lµ qu¸ tr×nh toµn x· héi ph¶i tham gia nh»m kh¾c phôc nh÷ng s¬ hë thiÕu sãt lµ NN, §K ph¸t sinh, ph¸t triÓn cña téi ph¹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ßng chèng riªng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viÖc ¸p dông c¸c biÖn ph¸p mang tÝnh ®Æc tr­ng chuyªn m«n cña tõng ngµnh, tõng lùc l­îng trong ®ã cã ho¹t ®éng cña CQ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C67-B49C-4D19-85BE-FFCC31552746}" type="slidenum">
              <a:t>17</a:t>
            </a:fld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9360" y="361800"/>
            <a:ext cx="624528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II. 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54100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txBody>
          <a:bodyPr lIns="90000" rIns="90000" tIns="46800" bIns="46800" anchor="ctr">
            <a:normAutofit fontScale="92000"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1. Kh¸i niÖm – môc ®Ých - ®Æc ®iÓm vµ c«ng t¸c phßng chèng tnx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) Kh¸i niÖm TNXH:</a:t>
            </a: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Lµ mét hiÖn t­îng x· héi tiªu cùc, cã tÝnh phæ biÕn, biÓu hiÖn b»ng nh÷ng hµnh vi sai lÖch chuÈn mùc x· héi, vi ph¹m ®¹o ®øc, g©y ¶nh h­ëng nghiªm träng ®Õn ®êi sèng céng ®ång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Bao gå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Thãi h­ tËt xÊ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Phong tôc, tËp qu¸n l¹c hË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NÕp sèng xa ®äa, ®åi trôy, ®ång bãng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6EF-EC76-4BA4-93A5-DE39F072EB5E}" type="slidenum">
              <a:t>18</a:t>
            </a:fld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.VnTime"/>
              </a:rPr>
              <a:t>b) Môc ®Ýc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¨n ngõa chÆn ®øng kh«ng cho TNXH ph¸t sinh, ph¸t triÓn, lan réng trªn ®Þa bµ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Tõng b­íc xãa bá dÇn nh÷ng nguyªn nh©n ®iÒu kiÖn cña TNXH, x©y dùng ®êi sèng v¨n hãa lµnh m¹nh, b¶o vÖ thuÇn phong mü tô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Ph¸t hiÖn ®Êu tranh, xö lý nghiªm minh nh÷ng hµnh vi ho¹t ®éng TNXH gãp phÇn gi÷ v÷ng ANQG vµ TTATXH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12520" y="343080"/>
            <a:ext cx="5675400" cy="9856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Néi dun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28600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1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I.Những vấn đề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cơ bản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về Phòng chống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tội ph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701880" y="1600200"/>
            <a:ext cx="176868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.VnArial"/>
              </a:rPr>
              <a:t>II.C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ông tác phòng     chống    tệ n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xã h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80880"/>
            <a:ext cx="762120" cy="4572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799920 h 4572000"/>
              <a:gd name="textAreaBottom" fmla="*/ 331488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457200"/>
            <a:ext cx="1066680" cy="4648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813240 h 4648320"/>
              <a:gd name="textAreaBottom" fmla="*/ 33699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8920" y="1600200"/>
            <a:ext cx="205272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.VnArial"/>
              </a:rPr>
              <a:t>III. Tr¸ch nhiÖm cña Nhµ tr­êng vµ sinh viªn trong PCTP - TNX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9360" y="399600"/>
            <a:ext cx="6245280" cy="6858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ctr">
            <a:normAutofit fontScale="96000"/>
          </a:bodyPr>
          <a:p>
            <a:pPr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.VnTime"/>
              </a:rPr>
              <a:t>c. §Æc ®iÓm cña tÖ n¹n x· hé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Lµ nh÷ng hiÖn t­îng tiªu cùc x· héi cã tÝnh l©y lan nha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ån t¹i d­íi nhiÒu h×nh thøc, cã sù tham gia cña nhiÒu ng­ê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§èi t­îng tham gia ®a d¹ng vÒ thµnh phÇ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Cã mèi quan hÖ chÆt chÏ víi téi ph¹m h×nh s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§Þa bµn x¶y ra th­êng lµ nh÷ng n¬i ®«ng ng­êi, khu du lÞch, TP, TX n¬i tr×nh ®é quÇn chóng nh©n d©n cßn l¹c hËu thÊp kÐm, c«ng t¸c qu¶n lý XH cßn nhiÒu s¬ hë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63A-D36C-4ADA-A7A1-D3FDBD6CCB0C}" type="slidenum">
              <a:t>20</a:t>
            </a:fld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6600" y="550800"/>
            <a:ext cx="6245280" cy="68904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3240" cy="38880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d. C«ng t¸c phßng chèng TNX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Time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.VnTime"/>
              </a:rPr>
              <a:t>Lµ qu¸ tr×nh nhµ n­íc cïng c¸c ngµnh, c¸c cÊp, c¸c ®oµn thÓ, tæ chøc x· héi vµ c«ng d©n tiÕn hµnh ®ång bé c¸c biÖn ph¸p nh»m ph¸t hiÖn, ng¨n chÆn, lo¹i trõ c¸c lo¹i TNXH gãp phÇn b¶o vÖ vµ ph¸t huy thuÇn phong mü tôc truyÒn thèng tèt ®Ñp cña d©n téc, gãp phÇn gi÷ v÷ng ANTTATXH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193-B27A-44F2-A374-E99009BDEFF0}" type="slidenum">
              <a:t>21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 u="sng">
                <a:solidFill>
                  <a:srgbClr val="ffff00"/>
                </a:solidFill>
                <a:uFillTx/>
                <a:latin typeface=".VnExoticH"/>
              </a:rPr>
              <a:t>2. Chñ tr­¬ng, quan ®iÓm trong ®Êu tranh PCTNX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.VnTime"/>
              </a:rPr>
              <a:t>Nghiªm cÊm mäi h×nh thøc ho¹t ®éng TNXH, xö lý thÝch ®¸ng nh÷ng tªn ho¹t ®éng chuyªn nghiÖp, ho¹t ®éng cã æ nhãm, nh÷ng tªn cÇm ®Çu hoÆc tæ chøc l«i kÐo ng­êi kh¸c ®i vµo con ®­êng ho¹t ®éng TNXH. Chñ ®éng phßng ngõa ng¨n chÆn kh«ng ®Ó TNXH l©y lan, ph¸t triÓn g©y t¸c h¹i ®Õn ®êi sèng nh©n d©n vµ TTXH. Gi¸o dôc, c¶i t¹o ng­êi m¾c TNXH…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EC7-821F-4B00-98A9-6C839D8E818F}" type="slidenum">
              <a:t>22</a:t>
            </a:fld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ctr">
            <a:normAutofit fontScale="97000"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.VnTime"/>
              </a:rPr>
              <a:t>Chñ tr­¬ng quan ®iÓm ®­îc thÓ h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Phßng ngõa lµ c¬ b¶n, lång ghÐp kÕt hîp chÆt chÏ c«ng t¸c phßng chèng TNXH víi c¸c ch­¬ng tr×nh ph¸t triÓn KT-VH-GD-XH ë ®Þa ph­¬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Lµ tr¸ch nhiÖm cña toµn XH, vµ ph¶i ®­îc triÓn khai ë mäi cÊp, mäi ngµn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KÕt hîp chÆt chÏ gi÷a xö lý nghiªm kh¾c víi c¶m hãa, gi¸o dôc c¶i t¹o ®èi t­îng ho¹t ®éng TNX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5720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9BF-EDCA-443C-B0F7-197EE007DBC2}" type="slidenum">
              <a:t>23</a:t>
            </a:fld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.VnExoticH"/>
              </a:rPr>
              <a:t>3. Quy ®Þnh cña ph¸p luËt vÒ PCTNX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BLHS 1999: §iÒu 247, 254, 255, 236, 248, 249, 192…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NghÞ ®Þnh 05/CP vµ 06/CP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LuËt Phßng, chèng ma tóy 2000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Ph¸p lÖnh phßng, chèng m¹i d©m 2003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Ph¸p lÖnh xö lý hµnh chÝnh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C¸c nghÞ ®Þnh kh¸c cña ChÝnh phñ cã liªn quan…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5720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D63-2C5B-43B5-8EEA-305382B146A9}" type="slidenum">
              <a:t>24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905120"/>
            <a:ext cx="6248520" cy="2133360"/>
          </a:xfrm>
          <a:prstGeom prst="rect">
            <a:avLst/>
          </a:prstGeom>
          <a:solidFill>
            <a:srgbClr val="ccff33"/>
          </a:solidFill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.VnHelvetInsH"/>
              </a:rPr>
              <a:t>4. C¸c lo¹i tÖ n¹n phæ biÕn ë </a:t>
            </a:r>
            <a:br>
              <a:rPr sz="3300"/>
            </a:br>
            <a:r>
              <a:rPr b="0" lang="en-US" sz="3300" spc="-1" strike="noStrike">
                <a:solidFill>
                  <a:srgbClr val="ff0066"/>
                </a:solidFill>
                <a:latin typeface=".VnHelvetInsH"/>
              </a:rPr>
              <a:t>viÖt nam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891-21E0-4F7A-A8CB-7D1BAD1BEB17}" type="slidenum">
              <a:t>25</a:t>
            </a:fld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6040" y="377640"/>
            <a:ext cx="4191120" cy="8442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a2608"/>
                </a:solidFill>
                <a:latin typeface=".VnHelvetInsH"/>
              </a:rPr>
              <a:t>TÖ n¹n ma tóy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.VnTime"/>
              </a:rPr>
              <a:t>Lµ mét lo¹i TNXH mµ n¹n nh©n cã thãi quen sö dông chÊt ma tóy dÉn ®Õn t×nh tr¹ng lÖ thuéc vµo ma tóy khã cã thÓ bá ®­îc. NghiÖn ma tóy g©y hËu qu¶ t¸c h¹i lín cho ng­êi nghiÖn vµ XH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.VnTime"/>
              </a:rPr>
              <a:t>C¸c h×nh thøc sö dông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Hót, hÝt, tiªm, chÝch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Uèng: Ma tóy tæng hîp (estasy)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FD7-ACBE-47F8-A96F-6F90C8E4BF09}" type="slidenum">
              <a:t>26</a:t>
            </a:fld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5715000"/>
            <a:ext cx="396252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12880" indent="-81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2608"/>
                </a:solidFill>
                <a:latin typeface=".VnTimeH"/>
              </a:rPr>
              <a:t>TÖ n¹n ma tu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4876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743200" y="579132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ma tu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5720" y="303120"/>
            <a:ext cx="571176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.VnHelvetInsH"/>
              </a:rPr>
              <a:t>tÖ n¹n m¹i d©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.VnArial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M¹i d©m lµ mét lo¹i TNXH bao gåm nh÷ng hµnh vi nh»m thùc hiÖn c¸c dÞch vô quan hÖ t×nh dôc cã tÝnh chÊt mua b¸n trªn c¬ së mét gi¸ trÞ vËt chÊt nhÊt ®Þnh ngoµi ph¹m vi h«n nh©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Theo quy ®Þnh cña Ph¸p lÖnh PCMD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 </a:t>
            </a: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TNMD bao gåm c¸c hµnh vi b¸n d©m, mua d©m, chøa m¹i d©m, tæ chøc ho¹t ®éng m¹i d©m, c­ìng bøc b¸n d©m, mèi giíi m¹i d©m, b¶o kª m¹i d©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643-B6A3-4C76-A07A-68B0C345AE49}" type="slidenum">
              <a:t>29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9160" y="304920"/>
            <a:ext cx="87822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I. 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téi ph¹m lµ g×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* Kh¸i niÖm téi ph¹m:(§iÒu 8- LuËt HS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éi ph¹m lµ hµnh vi nguy hiÓm cho XH ®­îc quy ®Þnh trong bé luËt h×nh sù, do ng­êi cã n¨ng lùc tr¸ch nhiÖm h×nh sù thùc hiÖn mét c¸ch cè ý hoÆc v« ý, x©m ph¹m ®éc lËp chñ quyÒn thèng nhÊt toµn vÑn l·nh thæ Tæ quèc, x©m ph¹m chÕ ®é chÝnh trÞ, chÕ ®é kinh tÕ, nÒn v¨n hãa, quèc phßng, an ninh, TTATXH, quyÒn vµ lîi Ých hîp ph¸p cña tæ chøc, x©m ph¹m tÝnh m¹ng, søc kháe, danh dù, nh©n phÈm, tµi s¶n vµ c¸c lîi Ých kh¸c cña c«ng d©n, x©m ph¹m nh÷ng lÜnh vùc kh¸c cña trËt tù ph¸p luËt X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9400" y="377640"/>
            <a:ext cx="5864400" cy="7650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.VnHelvetInsH"/>
              </a:rPr>
              <a:t>®Æc ®iÓm cña tÖ n¹n m¹i d©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371600"/>
            <a:ext cx="8305920" cy="45720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Nh©n th©n cña chñ chøa m¹i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m«i giíi m¹i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b¸n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mua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693-89C2-4B61-92D5-1F18953F3B05}" type="slidenum">
              <a:t>30</a:t>
            </a:fld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0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19360" cy="3352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3505320" cy="4191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62120" y="472428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m¹i d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3080" y="244440"/>
            <a:ext cx="601668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.VnHelvetInsH"/>
              </a:rPr>
              <a:t>®Æc ®iÓm cña tÖ n¹n m¹i d©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66720" y="1270080"/>
            <a:ext cx="7848720" cy="531504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.VnHelvetInsH"/>
              </a:rPr>
              <a:t>®Æc ®iÓm vÒ ph­¬ng thøc, thñ ®äan ho¹t ®é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H×nh thµnh c¸c æ nhãm, ®­êng d©y, nóp d­íi danh nghÜa nhµ hµng, KS, vò tr­êng, nhµ nghØ... C¸c dÞch vô karaoke, massaga, gi¶I kh¸t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Ho¹t ®éng theo ph­¬ng thøc g¸i gäi vµ th«ng qua g¸i m¹i d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0FA-5C44-44C9-9813-0E6E1253B8C3}" type="slidenum">
              <a:t>32</a:t>
            </a:fld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ã MQH chÆt chÏ víi ®èi t­îng bu«n b¸n phô n÷ trÎ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ã sù liªn kÕt víi ng­êi n­íc ngoµ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Lîi dông M¹ng INTERNET ®Ó ho¹t ®é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M¹i d©m ho¹t ®éng ë kh¾p c¸c ®Þa bµn xong chñ yÕu thµnh phè, TX, khu c«ng nghiÖp, du lÞch nghØ m¸t, n¬I cã ®«ng ng­êi n­íc ngoµi c­ tr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49424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0208"/>
                </a:solidFill>
                <a:latin typeface=".VnHelvetInsH"/>
              </a:rPr>
              <a:t>tÖ n¹n cê b¹c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just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Lµ mét lo¹i TNXH gåm c¸c hµnh vi lîi dông c¸c h×nh thøc vui ch¬i gi¶i trÝ ®Ó c¸ c­îc, s¸t ph¹t nhau b»ng tiÒn hoÆc vËt chÊ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5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TÖ n¹n cê b¹c bao gåm:</a:t>
            </a:r>
            <a:r>
              <a:rPr b="0" lang="en-US" sz="2700" spc="-1" strike="noStrike">
                <a:solidFill>
                  <a:srgbClr val="ffffff"/>
                </a:solidFill>
                <a:latin typeface=".VnArial"/>
              </a:rPr>
              <a:t> §¸nh b¹c, tæ chøc ®¸nh b¹c, g¸ b¹c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F6F-1588-4DD7-8B6E-5E42C04E1BF7}" type="slidenum">
              <a:t>34</a:t>
            </a:fld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579132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cê b¹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743200" y="594360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cê b¹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495612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80208"/>
                </a:solidFill>
                <a:latin typeface=".VnHelvetInsH"/>
              </a:rPr>
              <a:t>tÖ n¹n mª tÝn dÞ ®oan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4956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just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.VnArial"/>
              </a:rPr>
              <a:t>         </a:t>
            </a:r>
            <a:r>
              <a:rPr b="1" i="1" lang="en-US" sz="2600" spc="-1" strike="noStrike">
                <a:solidFill>
                  <a:srgbClr val="ffffff"/>
                </a:solidFill>
                <a:latin typeface=".VnArial"/>
              </a:rPr>
              <a:t>Lµ mét TNXH bao gåm c¸c hµnh vi biÓu hiÖn th¸i qu¸ lßng tin mï qu¸ng vµo nh÷ng ®iÒu huyÒn bÝ kh«ng cã thËt, tõ ®ã suy ®o¸n kh¸c th­êng dÉn ®Õn c¸ch øng xö mang tÝnh chÊt cuång tÝn, hµnh ®éng tr¸i víi chuÈn mùc x· héi, g©y hËu qu¶ xÊu ®Õn søc kháe, ®êi sèng vËt chÊt, tinh thÇn, ®Õn ANT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160-F9D4-4815-8CC9-F17607B4F824}" type="slidenum">
              <a:t>37</a:t>
            </a:fld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4953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5943600"/>
            <a:ext cx="449604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12880" indent="-81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TimeH"/>
              </a:rPr>
              <a:t>Mª tÝn dÞ ®o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-409680"/>
            <a:ext cx="8915400" cy="78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Time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§èi t­îng gieo r¾c mª tÝn dÞ ®oan lîi dông lßng tin, lîi dông thÇn th¸nh, trêi phËt, rñi may cã hµnh vi cÇu cóng, ®ång bãng, bãi to¸n… Bu«n thÇn b¸n th¸nh ®Ó kiÕm lêi. Tuyªn truyÒn nh·m nhÝ g©y ¶nh h­ëng xÊu ®Õn TTATX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§Þa bµn x¶y ra ë kh¾p n¬i, nh­ng chñ yÕu tËp trung ë n¬i c«ng t¸c qu¶n lý XH, qu¶n lý con ng­êi cßn béc lé nhiÒu yÕu kÐm, tr×nh ®é nhËn thøc cña quÇn chóng nh©n d©n cßn l¹c hË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Mª tÝn dÞ ®oan hiÖn ®ang ®­îc c¸c ®èi t­îng ph¶n ®éng, c¸c thÕ lùc ph¶n c¸ch m¹ng triÖt ®Ó lîi dông nh»m chèng ph¸ CM ViÖt Nam, nhÊt lµ ë vïng s©u, vïng xa, vïng ®ång bµo d©n téc Ýt ng­ê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0440" y="1449000"/>
            <a:ext cx="8223120" cy="5103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Hµnh vi nguy hiÓm cho x· hé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Hµnh vi nguy hiÓm ®ã ®­îc qui ®Þnh trong bé luËt h×nh s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Do ng­êi cã n¨ng lùc tr¸ch nhiÖm h×nh sù thùc hiÖ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Cã thÓ lµ cè ý hoÆc v« 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52280"/>
            <a:ext cx="73152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F5D-899B-4124-90F7-742A0065C6A3}" type="slidenum">
              <a:t>4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378640" cy="13716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08ce"/>
                </a:solidFill>
                <a:latin typeface=".VnExoticH"/>
              </a:rPr>
              <a:t>III. Tr¸ch nhiÖm cña nhµ tr­êng vµ sinh viªn trong </a:t>
            </a:r>
            <a:br>
              <a:rPr sz="2000"/>
            </a:br>
            <a:r>
              <a:rPr b="1" lang="en-US" sz="2000" spc="-1" strike="noStrike">
                <a:solidFill>
                  <a:srgbClr val="2e08ce"/>
                </a:solidFill>
                <a:latin typeface=".VnExoticH"/>
              </a:rPr>
              <a:t>phßng chèng téi ph¹m vµ tÖ n¹n x· héi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080" y="1865160"/>
            <a:ext cx="8610480" cy="4724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.VnHelvetInsH"/>
              </a:rPr>
              <a:t>1. Nhµ tr­ê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hùc hiÖn ®Çy ®ñ ch­¬ng tr×nh phßng chèng téi ph¹m vµ TNXH. Tuyªn truyÒn gi¸o dôc c¸c ch­¬ng tr×nh quèc gia vÒ phßng chèng téi ph¹m vµ TNXH nh­ nghiÖn ma tóy, m¹i d©m, cê b¹c, ph©n biÖt râ mª tÝn dÞ ®oan víi c¸c ho¹t ®éng t«n gi¸o, tÝn ng­ìng, lÔ hé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Gi¸o dôc cho SV lèi sèng lµnh m¹nh, ®Êu tranh chèng lèi sèng bu«ng th¶ sa ®äa, truþ l¹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07B-17ED-4BAA-BF77-6C2FD693F8BB}" type="slidenum">
              <a:t>40</a:t>
            </a:fld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4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-14436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X©y dùng quy chÕ qu¶n Lý SV, qu¶n Lý KTX, thµnh lËp c¸c tæ SV tù qu¶n, tæ thanh niªn xung kÝch an ninh… phèi hîp chÆt chÏ víi c¸c c¬ quan c«ng an, b¶o vÖ, c¸c tæ chøc quÇn chóng, chÝnh quyÒn ®Þa ph­¬ng, qu¶n lý n¾m t×nh h×nh kiÓm tra kiÓm so¸t ®Þa bµn theo dâi ng¨n chÆn nh÷ng biÓu hiÖn, hiÖn t­îng x¶y ra téi ph¹m vµ TNX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t ®éng phong trµo thi ®ua h­ëng ÷ng c¸c cuéc vËn ®éng tæ chøc SV ®¨ng ký cam kÕt quyÕt t©m kh«ng ®Ó hiÖn t­îng tiªu cùc ph¸t triÓn thµnh TNXH vµ téi ph¹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§Êu tranh xãa bá c¸c tô ®iÓm ho¹t ®éng TNXH khu vùc xung quanh tr­ê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h­êng xuyªn tæ chøc tèt c¸c ho¹t ®éng VH, VN, TDTT… thu hót SV tham 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1246320"/>
            <a:ext cx="861048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ff9999"/>
                </a:solidFill>
                <a:uFillTx/>
                <a:latin typeface=".VnHelvetInsH"/>
              </a:rPr>
              <a:t>2. sinh viª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7d9e9"/>
                </a:solidFill>
                <a:latin typeface=".VnTime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Kh«ng ngõng häc tËp, rÌn luyÖn cã nhËn thøc s©u s¾c vÒ phßng chèng téi ph¹m, tÖ n¹n x· hé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N©ng cao ý thøc hiÓu biÕt ph¸p luËt, thÊy ®­îc hËu qu¶ cña t×nh tr¹ng ph¹m téi vµ TNXH. Lu«n c¶nh gi¸c kh«ng bÞ l«i kÐo, c¸m dç lèi sèng truþ l¹c, l©y nhiÔm v¨n ho¸ ®åi truþ, chµ ®¹p ®¹o ®øc, phÈm gia, b¸n rÏ sù nghiÖp b¶n th©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uyªn truyÒn, phæ biÕn vµ chÊp hµnh nghiªm néi qui, qui ®Þnh cña Nhµ tr­êng, ph¸p luËt cña Nhµ n­íc. Trùc tiÕp tham gia vµo c¸c tæ  SV tù qu¶n, tæ TN xung kÝch 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07440" y="190440"/>
            <a:ext cx="8379000" cy="876240"/>
          </a:xfrm>
          <a:prstGeom prst="rect">
            <a:avLst/>
          </a:prstGeom>
          <a:solidFill>
            <a:srgbClr val="ffff66"/>
          </a:solidFill>
          <a:ln w="5724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2608"/>
                </a:solidFill>
                <a:latin typeface=".VnExoticH"/>
              </a:rPr>
              <a:t>Tr¸ch nhiÖm cña nhµ tr­êng vµ sv trong </a:t>
            </a:r>
            <a:br>
              <a:rPr sz="2000"/>
            </a:br>
            <a:r>
              <a:rPr b="1" lang="en-US" sz="2000" spc="-1" strike="noStrike">
                <a:solidFill>
                  <a:srgbClr val="da2608"/>
                </a:solidFill>
                <a:latin typeface=".VnExoticH"/>
              </a:rPr>
              <a:t>phßng chèng téi ph¹m vµ tÖ n¹n x· héi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781-A958-4478-9741-BAD8910A8058}" type="slidenum">
              <a:t>42</a:t>
            </a:fld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d9e9"/>
                </a:solidFill>
                <a:latin typeface=".VnTime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Ph¸t hiÖn c¸c ®èi t­îng bªn ngoµi c©u kÕt, mãc nèi  SV ph¹m téi b¸o c¸o cho c¬ quan C«ng an c¸c hµnh vi nghi vÊn ho¹t ®éng ph¹m té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 Tham gia qu¶n lý, gi¸o dôc, gãp ý cho SV c¸ biÖ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Ký cam kÕt kh«ng tham gia c¸c ho¹t ®éng TNXH, kiªn quyÕt ®Êu tranh phßng, chèng téi ph¹m mäi lóc mäi n¬i. S½n sµng gi¸o dôc c¶m ho¸ nh÷ng sinh viªn lÇm lçi ®Ó hä tiÕn b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639040" cy="2743200"/>
          </a:xfrm>
          <a:prstGeom prst="rect">
            <a:avLst/>
          </a:prstGeom>
          <a:solidFill>
            <a:srgbClr val="ccff33"/>
          </a:solidFill>
          <a:ln w="507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80208"/>
                </a:solidFill>
                <a:latin typeface=".VnHelvetInsH"/>
              </a:rPr>
              <a:t>KÕt luËn</a:t>
            </a:r>
            <a:endParaRPr b="0" lang="en-US" sz="6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A2A-85BC-479D-8C2F-40B838F64880}" type="slidenum">
              <a:t>44</a:t>
            </a:fld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7242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C¨n cø tÝnh chÊt vµ møc ®é nguy hiÓm, téi ph¹m ®­îc ph©n thµn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Ýt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rÊt nghiªm trä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®Æc biÖt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215-7C7F-48CE-8065-1DA5103FD06C}" type="slidenum">
              <a:t>5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312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7d9e9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Ng­êi tõ 16 tuæi trë lªn ph¶i chÞu tr¸ch nhiÖm h×nh sù vÒ mäi téi ph¹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Ng­êi tõ ®ñ 14 tuæi trë lªn nh­ng ch­a ®ñ 16 tuæi ph¶i chÞu tr¸ch nhiÖm h×nh sù vÒ téi rÊt nghiªm träng do cè ý, hoÆc ph¹m téi ®Æc biÖt nghiªm trä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(§iÒu 12 Bé LuËt H×nh s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A56-A915-420E-9251-77C89B3C7963}" type="slidenum">
              <a:t>6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9160" y="304920"/>
            <a:ext cx="870588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I. 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1. Kh¸I niÖm phßng chèng téi ph¹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Phßng chèng téi ph¹m lµ viÖc c¸c c¬ quan cña nhµ n­íc, c¸c tæ chøc x· héi vµ c«ng d©n b»ng nhiÒu biÖn ph¸p kh¾c phôc nh÷ng nguyªn nh©n, ®iÒu kiÖn cña t×nh tr¹ng téi ph¹m ng¨n chÆn, h¹n chÕ vµ lµm gi¶m tõng b­íc, tiÕn tíi lo¹i trõ téi ph¹m ra khái ®êi sèng x· hé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PNTP lµ ph­¬ng h­íng chÝnh, lµ t­ t­ëng chØ ®¹o trong c«ng t¸c ®Êu tran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hÓ hiÖn tÝnh nh©n ®¹o cña chÕ ®é X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HelvetInsH"/>
              </a:rPr>
              <a:t>C¸c h­íng c¬ b¶n trong phßng ngõa téi ph¹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H­íng thø nhÊt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ph¸t hiÖn, kh¾c phôc, h¹n chÕ vµ ®i  ®Õn thñ tiªu c¸c nguyªn nh©n, ®iÒu kiÖn cña t×nh tr¹ng ph¹m téi 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(®©y lµ h­íng c¬ b¶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H­íng thø hai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H¹n chÕ ®Õn møc thÊp nhÊt hËu qu¶, t¸c h¹i khi téi ph¹m x¶y 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09520" y="304920"/>
            <a:ext cx="84996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D29-0E79-4B04-A932-417786200735}" type="slidenum">
              <a:t>8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0440" y="1676160"/>
            <a:ext cx="8223120" cy="4066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ff"/>
                </a:solidFill>
                <a:uFillTx/>
                <a:latin typeface=".VnHelvetInsH"/>
              </a:rPr>
              <a:t>Môc ®Ých cña c«ng t¸c phßng ngõ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Kh¾c phôc, thñ tiªu c¸c nguyªn nh©n, ®iÒu kiÖn cña t×nh tr¹ng ph¹m téi nh»m ng¨n chÆn, h¹n chÕ tiÕn tíi lo¹i trõ téi ph¹m ra khái ®êi sèng x· hé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09520" y="304920"/>
            <a:ext cx="84996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5E9-A4E3-407A-A1B9-8903CBDFB3FA}" type="slidenum">
              <a:t>9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g Luong</cp:lastModifiedBy>
  <dcterms:modified xsi:type="dcterms:W3CDTF">2008-11-16T02:45:1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