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DFC9-BD65-429D-A952-5B5E4673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81E7-C239-40A5-970A-829F0E95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4D10-E804-4321-A0E3-FD59A6C6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09BF-C2DF-4F01-A478-219FF0290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B918-2A90-4F3F-8BD3-357C8996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9885-9F11-4DB1-82D2-16CD6083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D033-5768-43D9-9A1B-95AE91AB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F43F-D9AD-4219-AFB5-C6B6492E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4FE6-5B57-473E-8C08-F80C6691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430B-5ED3-4A51-9E33-F15BCCCE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38A5-8F9C-4E8E-B5C4-8F8EF603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C214-35F0-4242-AAC2-E1D7ACBA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7D60-8D69-42FC-8E59-1B81128C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0F8F-A1AE-40BF-AA24-2BE7E0BC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F2E4-4CFF-4B64-BF33-7CFA9A62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AB17-5484-48BF-A13E-966FDA654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90BB-1A2F-4CF7-AB07-C92E76D5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8589-BC9A-472A-8362-7C03927B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9C03-1498-4410-963D-CCB7CB4D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8BA5-20EE-4537-A5A7-BA06255C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9898-34A0-4BCE-A81B-2DB44D85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92FB-CBF0-4615-B40A-66D1147F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5458-0DBE-471E-A86F-394870E9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998A-892A-4EC7-9B7B-DC82CA29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86D2-F5DE-4393-BCAF-A439A202B1C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A92F-B933-4F56-98B8-C85B1423E96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47280" y="1218960"/>
            <a:ext cx="7791480" cy="4267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.VnHelvetInsH"/>
              </a:rPr>
              <a:t>nh÷ng vÊn ®Ò c¬ b¶n</a:t>
            </a:r>
            <a:br>
              <a:rPr sz="4300"/>
            </a:br>
            <a:r>
              <a:rPr b="0" lang="en-US" sz="4300" spc="-1" strike="noStrike">
                <a:solidFill>
                  <a:srgbClr val="ffffff"/>
                </a:solidFill>
                <a:latin typeface=".VnHelvetInsH"/>
              </a:rPr>
              <a:t>vÒ ®Êu tranh </a:t>
            </a:r>
            <a:br>
              <a:rPr sz="4300"/>
            </a:br>
            <a:r>
              <a:rPr b="0" lang="en-US" sz="4300" spc="-1" strike="noStrike">
                <a:solidFill>
                  <a:srgbClr val="ffffff"/>
                </a:solidFill>
                <a:latin typeface=".VnHelvetInsH"/>
              </a:rPr>
              <a:t>phßng chèng téi ph¹m </a:t>
            </a:r>
            <a:br>
              <a:rPr sz="4300"/>
            </a:br>
            <a:r>
              <a:rPr b="0" lang="en-US" sz="4300" spc="-1" strike="noStrike">
                <a:solidFill>
                  <a:srgbClr val="ffffff"/>
                </a:solidFill>
                <a:latin typeface=".VnHelvetInsH"/>
              </a:rPr>
              <a:t>vµ tÖ n¹n x· héi</a:t>
            </a:r>
            <a:endParaRPr b="0" lang="en-US" sz="43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60440" y="1294920"/>
            <a:ext cx="8223120" cy="53341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txBody>
          <a:bodyPr lIns="90000" rIns="90000" tIns="46800" bIns="46800" anchor="ctr">
            <a:normAutofit fontScale="95000"/>
          </a:bodyPr>
          <a:p>
            <a:pPr indent="0" algn="ctr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 u="sng">
                <a:solidFill>
                  <a:srgbClr val="ff99ff"/>
                </a:solidFill>
                <a:uFillTx/>
                <a:latin typeface=".VnHelvetInsH"/>
              </a:rPr>
              <a:t>2. Néi dung, nhiÖm vô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 u="sng">
                <a:solidFill>
                  <a:srgbClr val="ff99ff"/>
                </a:solidFill>
                <a:uFillTx/>
                <a:latin typeface=".VnHelvetInsH"/>
              </a:rPr>
              <a:t>ho¹t ®éng phßng chèng téi ph¹m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7d9e9"/>
                </a:solidFill>
                <a:latin typeface=".VnTim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.VnTime"/>
              </a:rPr>
              <a:t>-</a:t>
            </a:r>
            <a:r>
              <a:rPr b="1" lang="en-US" sz="2900" spc="-1" strike="noStrike">
                <a:solidFill>
                  <a:srgbClr val="ffffff"/>
                </a:solidFill>
                <a:latin typeface=".VnTime"/>
              </a:rPr>
              <a:t>- Nghiªn cøu x¸c ®Þnh râ c¸c nguyªn nh©n, ®iÒu kiÖn cña t×nh tr¹ng ph¹m téi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.VnTime"/>
              </a:rPr>
              <a:t>- N.cøu so¹n th¶o ®Ò ra c¸c chñ tr­¬ng, GP, BP thÝch hîp nh»m tõng b­íc xãa bá nguyªn nh©n, ®iÒu kiÖn (c¸c gp vÒ KT, hoµn thiÖn PL, kÕt hîp víi c¸c chÝnh s¸ch x· héi...)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.VnTime"/>
              </a:rPr>
              <a:t>- Tæ chøc tiÕn hµnh c¸c ho¹t ®éng PNTP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.VnTime"/>
              </a:rPr>
              <a:t>- Tæ chøc tiÕn hµnh c¸c ho¹t ®éng ph¸t hiÖn, ®iÒu tra xö lý téi ph¹m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209520" y="151920"/>
            <a:ext cx="8499600" cy="91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a2608"/>
                </a:solidFill>
                <a:latin typeface=".VnHelvetInsH"/>
              </a:rPr>
              <a:t>Nh÷ng vÊn ®Ò c¬ b¶n vÒ phßng chèng téi ph¹m</a:t>
            </a:r>
            <a:endParaRPr b="0" lang="en-US" sz="3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34FA-F963-44E9-8292-DA29E4A639A8}" type="slidenum">
              <a:t>10</a:t>
            </a:fld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3120" cy="502920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87d9e9"/>
                </a:solidFill>
                <a:latin typeface=".VnTime"/>
              </a:rPr>
              <a:t>	</a:t>
            </a:r>
            <a:r>
              <a:rPr b="1" lang="en-US" sz="3200" spc="-1" strike="noStrike">
                <a:solidFill>
                  <a:srgbClr val="f67aa9"/>
                </a:solidFill>
                <a:latin typeface=".VnTime"/>
              </a:rPr>
              <a:t>a) Nghiªn cøu x¸c ®Þnh râ c¸c nguyªn nh©n, ®iÒu kiÖn cña t×nh tr¹ng ph¹m té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- Do sù t¸c ®éng bëi nh÷ng mÆt tr¸i cña nÒn kinh tÕ thÞ tr­ê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- Sù t¸c ®éng trùc tiÕp toµn diÖn cña nh÷ng hiÖn t­îng tiªu cùc x· héi do chÕ ®é cò ®Ó l¹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- T­ t­ëng träng nam khinh n÷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H"/>
              </a:rPr>
              <a:t>- ¶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nh h­ëng sù th©m nhËp cña téi ph¹m vµ tÖ n¹n x· héi cña c¸c quèc gia kh¸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87d9e9"/>
                </a:solidFill>
                <a:latin typeface=".VnTime"/>
              </a:rPr>
              <a:t>	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209520" y="151920"/>
            <a:ext cx="8499600" cy="91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a2608"/>
                </a:solidFill>
                <a:latin typeface=".VnHelvetInsH"/>
              </a:rPr>
              <a:t>Nh÷ng vÊn ®Ò c¬ b¶n vÒ phßng chèng téi ph¹m</a:t>
            </a:r>
            <a:endParaRPr b="0" lang="en-US" sz="3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ADB0-1AC4-4D95-B7E0-88202E2E0E8B}" type="slidenum">
              <a:t>11</a:t>
            </a:fld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60440" y="1294920"/>
            <a:ext cx="8223120" cy="53341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txBody>
          <a:bodyPr lIns="90000" rIns="90000" tIns="46800" bIns="46800" anchor="ctr">
            <a:normAutofit fontScale="78000"/>
          </a:bodyPr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.VnTime"/>
              </a:rPr>
              <a:t>Nh÷ng s¬ hë thiÕu sãt trong qu¶n lý cña Nhµ n­íc vÒ v¨n ho¸, nghÒ nghiÖp, con ng­ê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.VnTime"/>
              </a:rPr>
              <a:t>ThiÕu sãt trong gi¸o dôc ®¹o ®øc lèi sè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.VnTime"/>
              </a:rPr>
              <a:t>HÖ thèng ph¸p luËt ch­a hoµn thiÖn, chÝnh s¸ch kinh tÕ x· héi chËm ®æi mí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.VnTime"/>
              </a:rPr>
              <a:t>Ph¸p luËt ViÖt Nam ch­a t­¬ng thÝch ph¸p luËt quåc tÕ vµ c¸c n­íc trong khu vù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.VnTime"/>
              </a:rPr>
              <a:t>C«ng t¸c ®Êu tranh chèng téi ph¹m cña c¸c c¬ quan chøc n¨ng nãi chung vµ ngµnh C«ng an nãi riªng cßn béc lé nhiÒu yÕu kÐm thiÕu sãt (Sè vô ph¸t hiÖn ®iÒu tra Ýt h¬n so víi thùc tÕ téi ph¹m x¶y r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.VnTime"/>
              </a:rPr>
              <a:t>Phong trµo quÇn chóng tham gia ®Êu tranh phßng chèng téi ph¹m ë mét sè n¬i ch­a thËt m¹nh mÏ, kÐm hiÖu qu¶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87d9e9"/>
                </a:solidFill>
                <a:latin typeface=".VnTime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209520" y="151920"/>
            <a:ext cx="8499600" cy="91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a2608"/>
                </a:solidFill>
                <a:latin typeface=".VnHelvetInsH"/>
              </a:rPr>
              <a:t>Nh÷ng vÊn ®Ò c¬ b¶n vÒ phßng chèng téi ph¹m</a:t>
            </a:r>
            <a:endParaRPr b="0" lang="en-US" sz="3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815B-8495-46CC-B925-9B2C29900F28}" type="slidenum">
              <a:t>12</a:t>
            </a:fld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325520"/>
            <a:ext cx="8223120" cy="46483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txBody>
          <a:bodyPr lIns="90000" rIns="90000" tIns="46800" bIns="46800" anchor="ctr">
            <a:normAutofit fontScale="99000"/>
          </a:bodyPr>
          <a:p>
            <a:pPr indent="0">
              <a:lnSpc>
                <a:spcPct val="160000"/>
              </a:lnSpc>
              <a:spcBef>
                <a:spcPts val="7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.VnTime"/>
              </a:rPr>
              <a:t>b) N.cøu so¹n th¶o ®Ò ra c¸c chñ tr­¬ng, GP, BP thÝch hîp nh»m tõng b­íc xãa bá nguyªn nh©n, ®iÒu kiÖn (c¸c gp vÒ KT, hoµn thiÖn PL, kÕt hîp víi c¸c chÝnh s¸ch x· héi...)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60000"/>
              </a:lnSpc>
              <a:spcBef>
                <a:spcPts val="7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.VnTime"/>
              </a:rPr>
              <a:t>- C¸c gi¶i ph¸p vÒ ph¸t triÓn kinh tÕ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.VnTime"/>
              </a:rPr>
              <a:t>- C¸c gi¶i ph¸p vÒ hoµn thiÖn hÖ thèng ph¸p luËt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209520" y="151920"/>
            <a:ext cx="8499600" cy="91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a2608"/>
                </a:solidFill>
                <a:latin typeface=".VnHelvetInsH"/>
              </a:rPr>
              <a:t>Nh÷ng vÊn ®Ò c¬ b¶n vÒ phßng chèng téi ph¹m</a:t>
            </a:r>
            <a:endParaRPr b="0" lang="en-US" sz="3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2037-117E-4AA1-B244-CF69F3F155A4}" type="slidenum">
              <a:t>13</a:t>
            </a:fld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3120" cy="4724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txBody>
          <a:bodyPr lIns="90000" rIns="90000" tIns="46800" bIns="46800" anchor="ctr">
            <a:normAutofit fontScale="87000"/>
          </a:bodyPr>
          <a:p>
            <a:pPr indent="0">
              <a:lnSpc>
                <a:spcPct val="16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.VnTime"/>
              </a:rPr>
              <a:t>c)  Tæ chøc tiÕn hµnh c¸c ho¹t ®éng phßng ngõa téi ph¹m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6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.VnTime"/>
              </a:rPr>
              <a:t>d) Tæ chøc tiÕn hµnh c¸c ho¹t ®éng ph¸t hiÖn ®iÒu tra xö lý téi ph¹m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60000"/>
              </a:lnSpc>
              <a:spcBef>
                <a:spcPts val="624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.VnTime"/>
              </a:rPr>
              <a:t>Tæ chøc ®iÒu tra lµm râ hµnh vi ph¹m téi..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60000"/>
              </a:lnSpc>
              <a:spcBef>
                <a:spcPts val="624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.VnTime"/>
              </a:rPr>
              <a:t>C¸c c¬ quan truy tè xÐt xö c¨n cø tÝnh chÊt, møc ®é hµnh vi ph¹m téi ®Ó xö lý ®óng ng­êi, ®óng téi, ®óng ph¸p luËt (kh«ng ®Ó lät ng­êi ph¹m téi- kh«ng lµm oan ng­êi v« téi)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209520" y="151920"/>
            <a:ext cx="8499600" cy="91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a2608"/>
                </a:solidFill>
                <a:latin typeface=".VnHelvetInsH"/>
              </a:rPr>
              <a:t>Nh÷ng vÊn ®Ò c¬ b¶n vÒ phßng chèng téi ph¹m</a:t>
            </a:r>
            <a:endParaRPr b="0" lang="en-US" sz="3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EC40-1216-4095-9EE7-AA984FC8E2EE}" type="slidenum">
              <a:t>14</a:t>
            </a:fld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95288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u="sng">
                <a:solidFill>
                  <a:srgbClr val="ff99ff"/>
                </a:solidFill>
                <a:uFillTx/>
                <a:latin typeface=".VnHelvetInsH"/>
              </a:rPr>
              <a:t>3) Chñ thÓ vµ nguyªn t¾c tæ chøc ho¹t ®éng phßng, chèng téi ph¹m: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99ff"/>
                </a:solidFill>
                <a:latin typeface=".VnHelvetIns"/>
              </a:rPr>
              <a:t>     </a:t>
            </a:r>
            <a:r>
              <a:rPr b="0" lang="en-US" sz="2700" spc="-1" strike="noStrike">
                <a:solidFill>
                  <a:srgbClr val="ff99ff"/>
                </a:solidFill>
                <a:latin typeface=".VnHelvetIns"/>
              </a:rPr>
              <a:t>a) Chñ thÓ: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87d9e9"/>
                </a:solidFill>
                <a:latin typeface=".VnTime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 Quèc héi, Héi ®ång nh©n d©n c¸c cÊp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 ChÝnh phñ vµ UBND c¸c cÊp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 C¸c c¬ quan qu¶n lý KT, VH GD, DV, DL…trong ph¹m vi tæ chøc ho¹t ®éng chuyªn m«n cña m×nh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 C¸c tæ chøc XH, c¸c tæ chøc quÇn chóng tù qu¶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 C¸c C¬ quan b¶o vÖ ph¸p luËt (CA, TA, VKS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- C«ng d©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277920"/>
            <a:ext cx="8499240" cy="91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a2608"/>
                </a:solidFill>
                <a:latin typeface=".VnHelvetInsH"/>
              </a:rPr>
              <a:t>Nh÷ng vÊn ®Ò c¬ b¶n vÒ phßng chèng téi ph¹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339F-E417-4F43-B346-65A22036F854}" type="slidenum">
              <a:t>15</a:t>
            </a:fld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724280"/>
          </a:xfrm>
          <a:prstGeom prst="rect">
            <a:avLst/>
          </a:prstGeom>
          <a:noFill/>
          <a:ln w="50760">
            <a:solidFill>
              <a:srgbClr val="ffff00"/>
            </a:solidFill>
            <a:miter/>
          </a:ln>
        </p:spPr>
        <p:txBody>
          <a:bodyPr lIns="90000" rIns="90000" tIns="46800" bIns="46800" anchor="ctr">
            <a:normAutofit fontScale="92000"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.VnHelvetIns"/>
              </a:rPr>
              <a:t>b) Nguyªn t¾c tæ chøc phßng chèng téi ph¹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- Nguyªn t¾c Nhµ n­íc qu¶n l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- KÕt hîp gi÷a chñ ®éng phßng ngõa vµ chñ ®éng tiÕn c«ng (phèi hîp vµ cô thÓ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- Nguyªn t¾c ph¸p chÕ (tu©n thñ ph¸p luË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- Nguyªn t¾c d©n chñ, nh©n ®¹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- Nguyªn t¾c khoa häc vµ tiÕn b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277920"/>
            <a:ext cx="8499240" cy="91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a2608"/>
                </a:solidFill>
                <a:latin typeface=".VnHelvetInsH"/>
              </a:rPr>
              <a:t>Nh÷ng vÊn ®Ò c¬ b¶n vÒ phßng chèng téi ph¹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EB14-D7A7-4965-B416-0FB5B3D3391A}" type="slidenum">
              <a:t>16</a:t>
            </a:fld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33160" y="1447920"/>
            <a:ext cx="8001000" cy="4952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u="sng">
                <a:solidFill>
                  <a:srgbClr val="ff99ff"/>
                </a:solidFill>
                <a:uFillTx/>
                <a:latin typeface=".VnHelvetInsH"/>
              </a:rPr>
              <a:t>4. Ph©n lo¹i C¸c biÖn ph¸p phßng ngõa téi ph¹m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30000"/>
              </a:lnSpc>
              <a:spcBef>
                <a:spcPts val="1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.VnTime"/>
              </a:rPr>
              <a:t>-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.VnTime"/>
              </a:rPr>
              <a:t>Phßng ngõa chung:</a:t>
            </a:r>
            <a:r>
              <a:rPr b="1" i="1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lµ tæng thÓ c¸c biÖn ph¸p vÒ CT, KT, VH, PL-GD…lµ qu¸ tr×nh toµn x· héi ph¶i tham gia nh»m kh¾c phôc nh÷ng s¬ hë thiÕu sãt lµ NN, §K ph¸t sinh, ph¸t triÓn cña téi ph¹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.VnTime"/>
              </a:rPr>
              <a:t>-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.VnTime"/>
              </a:rPr>
              <a:t>Phßng chèng riªng</a:t>
            </a:r>
            <a:r>
              <a:rPr b="1" i="1" lang="en-US" sz="2800" spc="-1" strike="noStrike">
                <a:solidFill>
                  <a:srgbClr val="ffffff"/>
                </a:solidFill>
                <a:latin typeface=".VnTime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lµ viÖc ¸p dông c¸c biÖn ph¸p mang tÝnh ®Æc tr­ng chuyªn m«n cña tõng ngµnh, tõng lùc l­îng trong ®ã cã ho¹t ®éng cña CQ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277920"/>
            <a:ext cx="8499240" cy="91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a2608"/>
                </a:solidFill>
                <a:latin typeface=".VnHelvetInsH"/>
              </a:rPr>
              <a:t>Nh÷ng vÊn ®Ò c¬ b¶n vÒ phßng chèng téi ph¹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040C-F2FB-4FA1-9DC3-76CB14CB64AB}" type="slidenum">
              <a:t>17</a:t>
            </a:fld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4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9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4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49360" y="361800"/>
            <a:ext cx="6245280" cy="765360"/>
          </a:xfrm>
          <a:prstGeom prst="rect">
            <a:avLst/>
          </a:prstGeom>
          <a:solidFill>
            <a:srgbClr val="ccff33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50103"/>
                </a:solidFill>
                <a:latin typeface=".VnHelvetInsH"/>
              </a:rPr>
              <a:t>II. C«ng t¸c phßng chèng TNXH</a:t>
            </a:r>
            <a:endParaRPr b="0" lang="en-US" sz="33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5410080"/>
          </a:xfrm>
          <a:prstGeom prst="rect">
            <a:avLst/>
          </a:prstGeom>
          <a:noFill/>
          <a:ln w="50760">
            <a:solidFill>
              <a:srgbClr val="00ff00"/>
            </a:solidFill>
            <a:miter/>
          </a:ln>
        </p:spPr>
        <p:txBody>
          <a:bodyPr lIns="90000" rIns="90000" tIns="46800" bIns="46800" anchor="ctr">
            <a:normAutofit fontScale="92000"/>
          </a:bodyPr>
          <a:p>
            <a:pPr indent="0" algn="ctr">
              <a:lnSpc>
                <a:spcPct val="130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.VnHelvetInsH"/>
              </a:rPr>
              <a:t>1. Kh¸i niÖm – môc ®Ých - ®Æc ®iÓm vµ c«ng t¸c phßng chèng tnx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30000"/>
              </a:lnSpc>
              <a:spcBef>
                <a:spcPts val="876"/>
              </a:spcBef>
              <a:spcAft>
                <a:spcPts val="1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.VnTime"/>
              </a:rPr>
              <a:t>a) Kh¸i niÖm TNXH:</a:t>
            </a:r>
            <a:r>
              <a:rPr b="0" lang="en-US" sz="25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.VnTime"/>
              </a:rPr>
              <a:t>Lµ mét hiÖn t­îng x· héi tiªu cùc, cã tÝnh phæ biÕn, biÓu hiÖn b»ng nh÷ng hµnh vi sai lÖch chuÈn mùc x· héi, vi ph¹m ®¹o ®øc, g©y ¶nh h­ëng nghiªm träng ®Õn ®êi sèng céng ®ång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Bao gå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4760" indent="-298800" algn="just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65000"/>
              <a:buFont typeface=".VnTim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Thãi h­ tËt xÊ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4760" indent="-298800" algn="just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65000"/>
              <a:buFont typeface=".VnTim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Phong tôc, tËp qu¸n l¹c hË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4760" indent="-298800" algn="just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65000"/>
              <a:buFont typeface=".VnTim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NÕp sèng xa ®äa, ®åi trôy, ®ång bãng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1901-5569-4049-B0C4-8772FFFB2C57}" type="slidenum">
              <a:t>18</a:t>
            </a:fld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.VnTime"/>
              </a:rPr>
              <a:t>b) Môc ®Ých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- Ng¨n ngõa chÆn ®øng kh«ng cho TNXH ph¸t sinh, ph¸t triÓn, lan réng trªn ®Þa bµ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- Tõng b­íc xãa bá dÇn nh÷ng nguyªn nh©n ®iÒu kiÖn cña TNXH, x©y dùng ®êi sèng v¨n hãa lµnh m¹nh, b¶o vÖ thuÇn phong mü tô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Ph¸t hiÖn ®Êu tranh, xö lý nghiªm minh nh÷ng hµnh vi ho¹t ®éng TNXH gãp phÇn gi÷ v÷ng ANQG vµ TTATXH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7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2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12520" y="343080"/>
            <a:ext cx="5675400" cy="98568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.VnTimeH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.VnTimeH"/>
              </a:rPr>
              <a:t>Néi dung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286000" cy="403848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112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I.Những vấn đề </a:t>
            </a:r>
            <a:br>
              <a:rPr sz="3200"/>
            </a:b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cơ bản </a:t>
            </a:r>
            <a:br>
              <a:rPr sz="3200"/>
            </a:b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về Phòng chống </a:t>
            </a:r>
            <a:br>
              <a:rPr sz="3200"/>
            </a:b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tội phạ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3701880" y="1600200"/>
            <a:ext cx="1768680" cy="403848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3360" indent="-6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2608"/>
                </a:solidFill>
                <a:latin typeface=".Vn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.VnArial"/>
              </a:rPr>
              <a:t>II.C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ông tác phòng     chống    tệ nạ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3360" indent="-6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xã hộ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380880"/>
            <a:ext cx="762120" cy="4572000"/>
          </a:xfrm>
          <a:custGeom>
            <a:avLst/>
            <a:gdLst>
              <a:gd name="textAreaLeft" fmla="*/ 101880 w 762120"/>
              <a:gd name="textAreaRight" fmla="*/ 660240 w 762120"/>
              <a:gd name="textAreaTop" fmla="*/ 799920 h 4572000"/>
              <a:gd name="textAreaBottom" fmla="*/ 331488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8a5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48720" y="457200"/>
            <a:ext cx="1066680" cy="464832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813240 h 4648320"/>
              <a:gd name="textAreaBottom" fmla="*/ 3369960 h 464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8a5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68920" y="1600200"/>
            <a:ext cx="2052720" cy="403848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3360" indent="-6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2608"/>
                </a:solidFill>
                <a:latin typeface=".Vn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.VnArial"/>
              </a:rPr>
              <a:t>III. Tr¸ch nhiÖm cña Nhµ tr­êng vµ sinh viªn trong PCTP - TNX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9360" y="399600"/>
            <a:ext cx="6245280" cy="685800"/>
          </a:xfrm>
          <a:prstGeom prst="rect">
            <a:avLst/>
          </a:prstGeom>
          <a:solidFill>
            <a:srgbClr val="ccff33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50103"/>
                </a:solidFill>
                <a:latin typeface=".VnHelvetInsH"/>
              </a:rPr>
              <a:t>C«ng t¸c phßng chèng TNXH</a:t>
            </a:r>
            <a:endParaRPr b="0" lang="en-US" sz="33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472428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lIns="90000" rIns="90000" tIns="46800" bIns="46800" anchor="ctr">
            <a:normAutofit fontScale="96000"/>
          </a:bodyPr>
          <a:p>
            <a:pPr indent="0" algn="ctr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.VnTime"/>
              </a:rPr>
              <a:t>c. §Æc ®iÓm cña tÖ n¹n x· hé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- Lµ nh÷ng hiÖn t­îng tiªu cùc x· héi cã tÝnh l©y lan nhan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- Tån t¹i d­íi nhiÒu h×nh thøc, cã sù tham gia cña nhiÒu ng­ê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- §èi t­îng tham gia ®a d¹ng vÒ thµnh phÇ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- Cã mèi quan hÖ chÆt chÏ víi téi ph¹m h×nh s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- §Þa bµn x¶y ra th­êng lµ nh÷ng n¬i ®«ng ng­êi, khu du lÞch, TP, TX n¬i tr×nh ®é quÇn chóng nh©n d©n cßn l¹c hËu thÊp kÐm, c«ng t¸c qu¶n lý XH cßn nhiÒu s¬ hë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9F17-AEE0-42A6-9E87-1BD2006B23ED}" type="slidenum">
              <a:t>20</a:t>
            </a:fld>
          </a:p>
        </p:txBody>
      </p: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4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9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4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06600" y="550800"/>
            <a:ext cx="6245280" cy="689040"/>
          </a:xfrm>
          <a:prstGeom prst="rect">
            <a:avLst/>
          </a:prstGeom>
          <a:solidFill>
            <a:srgbClr val="ccff33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50103"/>
                </a:solidFill>
                <a:latin typeface=".VnHelvetInsH"/>
              </a:rPr>
              <a:t>C«ng t¸c phßng chèng TNXH</a:t>
            </a:r>
            <a:endParaRPr b="0" lang="en-US" sz="33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3240" cy="388800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.VnTime"/>
              </a:rPr>
              <a:t>d. C«ng t¸c phßng chèng TNX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.VnTime"/>
              </a:rPr>
              <a:t>        </a:t>
            </a:r>
            <a:r>
              <a:rPr b="1" lang="en-US" sz="2700" spc="-1" strike="noStrike">
                <a:solidFill>
                  <a:srgbClr val="ffffff"/>
                </a:solidFill>
                <a:latin typeface=".VnTime"/>
              </a:rPr>
              <a:t>Lµ qu¸ tr×nh nhµ n­íc cïng c¸c ngµnh, c¸c cÊp, c¸c ®oµn thÓ, tæ chøc x· héi vµ c«ng d©n tiÕn hµnh ®ång bé c¸c biÖn ph¸p nh»m ph¸t hiÖn, ng¨n chÆn, lo¹i trõ c¸c lo¹i TNXH gãp phÇn b¶o vÖ vµ ph¸t huy thuÇn phong mü tôc truyÒn thèng tèt ®Ñp cña d©n téc, gãp phÇn gi÷ v÷ng ANTTATXH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B24C-CAAF-4519-A2AD-B6019C2017B3}" type="slidenum">
              <a:t>21</a:t>
            </a:fld>
          </a:p>
        </p:txBody>
      </p:sp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1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6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8534520" cy="495288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txBody>
          <a:bodyPr lIns="90000" rIns="90000" tIns="46800" bIns="46800" anchor="ctr">
            <a:normAutofit fontScale="98000"/>
          </a:bodyPr>
          <a:p>
            <a:pPr indent="0" algn="ctr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 u="sng">
                <a:solidFill>
                  <a:srgbClr val="ffff00"/>
                </a:solidFill>
                <a:uFillTx/>
                <a:latin typeface=".VnExoticH"/>
              </a:rPr>
              <a:t>2. Chñ tr­¬ng, quan ®iÓm trong ®Êu tranh PCTNXH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675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.VnTime"/>
              </a:rPr>
              <a:t>Nghiªm cÊm mäi h×nh thøc ho¹t ®éng TNXH, xö lý thÝch ®¸ng nh÷ng tªn ho¹t ®éng chuyªn nghiÖp, ho¹t ®éng cã æ nhãm, nh÷ng tªn cÇm ®Çu hoÆc tæ chøc l«i kÐo ng­êi kh¸c ®i vµo con ®­êng ho¹t ®éng TNXH. Chñ ®éng phßng ngõa ng¨n chÆn kh«ng ®Ó TNXH l©y lan, ph¸t triÓn g©y t¸c h¹i ®Õn ®êi sèng nh©n d©n vµ TTXH. Gi¸o dôc, c¶i t¹o ng­êi m¾c TNXH…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15200" cy="685800"/>
          </a:xfrm>
          <a:prstGeom prst="rect">
            <a:avLst/>
          </a:prstGeom>
          <a:solidFill>
            <a:srgbClr val="0000ff"/>
          </a:solidFill>
          <a:ln w="507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.VnHelvetInsH"/>
              </a:rPr>
              <a:t>C«ng t¸c ®Êu tranh phßng chèng TNXH</a:t>
            </a:r>
            <a:endParaRPr b="0" lang="en-US" sz="31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B093-632B-4505-BE06-BAE2FFCD6B80}" type="slidenum">
              <a:t>22</a:t>
            </a:fld>
          </a:p>
        </p:txBody>
      </p:sp>
    </p:spTree>
  </p:cSld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txBody>
          <a:bodyPr lIns="90000" rIns="90000" tIns="46800" bIns="46800" anchor="ctr">
            <a:normAutofit fontScale="97000"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.VnTime"/>
              </a:rPr>
              <a:t>Chñ tr­¬ng quan ®iÓm ®­îc thÓ hiÖ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.VnTime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.VnTime"/>
              </a:rPr>
              <a:t>Phßng ngõa lµ c¬ b¶n, lång ghÐp kÕt hîp chÆt chÏ c«ng t¸c phßng chèng TNXH víi c¸c ch­¬ng tr×nh ph¸t triÓn KT-VH-GD-XH ë ®Þa ph­¬ng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.VnTime"/>
              </a:rPr>
              <a:t>Lµ tr¸ch nhiÖm cña toµn XH, vµ ph¶i ®­îc triÓn khai ë mäi cÊp, mäi ngµnh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.VnTime"/>
              </a:rPr>
              <a:t>KÕt hîp chÆt chÏ gi÷a xö lý nghiªm kh¾c víi c¶m hãa, gi¸o dôc c¶i t¹o ®èi t­îng ho¹t ®éng TNXH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457200"/>
            <a:ext cx="7315200" cy="685800"/>
          </a:xfrm>
          <a:prstGeom prst="rect">
            <a:avLst/>
          </a:prstGeom>
          <a:solidFill>
            <a:srgbClr val="0000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.VnHelvetInsH"/>
              </a:rPr>
              <a:t>C«ng t¸c ®Êu tranh phßng chèng TNXH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9914-5944-4137-BB6D-763BAA50D494}" type="slidenum">
              <a:t>23</a:t>
            </a:fld>
          </a:p>
        </p:txBody>
      </p:sp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5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0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5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0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 u="sng">
                <a:solidFill>
                  <a:srgbClr val="ffff00"/>
                </a:solidFill>
                <a:uFillTx/>
                <a:latin typeface=".VnExoticH"/>
              </a:rPr>
              <a:t>3. Quy ®Þnh cña ph¸p luËt vÒ PCTNXH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63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900" spc="-1" strike="noStrike">
                <a:solidFill>
                  <a:srgbClr val="ffffff"/>
                </a:solidFill>
                <a:latin typeface=".VnTime"/>
              </a:rPr>
              <a:t>BLHS 1999: §iÒu 247, 254, 255, 236, 248, 249, 192…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63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900" spc="-1" strike="noStrike">
                <a:solidFill>
                  <a:srgbClr val="ffffff"/>
                </a:solidFill>
                <a:latin typeface=".VnTime"/>
              </a:rPr>
              <a:t>NghÞ ®Þnh 05/CP vµ 06/CP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63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900" spc="-1" strike="noStrike">
                <a:solidFill>
                  <a:srgbClr val="ffffff"/>
                </a:solidFill>
                <a:latin typeface=".VnTime"/>
              </a:rPr>
              <a:t>LuËt Phßng, chèng ma tóy 2000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63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900" spc="-1" strike="noStrike">
                <a:solidFill>
                  <a:srgbClr val="ffffff"/>
                </a:solidFill>
                <a:latin typeface=".VnTime"/>
              </a:rPr>
              <a:t>Ph¸p lÖnh phßng, chèng m¹i d©m 2003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63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900" spc="-1" strike="noStrike">
                <a:solidFill>
                  <a:srgbClr val="ffffff"/>
                </a:solidFill>
                <a:latin typeface=".VnTime"/>
              </a:rPr>
              <a:t>Ph¸p lÖnh xö lý hµnh chÝnh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63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900" spc="-1" strike="noStrike">
                <a:solidFill>
                  <a:srgbClr val="ffffff"/>
                </a:solidFill>
                <a:latin typeface=".VnTime"/>
              </a:rPr>
              <a:t>C¸c nghÞ ®Þnh kh¸c cña ChÝnh phñ cã liªn quan…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457200"/>
            <a:ext cx="7315200" cy="685800"/>
          </a:xfrm>
          <a:prstGeom prst="rect">
            <a:avLst/>
          </a:prstGeom>
          <a:solidFill>
            <a:srgbClr val="0000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.VnHelvetInsH"/>
              </a:rPr>
              <a:t>C«ng t¸c ®Êu tranh phßng chèng TNXH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D693-BC59-4AAB-94E1-0140EF5B7244}" type="slidenum">
              <a:t>24</a:t>
            </a:fld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2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2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7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2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7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3520" y="1905120"/>
            <a:ext cx="6248520" cy="2133360"/>
          </a:xfrm>
          <a:prstGeom prst="rect">
            <a:avLst/>
          </a:prstGeom>
          <a:solidFill>
            <a:srgbClr val="ccff33"/>
          </a:solidFill>
          <a:ln w="507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66"/>
                </a:solidFill>
                <a:latin typeface=".VnHelvetInsH"/>
              </a:rPr>
              <a:t>4. C¸c lo¹i tÖ n¹n phæ biÕn ë </a:t>
            </a:r>
            <a:br>
              <a:rPr sz="3300"/>
            </a:br>
            <a:r>
              <a:rPr b="0" lang="en-US" sz="3300" spc="-1" strike="noStrike">
                <a:solidFill>
                  <a:srgbClr val="ff0066"/>
                </a:solidFill>
                <a:latin typeface=".VnHelvetInsH"/>
              </a:rPr>
              <a:t>viÖt nam</a:t>
            </a:r>
            <a:endParaRPr b="0" lang="en-US" sz="33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1D3C-2178-498C-8E70-D47837DC2482}" type="slidenum">
              <a:t>25</a:t>
            </a:fld>
          </a:p>
        </p:txBody>
      </p:sp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16040" y="377640"/>
            <a:ext cx="4191120" cy="844200"/>
          </a:xfrm>
          <a:prstGeom prst="rect">
            <a:avLst/>
          </a:prstGeom>
          <a:solidFill>
            <a:srgbClr val="ccff33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a2608"/>
                </a:solidFill>
                <a:latin typeface=".VnHelvetInsH"/>
              </a:rPr>
              <a:t>TÖ n¹n ma tóy</a:t>
            </a:r>
            <a:endParaRPr b="0" lang="en-US" sz="33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57200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ffffff"/>
                </a:solidFill>
                <a:latin typeface=".VnTime"/>
              </a:rPr>
              <a:t>Lµ mét lo¹i TNXH mµ n¹n nh©n cã thãi quen sö dông chÊt ma tóy dÉn ®Õn t×nh tr¹ng lÖ thuéc vµo ma tóy khã cã thÓ bá ®­îc. NghiÖn ma tóy g©y hËu qu¶ t¸c h¹i lín cho ng­êi nghiÖn vµ XH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300" spc="-1" strike="noStrike">
                <a:solidFill>
                  <a:srgbClr val="ffffff"/>
                </a:solidFill>
                <a:latin typeface=".VnTime"/>
              </a:rPr>
              <a:t>C¸c h×nh thøc sö dông: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14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3300" spc="-1" strike="noStrike">
                <a:solidFill>
                  <a:srgbClr val="ffffff"/>
                </a:solidFill>
                <a:latin typeface=".VnTime"/>
              </a:rPr>
              <a:t>Hót, hÝt, tiªm, chÝch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14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3300" spc="-1" strike="noStrike">
                <a:solidFill>
                  <a:srgbClr val="ffffff"/>
                </a:solidFill>
                <a:latin typeface=".VnTime"/>
              </a:rPr>
              <a:t>Uèng: Ma tóy tæng hîp (estasy) 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39D8-2CC2-4557-B5B6-0EBCA4933D91}" type="slidenum">
              <a:t>26</a:t>
            </a:fld>
          </a:p>
        </p:txBody>
      </p:sp>
    </p:spTree>
  </p:cSld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6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467480" cy="4952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743200" y="5715000"/>
            <a:ext cx="3962520" cy="1143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12880" indent="-81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a2608"/>
                </a:solidFill>
                <a:latin typeface=".VnTimeH"/>
              </a:rPr>
              <a:t>TÖ n¹n ma tu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4876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743200" y="5791320"/>
            <a:ext cx="3352680" cy="6858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H"/>
              </a:rPr>
              <a:t>TÖ n¹n ma tu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55720" y="303120"/>
            <a:ext cx="5711760" cy="765360"/>
          </a:xfrm>
          <a:prstGeom prst="rect">
            <a:avLst/>
          </a:prstGeom>
          <a:solidFill>
            <a:srgbClr val="ccff33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.VnHelvetInsH"/>
              </a:rPr>
              <a:t>tÖ n¹n m¹i d©m</a:t>
            </a:r>
            <a:endParaRPr b="0" lang="en-US" sz="3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876920"/>
          </a:xfrm>
          <a:prstGeom prst="rect">
            <a:avLst/>
          </a:prstGeom>
          <a:noFill/>
          <a:ln w="50760">
            <a:solidFill>
              <a:srgbClr val="ffff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.VnArial"/>
              </a:rPr>
              <a:t>       </a:t>
            </a:r>
            <a:r>
              <a:rPr b="1" i="1" lang="en-US" sz="3200" spc="-1" strike="noStrike">
                <a:solidFill>
                  <a:srgbClr val="ffffff"/>
                </a:solidFill>
                <a:latin typeface=".VnArial"/>
              </a:rPr>
              <a:t>M¹i d©m lµ mét lo¹i TNXH bao gåm nh÷ng hµnh vi nh»m thùc hiÖn c¸c dÞch vô quan hÖ t×nh dôc cã tÝnh chÊt mua b¸n trªn c¬ së mét gi¸ trÞ vËt chÊt nhÊt ®Þnh ngoµi ph¹m vi h«n nh©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.Vn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.VnArial"/>
              </a:rPr>
              <a:t>Theo quy ®Þnh cña Ph¸p lÖnh PCMD</a:t>
            </a:r>
            <a:r>
              <a:rPr b="1" lang="en-US" sz="3200" spc="-1" strike="noStrike">
                <a:solidFill>
                  <a:srgbClr val="ffffff"/>
                </a:solidFill>
                <a:latin typeface=".VnArial"/>
              </a:rPr>
              <a:t>: </a:t>
            </a:r>
            <a:r>
              <a:rPr b="1" i="1" lang="en-US" sz="3200" spc="-1" strike="noStrike">
                <a:solidFill>
                  <a:srgbClr val="ffffff"/>
                </a:solidFill>
                <a:latin typeface=".VnArial"/>
              </a:rPr>
              <a:t>TNMD bao gåm c¸c hµnh vi b¸n d©m, mua d©m, chøa m¹i d©m, tæ chøc ho¹t ®éng m¹i d©m, c­ìng bøc b¸n d©m, mèi giíi m¹i d©m, b¶o kª m¹i d©m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59AF-C70C-4DE6-8B8A-A6F4B0588CF9}" type="slidenum">
              <a:t>29</a:t>
            </a:fld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6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66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71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9160" y="304920"/>
            <a:ext cx="8782200" cy="9172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a2608"/>
                </a:solidFill>
                <a:latin typeface=".VnHelvetInsH"/>
              </a:rPr>
              <a:t>I. Nh÷ng vÊn ®Ò c¬ b¶n vÒ phßng chèng téi ph¹m</a:t>
            </a:r>
            <a:endParaRPr b="0" lang="en-US" sz="3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lIns="90000" rIns="90000" tIns="46800" bIns="46800" anchor="ctr">
            <a:normAutofit fontScale="98000"/>
          </a:bodyPr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.VnHelvetInsH"/>
              </a:rPr>
              <a:t>téi ph¹m lµ g×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* Kh¸i niÖm téi ph¹m:(§iÒu 8- LuËt HSù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Téi ph¹m lµ hµnh vi nguy hiÓm cho XH ®­îc quy ®Þnh trong bé luËt h×nh sù, do ng­êi cã n¨ng lùc tr¸ch nhiÖm h×nh sù thùc hiÖn mét c¸ch cè ý hoÆc v« ý, x©m ph¹m ®éc lËp chñ quyÒn thèng nhÊt toµn vÑn l·nh thæ Tæ quèc, x©m ph¹m chÕ ®é chÝnh trÞ, chÕ ®é kinh tÕ, nÒn v¨n hãa, quèc phßng, an ninh, TTATXH, quyÒn vµ lîi Ých hîp ph¸p cña tæ chøc, x©m ph¹m tÝnh m¹ng, søc kháe, danh dù, nh©n phÈm, tµi s¶n vµ c¸c lîi Ých kh¸c cña c«ng d©n, x©m ph¹m nh÷ng lÜnh vùc kh¸c cña trËt tù ph¸p luËt XHC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79400" y="377640"/>
            <a:ext cx="5864400" cy="765000"/>
          </a:xfrm>
          <a:prstGeom prst="rect">
            <a:avLst/>
          </a:prstGeom>
          <a:solidFill>
            <a:srgbClr val="ccff33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.VnHelvetInsH"/>
              </a:rPr>
              <a:t>®Æc ®iÓm cña tÖ n¹n m¹i d©m</a:t>
            </a:r>
            <a:endParaRPr b="0" lang="en-US" sz="3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19040" y="1371600"/>
            <a:ext cx="8305920" cy="457200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749160">
              <a:lnSpc>
                <a:spcPct val="150000"/>
              </a:lnSpc>
              <a:spcBef>
                <a:spcPts val="561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.VnTime"/>
              </a:rPr>
              <a:t>Nh©n th©n cña chñ chøa m¹i d©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749160">
              <a:lnSpc>
                <a:spcPct val="150000"/>
              </a:lnSpc>
              <a:spcBef>
                <a:spcPts val="561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.VnTime"/>
              </a:rPr>
              <a:t>§èi t­îng m«i giíi m¹i d©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749160">
              <a:lnSpc>
                <a:spcPct val="150000"/>
              </a:lnSpc>
              <a:spcBef>
                <a:spcPts val="561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.VnTime"/>
              </a:rPr>
              <a:t>§èi t­îng b¸n d©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749160">
              <a:lnSpc>
                <a:spcPct val="150000"/>
              </a:lnSpc>
              <a:spcBef>
                <a:spcPts val="561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.VnTime"/>
              </a:rPr>
              <a:t>§èi t­îng mua d©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385E-081C-41E1-B372-CC1E47069A2A}" type="slidenum">
              <a:t>30</a:t>
            </a:fld>
          </a:p>
        </p:txBody>
      </p:sp>
    </p:spTree>
  </p:cSld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8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88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93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98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03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419360" cy="33526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410080" y="2438280"/>
            <a:ext cx="3505320" cy="4191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62120" y="4724280"/>
            <a:ext cx="3352680" cy="6858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H"/>
              </a:rPr>
              <a:t>TÖ n¹n m¹i d©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03080" y="244440"/>
            <a:ext cx="6016680" cy="765360"/>
          </a:xfrm>
          <a:prstGeom prst="rect">
            <a:avLst/>
          </a:prstGeom>
          <a:solidFill>
            <a:srgbClr val="ccff33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.VnHelvetInsH"/>
              </a:rPr>
              <a:t>®Æc ®iÓm cña tÖ n¹n m¹i d©m</a:t>
            </a:r>
            <a:endParaRPr b="0" lang="en-US" sz="3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66720" y="1270080"/>
            <a:ext cx="7848720" cy="5315040"/>
          </a:xfrm>
          <a:prstGeom prst="rect">
            <a:avLst/>
          </a:prstGeom>
          <a:noFill/>
          <a:ln w="38160">
            <a:solidFill>
              <a:srgbClr val="ff9999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177840" indent="0" algn="ctr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.VnHelvetInsH"/>
              </a:rPr>
              <a:t>®Æc ®iÓm vÒ ph­¬ng thøc, thñ ®äan ho¹t ®éng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177840" algn="just">
              <a:lnSpc>
                <a:spcPct val="14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.VnArial"/>
              </a:rPr>
              <a:t>H×nh thµnh c¸c æ nhãm, ®­êng d©y, nóp d­íi danh nghÜa nhµ hµng, KS, vò tr­êng, nhµ nghØ... C¸c dÞch vô karaoke, massaga, gi¶I kh¸t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77840" algn="just">
              <a:lnSpc>
                <a:spcPct val="14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.Vn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.VnArial"/>
              </a:rPr>
              <a:t>Ho¹t ®éng theo ph­¬ng thøc g¸i gäi vµ th«ng qua g¸i m¹i d©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7784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A8E1-5836-4C84-B378-FF1DFC0E5C9F}" type="slidenum">
              <a:t>32</a:t>
            </a:fld>
          </a:p>
        </p:txBody>
      </p:sp>
    </p:spTree>
  </p:cSld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2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7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52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2232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.Vn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Arial"/>
              </a:rPr>
              <a:t>Cã MQH chÆt chÏ víi ®èi t­îng bu«n b¸n phô n÷ trÎ 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.Vn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.VnArial"/>
              </a:rPr>
              <a:t>Cã sù liªn kÕt víi ng­êi n­íc ngoµ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.Vn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.VnArial"/>
              </a:rPr>
              <a:t>Lîi dông M¹ng INTERNET ®Ó ho¹t ®é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.Vn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.VnArial"/>
              </a:rPr>
              <a:t>M¹i d©m ho¹t ®éng ë kh¾p c¸c ®Þa bµn xong chñ yÕu thµnh phè, TX, khu c«ng nghiÖp, du lÞch nghØ m¸t, n¬I cã ®«ng ng­êi n­íc ngoµi c­ tr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38280" y="380880"/>
            <a:ext cx="4494240" cy="765360"/>
          </a:xfrm>
          <a:prstGeom prst="rect">
            <a:avLst/>
          </a:prstGeom>
          <a:solidFill>
            <a:srgbClr val="ccff33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0208"/>
                </a:solidFill>
                <a:latin typeface=".VnHelvetInsH"/>
              </a:rPr>
              <a:t>tÖ n¹n cê b¹c</a:t>
            </a:r>
            <a:endParaRPr b="0" lang="en-US" sz="3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50760">
            <a:solidFill>
              <a:srgbClr val="00ccff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177840" indent="0" algn="just">
              <a:lnSpc>
                <a:spcPct val="15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.VnArial"/>
              </a:rPr>
              <a:t>Lµ mét lo¹i TNXH gåm c¸c hµnh vi lîi dông c¸c h×nh thøc vui ch¬i gi¶i trÝ ®Ó c¸ c­îc, s¸t ph¹t nhau b»ng tiÒn hoÆc vËt chÊt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177840" algn="just">
              <a:lnSpc>
                <a:spcPct val="150000"/>
              </a:lnSpc>
              <a:spcBef>
                <a:spcPts val="675"/>
              </a:spcBef>
              <a:buClr>
                <a:srgbClr val="ffcc66"/>
              </a:buClr>
              <a:buSzPct val="65000"/>
              <a:buFont typeface=".Vn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.VnArial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.VnArial"/>
              </a:rPr>
              <a:t>TÖ n¹n cê b¹c bao gåm:</a:t>
            </a:r>
            <a:r>
              <a:rPr b="0" lang="en-US" sz="2700" spc="-1" strike="noStrike">
                <a:solidFill>
                  <a:srgbClr val="ffffff"/>
                </a:solidFill>
                <a:latin typeface=".VnArial"/>
              </a:rPr>
              <a:t> §¸nh b¹c, tæ chøc ®¸nh b¹c, g¸ b¹c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9794-AE0F-4481-961D-AC8C119D3535}" type="slidenum">
              <a:t>34</a:t>
            </a:fld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9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0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06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743200" y="5791320"/>
            <a:ext cx="3352680" cy="6858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H"/>
              </a:rPr>
              <a:t>TÖ n¹n cê b¹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619760" cy="51814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743200" y="5943600"/>
            <a:ext cx="3352680" cy="6858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H"/>
              </a:rPr>
              <a:t>TÖ n¹n cê b¹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61960" y="380880"/>
            <a:ext cx="4956120" cy="765360"/>
          </a:xfrm>
          <a:prstGeom prst="rect">
            <a:avLst/>
          </a:prstGeom>
          <a:solidFill>
            <a:srgbClr val="ccff33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80208"/>
                </a:solidFill>
                <a:latin typeface=".VnHelvetInsH"/>
              </a:rPr>
              <a:t>tÖ n¹n mª tÝn dÞ ®oan</a:t>
            </a:r>
            <a:endParaRPr b="0" lang="en-US" sz="3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4956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177840" indent="0" algn="just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.VnArial"/>
              </a:rPr>
              <a:t>         </a:t>
            </a:r>
            <a:r>
              <a:rPr b="1" i="1" lang="en-US" sz="2600" spc="-1" strike="noStrike">
                <a:solidFill>
                  <a:srgbClr val="ffffff"/>
                </a:solidFill>
                <a:latin typeface=".VnArial"/>
              </a:rPr>
              <a:t>Lµ mét TNXH bao gåm c¸c hµnh vi biÓu hiÖn th¸i qu¸ lßng tin mï qu¸ng vµo nh÷ng ®iÒu huyÒn bÝ kh«ng cã thËt, tõ ®ã suy ®o¸n kh¸c th­êng dÉn ®Õn c¸ch øng xö mang tÝnh chÊt cuång tÝn, hµnh ®éng tr¸i víi chuÈn mùc x· héi, g©y hËu qu¶ xÊu ®Õn søc kháe, ®êi sèng vËt chÊt, tinh thÇn, ®Õn ANT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DC37-6EB2-4256-A4DB-31A30BCF63EE}" type="slidenum">
              <a:t>37</a:t>
            </a:fld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010640" cy="49532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438280" y="5943600"/>
            <a:ext cx="4496040" cy="6858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08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12880" indent="-81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2608"/>
                </a:solidFill>
                <a:latin typeface=".VnTimeH"/>
              </a:rPr>
              <a:t>Mª tÝn dÞ ®o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28600" y="-409680"/>
            <a:ext cx="8915400" cy="78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2608"/>
                </a:solidFill>
                <a:latin typeface=".VnTime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§èi t­îng gieo r¾c mª tÝn dÞ ®oan lîi dông lßng tin, lîi dông thÇn th¸nh, trêi phËt, rñi may cã hµnh vi cÇu cóng, ®ång bãng, bãi to¸n… Bu«n thÇn b¸n th¸nh ®Ó kiÕm lêi. Tuyªn truyÒn nh·m nhÝ g©y ¶nh h­ëng xÊu ®Õn TTATX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§Þa bµn x¶y ra ë kh¾p n¬i, nh­ng chñ yÕu tËp trung ë n¬i c«ng t¸c qu¶n lý XH, qu¶n lý con ng­êi cßn béc lé nhiÒu yÕu kÐm, tr×nh ®é nhËn thøc cña quÇn chóng nh©n d©n cßn l¹c hË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Mª tÝn dÞ ®oan hiÖn ®ang ®­îc c¸c ®èi t­îng ph¶n ®éng, c¸c thÕ lùc ph¶n c¸ch m¹ng triÖt ®Ó lîi dông nh»m chèng ph¸ CM ViÖt Nam, nhÊt lµ ë vïng s©u, vïng xa, vïng ®ång bµo d©n téc Ýt ng­ê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0440" y="1449000"/>
            <a:ext cx="8223120" cy="510372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Hµnh vi nguy hiÓm cho x· hé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.VnTime"/>
              </a:rPr>
              <a:t>Hµnh vi nguy hiÓm ®ã ®­îc qui ®Þnh trong bé luËt h×nh s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.VnTime"/>
              </a:rPr>
              <a:t>Do ng­êi cã n¨ng lùc tr¸ch nhiÖm h×nh sù thùc hiÖ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.VnTime"/>
              </a:rPr>
              <a:t>- Cã thÓ lµ cè ý hoÆc v« 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152280"/>
            <a:ext cx="7315200" cy="91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a2608"/>
                </a:solidFill>
                <a:latin typeface=".VnHelvetInsH"/>
              </a:rPr>
              <a:t>Nh÷ng vÊn ®Ò c¬ b¶n vÒ téi ph¹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791C-2B53-4C0A-9856-97F2801B0E3B}" type="slidenum">
              <a:t>4</a:t>
            </a:fld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378640" cy="1371600"/>
          </a:xfrm>
          <a:prstGeom prst="rect">
            <a:avLst/>
          </a:prstGeom>
          <a:solidFill>
            <a:srgbClr val="ffff66"/>
          </a:solidFill>
          <a:ln w="57240">
            <a:solidFill>
              <a:srgbClr val="99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08ce"/>
                </a:solidFill>
                <a:latin typeface=".VnExoticH"/>
              </a:rPr>
              <a:t>III. Tr¸ch nhiÖm cña nhµ tr­êng vµ sinh viªn trong </a:t>
            </a:r>
            <a:br>
              <a:rPr sz="2000"/>
            </a:br>
            <a:r>
              <a:rPr b="1" lang="en-US" sz="2000" spc="-1" strike="noStrike">
                <a:solidFill>
                  <a:srgbClr val="2e08ce"/>
                </a:solidFill>
                <a:latin typeface=".VnExoticH"/>
              </a:rPr>
              <a:t>phßng chèng téi ph¹m vµ tÖ n¹n x· héi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9080" y="1865160"/>
            <a:ext cx="8610480" cy="472464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6094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.VnHelvetInsH"/>
              </a:rPr>
              <a:t>1. Nhµ tr­ê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Thùc hiÖn ®Çy ®ñ ch­¬ng tr×nh phßng chèng téi ph¹m vµ TNXH. Tuyªn truyÒn gi¸o dôc c¸c ch­¬ng tr×nh quèc gia vÒ phßng chèng téi ph¹m vµ TNXH nh­ nghiÖn ma tóy, m¹i d©m, cê b¹c, ph©n biÖt râ mª tÝn dÞ ®oan víi c¸c ho¹t ®éng t«n gi¸o, tÝn ng­ìng, lÔ hé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Gi¸o dôc cho SV lèi sèng lµnh m¹nh, ®Êu tranh chèng lèi sèng bu«ng th¶ sa ®äa, truþ l¹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BA9F-D4D3-4B35-910A-C5199DFD84DC}" type="slidenum">
              <a:t>40</a:t>
            </a:fld>
          </a:p>
        </p:txBody>
      </p:sp>
    </p:spTree>
  </p:cSld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4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9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4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-14436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99"/>
                </a:solidFill>
                <a:latin typeface=".VnTime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X©y dùng quy chÕ qu¶n Lý SV, qu¶n Lý KTX, thµnh lËp c¸c tæ SV tù qu¶n, tæ thanh niªn xung kÝch an ninh… phèi hîp chÆt chÏ víi c¸c c¬ quan c«ng an, b¶o vÖ, c¸c tæ chøc quÇn chóng, chÝnh quyÒn ®Þa ph­¬ng, qu¶n lý n¾m t×nh h×nh kiÓm tra kiÓm so¸t ®Þa bµn theo dâi ng¨n chÆn nh÷ng biÓu hiÖn, hiÖn t­îng x¶y ra téi ph¹m vµ TNX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Ph¸t ®éng phong trµo thi ®ua h­ëng ÷ng c¸c cuéc vËn ®éng tæ chøc SV ®¨ng ký cam kÕt quyÕt t©m kh«ng ®Ó hiÖn t­îng tiªu cùc ph¸t triÓn thµnh TNXH vµ téi ph¹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§Êu tranh xãa bá c¸c tô ®iÓm ho¹t ®éng TNXH khu vùc xung quanh tr­ê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Th­êng xuyªn tæ chøc tèt c¸c ho¹t ®éng VH, VN, TDTT… thu hót SV tham g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1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6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228600" y="1246320"/>
            <a:ext cx="8610480" cy="548640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lIns="90000" rIns="90000" tIns="46800" bIns="46800" anchor="ctr">
            <a:normAutofit fontScale="93000"/>
          </a:bodyPr>
          <a:p>
            <a:pPr indent="0" algn="ctr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ff9999"/>
                </a:solidFill>
                <a:uFillTx/>
                <a:latin typeface=".VnHelvetInsH"/>
              </a:rPr>
              <a:t>2. sinh viª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7d9e9"/>
                </a:solidFill>
                <a:latin typeface=".VnTime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Kh«ng ngõng häc tËp, rÌn luyÖn cã nhËn thøc s©u s¾c vÒ phßng chèng téi ph¹m, tÖ n¹n x· hé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- N©ng cao ý thøc hiÓu biÕt ph¸p luËt, thÊy ®­îc hËu qu¶ cña t×nh tr¹ng ph¹m téi vµ TNXH. Lu«n c¶nh gi¸c kh«ng bÞ l«i kÐo, c¸m dç lèi sèng truþ l¹c, l©y nhiÔm v¨n ho¸ ®åi truþ, chµ ®¹p ®¹o ®øc, phÈm gia, b¸n rÏ sù nghiÖp b¶n th©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- Tuyªn truyÒn, phæ biÕn vµ chÊp hµnh nghiªm néi qui, qui ®Þnh cña Nhµ tr­êng, ph¸p luËt cña Nhµ n­íc. Trùc tiÕp tham gia vµo c¸c tæ  SV tù qu¶n, tæ TN xung kÝch 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307440" y="190440"/>
            <a:ext cx="8379000" cy="876240"/>
          </a:xfrm>
          <a:prstGeom prst="rect">
            <a:avLst/>
          </a:prstGeom>
          <a:solidFill>
            <a:srgbClr val="ffff66"/>
          </a:solidFill>
          <a:ln w="57240">
            <a:solidFill>
              <a:srgbClr val="99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a2608"/>
                </a:solidFill>
                <a:latin typeface=".VnExoticH"/>
              </a:rPr>
              <a:t>Tr¸ch nhiÖm cña nhµ tr­êng vµ sv trong </a:t>
            </a:r>
            <a:br>
              <a:rPr sz="2000"/>
            </a:br>
            <a:r>
              <a:rPr b="1" lang="en-US" sz="2000" spc="-1" strike="noStrike">
                <a:solidFill>
                  <a:srgbClr val="da2608"/>
                </a:solidFill>
                <a:latin typeface=".VnExoticH"/>
              </a:rPr>
              <a:t>phßng chèng téi ph¹m vµ tÖ n¹n x· héi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516D-EE8E-4AF2-A066-157714350B44}" type="slidenum">
              <a:t>42</a:t>
            </a:fld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d9e9"/>
                </a:solidFill>
                <a:latin typeface=".VnTime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.VnTime"/>
              </a:rPr>
              <a:t>Ph¸t hiÖn c¸c ®èi t­îng bªn ngoµi c©u kÕt, mãc nèi  SV ph¹m téi b¸o c¸o cho c¬ quan C«ng an c¸c hµnh vi nghi vÊn ho¹t ®éng ph¹m té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.VnTime"/>
              </a:rPr>
              <a:t>-  Tham gia qu¶n lý, gi¸o dôc, gãp ý cho SV c¸ biÖ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.VnTime"/>
              </a:rPr>
              <a:t>- Ký cam kÕt kh«ng tham gia c¸c ho¹t ®éng TNXH, kiªn quyÕt ®Êu tranh phßng, chèng téi ph¹m mäi lóc mäi n¬i. S½n sµng gi¸o dôc c¶m ho¸ nh÷ng sinh viªn lÇm lçi ®Ó hä tiÕn b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6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1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6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52480" y="1752480"/>
            <a:ext cx="5639040" cy="2743200"/>
          </a:xfrm>
          <a:prstGeom prst="rect">
            <a:avLst/>
          </a:prstGeom>
          <a:solidFill>
            <a:srgbClr val="ccff33"/>
          </a:solidFill>
          <a:ln w="50760">
            <a:solidFill>
              <a:srgbClr val="00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80208"/>
                </a:solidFill>
                <a:latin typeface=".VnHelvetInsH"/>
              </a:rPr>
              <a:t>KÕt luËn</a:t>
            </a:r>
            <a:endParaRPr b="0" lang="en-US" sz="63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E747-BC49-46FC-8E8B-B8E523DA13BC}" type="slidenum">
              <a:t>44</a:t>
            </a:fld>
          </a:p>
        </p:txBody>
      </p:sp>
    </p:spTree>
  </p:cSld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4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3120" cy="472428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6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C¨n cø tÝnh chÊt vµ møc ®é nguy hiÓm, téi ph¹m ®­îc ph©n thµnh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+ Téi ph¹m Ýt nghiªm trä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+ Téi ph¹m nghiªm trä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+ Téi ph¹m rÊt nghiªm trä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+ Téi ph¹m ®Æc biÖt nghiªm trä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9172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a2608"/>
                </a:solidFill>
                <a:latin typeface=".VnHelvetInsH"/>
              </a:rPr>
              <a:t>Nh÷ng vÊn ®Ò c¬ b¶n vÒ téi ph¹m</a:t>
            </a:r>
            <a:endParaRPr b="0" lang="en-US" sz="3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D459-0385-4CC8-89F9-019D5BD3522B}" type="slidenum">
              <a:t>5</a:t>
            </a:fld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3120" cy="548640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lIns="90000" rIns="90000" tIns="46800" bIns="46800" anchor="ctr">
            <a:normAutofit fontScale="95000"/>
          </a:bodyPr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7d9e9"/>
                </a:solidFill>
                <a:latin typeface=".VnTime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.VnTime"/>
              </a:rPr>
              <a:t>Ng­êi tõ 16 tuæi trë lªn ph¶i chÞu tr¸ch nhiÖm h×nh sù vÒ mäi téi ph¹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.VnTim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.VnTime"/>
              </a:rPr>
              <a:t>Ng­êi tõ ®ñ 14 tuæi trë lªn nh­ng ch­a ®ñ 16 tuæi ph¶i chÞu tr¸ch nhiÖm h×nh sù vÒ téi rÊt nghiªm träng do cè ý, hoÆc ph¹m téi ®Æc biÖt nghiªm trä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.VnTime"/>
              </a:rPr>
              <a:t>                                 </a:t>
            </a:r>
            <a:r>
              <a:rPr b="1" i="1" lang="en-US" sz="2800" spc="-1" strike="noStrike">
                <a:solidFill>
                  <a:srgbClr val="ffffff"/>
                </a:solidFill>
                <a:latin typeface=".VnTime"/>
              </a:rPr>
              <a:t>(§iÒu 12 Bé LuËt H×nh sù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15200" cy="91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a2608"/>
                </a:solidFill>
                <a:latin typeface=".VnHelvetInsH"/>
              </a:rPr>
              <a:t>Nh÷ng vÊn ®Ò c¬ b¶n vÒ téi ph¹m</a:t>
            </a:r>
            <a:endParaRPr b="0" lang="en-US" sz="3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6DD6-44FC-410B-B756-B26D8170C0AB}" type="slidenum">
              <a:t>6</a:t>
            </a:fld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09160" y="304920"/>
            <a:ext cx="8705880" cy="9172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a2608"/>
                </a:solidFill>
                <a:latin typeface=".VnHelvetInsH"/>
              </a:rPr>
              <a:t>I. Nh÷ng vÊn ®Ò c¬ b¶n vÒ phßng chèng téi ph¹m</a:t>
            </a:r>
            <a:endParaRPr b="0" lang="en-US" sz="3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lIns="90000" rIns="90000" tIns="46800" bIns="46800" anchor="ctr">
            <a:normAutofit fontScale="99000"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.VnHelvetInsH"/>
              </a:rPr>
              <a:t>1. Kh¸I niÖm phßng chèng téi ph¹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.VnTim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Phßng chèng téi ph¹m lµ viÖc c¸c c¬ quan cña nhµ n­íc, c¸c tæ chøc x· héi vµ c«ng d©n b»ng nhiÒu biÖn ph¸p kh¾c phôc nh÷ng nguyªn nh©n, ®iÒu kiÖn cña t×nh tr¹ng téi ph¹m ng¨n chÆn, h¹n chÕ vµ lµm gi¶m tõng b­íc, tiÕn tíi lo¹i trõ téi ph¹m ra khái ®êi sèng x· hé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- PNTP lµ ph­¬ng h­íng chÝnh, lµ t­ t­ëng chØ ®¹o trong c«ng t¸c ®Êu tran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Time"/>
              </a:rPr>
              <a:t>- ThÓ hiÖn tÝnh nh©n ®¹o cña chÕ ®é XHC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lIns="90000" rIns="90000" tIns="46800" bIns="46800" anchor="ctr">
            <a:normAutofit fontScale="95000"/>
          </a:bodyPr>
          <a:p>
            <a:pPr indent="0" algn="ctr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.VnHelvetInsH"/>
              </a:rPr>
              <a:t>C¸c h­íng c¬ b¶n trong phßng ngõa téi ph¹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.VnTime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.VnTime"/>
              </a:rPr>
              <a:t>-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.VnTime"/>
              </a:rPr>
              <a:t>H­íng thø nhÊt</a:t>
            </a:r>
            <a:r>
              <a:rPr b="1" i="1" lang="en-US" sz="2800" spc="-1" strike="noStrike">
                <a:solidFill>
                  <a:srgbClr val="ffffff"/>
                </a:solidFill>
                <a:latin typeface=".VnTime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ph¸t hiÖn, kh¾c phôc, h¹n chÕ vµ ®i  ®Õn thñ tiªu c¸c nguyªn nh©n, ®iÒu kiÖn cña t×nh tr¹ng ph¹m téi </a:t>
            </a:r>
            <a:r>
              <a:rPr b="0" i="1" lang="en-US" sz="2800" spc="-1" strike="noStrike">
                <a:solidFill>
                  <a:srgbClr val="ffffff"/>
                </a:solidFill>
                <a:latin typeface=".VnTime"/>
              </a:rPr>
              <a:t>(®©y lµ h­íng c¬ b¶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.VnTime"/>
              </a:rPr>
              <a:t>-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.VnTime"/>
              </a:rPr>
              <a:t>H­íng thø hai</a:t>
            </a:r>
            <a:r>
              <a:rPr b="1" i="1" lang="en-US" sz="2800" spc="-1" strike="noStrike">
                <a:solidFill>
                  <a:srgbClr val="ffffff"/>
                </a:solidFill>
                <a:latin typeface=".VnTime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 H¹n chÕ ®Õn møc thÊp nhÊt hËu qu¶, t¸c h¹i khi téi ph¹m x¶y 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209520" y="304920"/>
            <a:ext cx="8499600" cy="9172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a2608"/>
                </a:solidFill>
                <a:latin typeface=".VnHelvetInsH"/>
              </a:rPr>
              <a:t>Nh÷ng vÊn ®Ò c¬ b¶n vÒ phßng chèng téi ph¹m</a:t>
            </a:r>
            <a:endParaRPr b="0" lang="en-US" sz="3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2821-0C92-44C5-918A-F07E3AA1C9C9}" type="slidenum">
              <a:t>8</a:t>
            </a:fld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3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0440" y="1676160"/>
            <a:ext cx="8223120" cy="406692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ff99ff"/>
                </a:solidFill>
                <a:uFillTx/>
                <a:latin typeface=".VnHelvetInsH"/>
              </a:rPr>
              <a:t>Môc ®Ých cña c«ng t¸c phßng ngõ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.VnTime"/>
              </a:rPr>
              <a:t>Kh¾c phôc, thñ tiªu c¸c nguyªn nh©n, ®iÒu kiÖn cña t×nh tr¹ng ph¹m téi nh»m ng¨n chÆn, h¹n chÕ tiÕn tíi lo¹i trõ téi ph¹m ra khái ®êi sèng x· hé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209520" y="304920"/>
            <a:ext cx="8499600" cy="9172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a2608"/>
                </a:solidFill>
                <a:latin typeface=".VnHelvetInsH"/>
              </a:rPr>
              <a:t>Nh÷ng vÊn ®Ò c¬ b¶n vÒ phßng chèng téi ph¹m</a:t>
            </a:r>
            <a:endParaRPr b="0" lang="en-US" sz="3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77C1-75AD-403B-8257-1969CED716E0}" type="slidenum">
              <a:t>9</a:t>
            </a:fld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ng Luong</cp:lastModifiedBy>
  <dcterms:modified xsi:type="dcterms:W3CDTF">2008-11-16T02:45:10Z</dcterms:modified>
  <cp:revision>8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