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.jpeg" ContentType="image/jpeg"/>
  <Override PartName="/ppt/media/image2.jpeg" ContentType="image/jpeg"/>
  <Override PartName="/ppt/media/Endless%20country%20(2m%2015s)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01F-9941-4DE0-9541-D382F170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5CB-43C8-4500-8187-4BB3225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FDE-2EB1-439F-B616-BBEC69A8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9D9-03F8-4838-B9FB-1DC7D97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D83-AF17-461C-AF1A-378555A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015-E5CB-4627-8C32-71FA77F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5B-AE85-460F-BBD6-64C5F0AF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BA0-5959-4EE2-B815-F5194D6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4A4-68B8-4DAD-AA19-FD064DC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DCD-D9BF-4573-82A8-224EBEA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4B5-8B0C-4878-8403-04B6D1C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9B7-7918-4115-B37F-CFE67C4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9EC0-AAD1-41DD-89F5-F5325291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dless%20country%20(2m%2015s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7640" y="260280"/>
            <a:ext cx="2448000" cy="2160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et lev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ijn donkere peri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203640" y="333360"/>
            <a:ext cx="3456000" cy="216072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55548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dankt aan het lev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dankt voor alles wat het me in overvloed geef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zondheid, geluk, welvaar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35280" y="333360"/>
            <a:ext cx="3168720" cy="144000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620280"/>
            <a:ext cx="35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99"/>
                </a:solidFill>
                <a:latin typeface="Arial"/>
              </a:rPr>
              <a:t>Het leven is eenvoudi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99"/>
                </a:solidFill>
                <a:latin typeface="Arial"/>
              </a:rPr>
              <a:t>het is de mens die alles complic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2852640"/>
            <a:ext cx="3708360" cy="198936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Het geluk om bemind te w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is van onschatbare waar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80000" y="333360"/>
            <a:ext cx="3384720" cy="177336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e liefde is een gesche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ar v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ten he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0360" y="1484280"/>
            <a:ext cx="3203640" cy="22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73196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iemand kan de wind leid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ar men kan al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 zeilen afstell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96000" y="3573360"/>
            <a:ext cx="3132000" cy="28800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92480"/>
            <a:ext cx="259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et verleden bestaat niet meer, de toekomst kan je niet voorspell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andaag is een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ad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280" y="765000"/>
            <a:ext cx="2988000" cy="28800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197360"/>
            <a:ext cx="250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In het leven is het niet belangrijk het mooiste spel te hebbe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maar met dat te spelen dat men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0" y="1916280"/>
            <a:ext cx="1809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Nog een fijne week.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0"/>
            <a:ext cx="2016000" cy="19162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9000" y="475920"/>
            <a:ext cx="170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ak dat e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uur van j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ven mooi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0"/>
            <a:ext cx="4174920" cy="2781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et leven is als een regenbo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eze heeft zowel regen als zon no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 zijn kleu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859280" y="404640"/>
            <a:ext cx="4103640" cy="23036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1480" y="1125000"/>
            <a:ext cx="37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 tijd en de ruimte zijn one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to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eeft men er nooit genoeg van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280" y="404640"/>
            <a:ext cx="5760720" cy="24210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35200" y="844560"/>
            <a:ext cx="47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et leven is een tuin vol bloe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an vreug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evredenheid en gelegenheden van gel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ergee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om ze te pluk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76280"/>
            <a:ext cx="2664000" cy="23050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Neem het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niet te serieus, 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relativ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33360"/>
            <a:ext cx="3851280" cy="223200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geluk ligt binnen het bere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van iedere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gaat erom het te ontdekken.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549360"/>
            <a:ext cx="4249800" cy="244800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Het geluk is als een boeket bloe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aangeboden door het l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1484280"/>
            <a:ext cx="2592360" cy="17272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98864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urf! Ga tot actie over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0:14:44Z</dcterms:created>
  <dc:creator> </dc:creator>
  <dc:description/>
  <dc:language>en-US</dc:language>
  <cp:lastModifiedBy>Smets</cp:lastModifiedBy>
  <dcterms:modified xsi:type="dcterms:W3CDTF">2008-09-27T06:12:23Z</dcterms:modified>
  <cp:revision>37</cp:revision>
  <dc:subject/>
  <dc:title>BONNE SEMAINE</dc:title>
</cp:coreProperties>
</file>