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D9B-B1E0-4C8D-AF39-666F1CBA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887-9533-4786-9FE4-02B20E2E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21F-DF6E-4006-BA0D-FA5CD7F3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572-0670-49FA-9F26-AB49EE02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C51-6D52-484D-BAAD-DB99173D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189-D00C-4677-B9B3-A311F4F9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AE8-6CEE-4076-9925-BEA9982D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5EB-6C03-4A7B-9329-CDEA6F9C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08A-8707-4C63-AB5D-76AD3616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D92-D243-4323-8A7F-1C0AE83D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94A-2816-4246-96D5-746D5271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F9F-6E9C-43CF-A7A9-CDE13F00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FA39E-517B-40CA-90EF-857694282B3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0353F-5402-4370-8E14-9DA0BB52B1F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41:05Z</dcterms:created>
  <dc:creator>최봉수</dc:creator>
  <dc:description/>
  <dc:language>en-US</dc:language>
  <cp:lastModifiedBy>맛있다 군만두</cp:lastModifiedBy>
  <dcterms:modified xsi:type="dcterms:W3CDTF">2024-10-01T03:11:51Z</dcterms:modified>
  <cp:revision>3</cp:revision>
  <dc:subject/>
  <dc:title>슬라이드 1</dc:title>
</cp:coreProperties>
</file>