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2EC-60AB-4F6A-A62C-1DE28BC7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ECD-F569-4A14-8B5B-6044F51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FD8-2994-44BA-ACA0-0C4F3DD8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ED7-A80C-47FF-9B96-0B912D80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A95-9773-453C-8723-2B317D20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F79-776B-4052-B6E9-3B04623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1EA-91C9-41D2-805A-8709100C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4C-F480-4975-822C-5BF6799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93D-BE9E-4B61-9A1A-2B36078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981-086B-4BAA-B9D7-05B923E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5E4-D87E-4BB8-A08A-C467157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519-ABB4-43C3-AAFE-652EBDF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914F0-7115-4E0B-9C3F-CAE4720595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D629E-7DD5-47DE-A863-55C8AA9B166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1:05Z</dcterms:created>
  <dc:creator>최봉수</dc:creator>
  <dc:description/>
  <dc:language>en-US</dc:language>
  <cp:lastModifiedBy>맛있다 군만두</cp:lastModifiedBy>
  <dcterms:modified xsi:type="dcterms:W3CDTF">2024-10-01T03:11:51Z</dcterms:modified>
  <cp:revision>3</cp:revision>
  <dc:subject/>
  <dc:title>슬라이드 1</dc:title>
</cp:coreProperties>
</file>