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5Despertat%20Jerusalemw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669-4809-42D3-B7BD-73431296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4C6-CA73-41C7-95B8-AF2ACEC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61D-F9B8-43D5-A62A-4651AAEC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60E-E3A7-4FBE-9DEA-130618D0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59B-A654-49F1-A17C-135FB31B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87F-3C2C-422C-BCB2-5FAADE8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58D-A7E7-4991-9FC6-6BE18E4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899-A633-490F-9EAD-02028D5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D2C-7C0C-44F5-8B96-5E13CA4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C9D-DB4C-49BA-89B4-D37D05B0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E09-21F9-4DE2-981C-FFE877F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3E1-7EF7-4293-9351-9E4F198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AE8-3042-41A9-BEBD-0044C21D94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5Despertat%20Jerusalem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nedictinescat.com/montserra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4037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cuchando “Despierta Jerusalén” de Mendelssohn, se despierte en nosotros el sentido de iglesia (la nueva Jerusalé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87"/>
          <p:cNvSpPr txBox="1"/>
          <p:nvPr/>
        </p:nvSpPr>
        <p:spPr>
          <a:xfrm>
            <a:off x="835200" y="1838160"/>
            <a:ext cx="732924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</a:rPr>
              <a:t>DOMINGO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ef2a03"/>
                  </a:gs>
                  <a:gs pos="100000">
                    <a:srgbClr val="580604"/>
                  </a:gs>
                </a:gsLst>
                <a:lin ang="5400000"/>
              </a:gradFill>
              <a:effectLst>
                <a:outerShdw dist="38183" dir="2700000" blurRad="0" rotWithShape="0">
                  <a:srgbClr val="c00000">
                    <a:alpha val="43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64000" y="3435480"/>
            <a:ext cx="257184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b6325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Ciclo 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b6325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2 CuadroTexto"/>
          <p:cNvSpPr/>
          <p:nvPr/>
        </p:nvSpPr>
        <p:spPr>
          <a:xfrm>
            <a:off x="1019160" y="330516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1650f"/>
                </a:solidFill>
                <a:latin typeface="Arial Black"/>
              </a:rPr>
              <a:t>23 del AÑ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 Imagen" descr=""/>
          <p:cNvPicPr/>
          <p:nvPr/>
        </p:nvPicPr>
        <p:blipFill>
          <a:blip r:embed="rId1"/>
          <a:stretch/>
        </p:blipFill>
        <p:spPr>
          <a:xfrm>
            <a:off x="1187280" y="195120"/>
            <a:ext cx="590580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st benet\Mis documentos\Fotos\SBw.jpg"/>
          <p:cNvPicPr/>
          <p:nvPr/>
        </p:nvPicPr>
        <p:blipFill>
          <a:blip r:embed="rId2"/>
          <a:stretch/>
        </p:blipFill>
        <p:spPr>
          <a:xfrm>
            <a:off x="7172280" y="1263600"/>
            <a:ext cx="639720" cy="371520"/>
          </a:xfrm>
          <a:prstGeom prst="rect">
            <a:avLst/>
          </a:prstGeom>
          <a:ln w="38160">
            <a:solidFill>
              <a:srgbClr val="76521c"/>
            </a:solidFill>
            <a:miter/>
          </a:ln>
        </p:spPr>
      </p:pic>
    </p:spTree>
  </p:cSld>
  <p:transition spd="slow">
    <p:fade thruBlk="true"/>
    <p:sndAc>
      <p:stSnd>
        <p:snd r:embed="rId3" name="5Despertat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395280" y="627120"/>
            <a:ext cx="8426520" cy="44809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todo lo que atéis en la tierra quedará atado en el cielo, y todo lo que desatéis en la tierra quedará desatado en el ciel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2314440" y="0"/>
            <a:ext cx="685512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46160" y="141120"/>
            <a:ext cx="3348000" cy="22280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Jesús ha dejado su obra en nuestras man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6040" y="2571840"/>
            <a:ext cx="245124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Acabemos la cons-truc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611280" y="411120"/>
            <a:ext cx="8246880" cy="4360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, además, que si dos de vosotros se ponen de acuerdo en la tierra para pedir algo, se lo dará mi Padre del cielo. Porque donde dos o tres están reunidos en mi nombre, allí estoy yo en medio de ellos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Rectángulo"/>
          <p:cNvSpPr/>
          <p:nvPr/>
        </p:nvSpPr>
        <p:spPr>
          <a:xfrm>
            <a:off x="-324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395280" y="146160"/>
            <a:ext cx="3745080" cy="5021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4645080" y="324000"/>
            <a:ext cx="4033800" cy="22280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Jesús está con nosotros, sobre todo cuando oramos reun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02160" y="2801880"/>
            <a:ext cx="431964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Que cuando nos vean puedan decir: “mirad cómo se aman”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Tertulian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857160" y="355680"/>
            <a:ext cx="7243920" cy="43401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967040" y="985680"/>
            <a:ext cx="520992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, conscientes de ser tu IGLESIA, no defraudemos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i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4 Grupo"/>
          <p:cNvGrpSpPr/>
          <p:nvPr/>
        </p:nvGrpSpPr>
        <p:grpSpPr>
          <a:xfrm>
            <a:off x="395280" y="3489480"/>
            <a:ext cx="8286840" cy="1446120"/>
            <a:chOff x="395280" y="3489480"/>
            <a:chExt cx="8286840" cy="1446120"/>
          </a:xfrm>
        </p:grpSpPr>
        <p:sp>
          <p:nvSpPr>
            <p:cNvPr id="84" name="Rectangle 5"/>
            <p:cNvSpPr/>
            <p:nvPr/>
          </p:nvSpPr>
          <p:spPr>
            <a:xfrm>
              <a:off x="395280" y="3489480"/>
              <a:ext cx="8286840" cy="1446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"/>
            <p:cNvSpPr/>
            <p:nvPr/>
          </p:nvSpPr>
          <p:spPr>
            <a:xfrm>
              <a:off x="609480" y="3697560"/>
              <a:ext cx="7782480" cy="9774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752400" y="3972600"/>
              <a:ext cx="827280" cy="5346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-22320" y="4443480"/>
            <a:ext cx="9132840" cy="52056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f642d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ef642d"/>
                </a:solidFill>
                <a:latin typeface="Arial Unicode MS"/>
              </a:rPr>
              <a:t>Casa  donde Jesús vive con los discípulos (Cafarnaun</a:t>
            </a:r>
            <a:r>
              <a:rPr b="0" lang="ca-ES" sz="2800" spc="-1" strike="noStrike">
                <a:solidFill>
                  <a:srgbClr val="ef642d"/>
                </a:solidFill>
                <a:latin typeface="Arial Unicode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5520" y="641520"/>
            <a:ext cx="8809200" cy="36882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2300" spc="-1" strike="noStrike">
                <a:solidFill>
                  <a:srgbClr val="e2af64"/>
                </a:solidFill>
                <a:latin typeface="Arial Unicode MS"/>
              </a:rPr>
              <a:t>4a Parte del evangelio de Mt: </a:t>
            </a:r>
            <a:r>
              <a:rPr b="1" i="1" lang="es-ES" sz="23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e2af64"/>
                </a:solidFill>
                <a:latin typeface="Arial Unicode MS"/>
              </a:rPr>
              <a:t>Sermón a la iglesi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n </a:t>
            </a:r>
            <a:r>
              <a:rPr b="1" lang="es-ES" sz="2600" spc="-1" strike="noStrike">
                <a:solidFill>
                  <a:srgbClr val="eed09a"/>
                </a:solidFill>
                <a:latin typeface="Arial Unicode MS"/>
              </a:rPr>
              <a:t>Cafarnaún,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relaciones entre los hermanos: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  - Practicar la corrección fraterna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3</a:t>
            </a:r>
            <a:br>
              <a:rPr sz="2600"/>
            </a:b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  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- Perdonarnos 70 veces 7 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4</a:t>
            </a:r>
            <a:r>
              <a:rPr b="1" lang="es-ES" sz="2600" spc="-1" strike="noStrike">
                <a:solidFill>
                  <a:srgbClr val="ffce33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n </a:t>
            </a:r>
            <a:r>
              <a:rPr b="1" lang="es-ES" sz="2600" spc="-1" strike="noStrike">
                <a:solidFill>
                  <a:srgbClr val="eed09a"/>
                </a:solidFill>
                <a:latin typeface="Arial Unicode MS"/>
              </a:rPr>
              <a:t>Transjordania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, llamada a la responsabilidad: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  - Vivir la gratuidad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vangélica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5</a:t>
            </a:r>
            <a:r>
              <a:rPr b="1" lang="es-ES" sz="2600" spc="-1" strike="noStrike">
                <a:solidFill>
                  <a:srgbClr val="ffce33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6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6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0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0" descr="Cafarna8t"/>
          <p:cNvPicPr/>
          <p:nvPr/>
        </p:nvPicPr>
        <p:blipFill>
          <a:blip r:embed="rId1"/>
          <a:stretch/>
        </p:blipFill>
        <p:spPr>
          <a:xfrm>
            <a:off x="-2700360" y="50760"/>
            <a:ext cx="14617800" cy="509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419640" y="4011480"/>
            <a:ext cx="5329080" cy="14644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Restos de la casa, convertida en iglesia octogonal en el sI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11280" y="193680"/>
            <a:ext cx="7200720" cy="1312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Jesús nos dice qué espíritu  quiere que tenga su Igl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58 -0.00139 L -0.33472 -0.00139 E">
                                      <p:cBhvr>
                                        <p:cTn id="44" dur="1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82480" y="411120"/>
            <a:ext cx="8026560" cy="4894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8,15-20 En aquel tiempo, dijo Jesús a sus discípulos: "Si tu hermano peca, repréndelo a solas entre los dos. Si te hace caso, has salvado a tu hermano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0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01600" y="128520"/>
            <a:ext cx="7559640" cy="1694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Dialogad entre vosotros a fin de ganar a todos los hermanos, sois responsables unos de otr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987640" y="4300560"/>
            <a:ext cx="56880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Yo os he hecho FAMIL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6 Imagen" descr=""/>
          <p:cNvPicPr/>
          <p:nvPr/>
        </p:nvPicPr>
        <p:blipFill>
          <a:blip r:embed="rId1"/>
          <a:stretch/>
        </p:blipFill>
        <p:spPr>
          <a:xfrm>
            <a:off x="-17640" y="2048040"/>
            <a:ext cx="91440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36680" y="484200"/>
            <a:ext cx="8215200" cy="41158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 te hace caso, llama a otro o a otros dos, para que todo el asunto quede confirmado por boca de dos o tres testigos. Si no les hace caso, díselo a la comun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6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3 Imagen" descr=""/>
          <p:cNvPicPr/>
          <p:nvPr/>
        </p:nvPicPr>
        <p:blipFill>
          <a:blip r:embed="rId1"/>
          <a:stretch/>
        </p:blipFill>
        <p:spPr>
          <a:xfrm>
            <a:off x="2651040" y="11160"/>
            <a:ext cx="648648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08000" y="11160"/>
            <a:ext cx="3384360" cy="38286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La comunidad reunida en la tierra, es imagen de la comunidad reunida en el cie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8000" y="3940200"/>
            <a:ext cx="4968720" cy="109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No hacerle caso, es abandonar el evangeli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11120" y="771480"/>
            <a:ext cx="8353440" cy="4284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i no hace caso ni siquiera a la comunidad, considéralo como un pagano o un publican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4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 Imagen" descr=""/>
          <p:cNvPicPr/>
          <p:nvPr/>
        </p:nvPicPr>
        <p:blipFill>
          <a:blip r:embed="rId1"/>
          <a:srcRect l="0" t="0" r="0" b="8270"/>
          <a:stretch/>
        </p:blipFill>
        <p:spPr>
          <a:xfrm>
            <a:off x="1058760" y="1365120"/>
            <a:ext cx="8083800" cy="373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79280" y="104760"/>
            <a:ext cx="7993080" cy="1601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A los que consideréis que están fuera de la Comunidad, amadlos, como Yo amé a los publicanos y pecadores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60200" y="1820880"/>
            <a:ext cx="2756160" cy="16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En el amor, no hagáis division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2 CuadroTexto"/>
          <p:cNvSpPr/>
          <p:nvPr/>
        </p:nvSpPr>
        <p:spPr>
          <a:xfrm>
            <a:off x="198360" y="4197240"/>
            <a:ext cx="3726000" cy="82548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apa Francisco, con un judío y un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4-08-30T14:10:04Z</dcterms:modified>
  <cp:revision>634</cp:revision>
  <dc:subject/>
  <dc:title>evangeli</dc:title>
</cp:coreProperties>
</file>