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1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2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3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FC4-AAFC-4F31-A4A1-3B56F083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CB80-ADEB-456C-BDA9-12D2C040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2838-3BB2-419D-9E6A-DEDFF617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95D59-42D0-4E96-8341-6DEF726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7EF42-46AC-43FF-B4E1-26689DB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65CD-C8F7-40DE-AA50-74B8863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CE1DE-2F96-4784-8443-0A67B66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20E1-39E2-4102-9DC6-2296B0D4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8298-0619-4CE5-BAF6-B0E352DF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E2CD7-A738-4207-AEBC-669A2003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33D4-53A4-4C3D-9495-FFE9981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2320-4BB1-4BF3-B728-0E89887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DCF4E-A11D-40E4-9DE7-9E8C3CA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1574D-4DA9-44A3-B238-741E8E79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1684B-92BA-4E46-AC8F-C9D44CC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4635-A01D-4783-A6B8-2AC5C723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30E7-3669-49B9-AC53-8B801D2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5D2BB-9231-4A9E-AC22-819F91C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0E708-EC5B-4320-A6B7-4A332B9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2561-171D-46F5-B871-7FD3488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1A38C-8907-4DC6-B8A1-A3258A0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CA0E3-74B2-4D26-8F26-9A68F5D7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DC8D4-102C-4A45-B20F-BB8E9C81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42C85-6A4C-466F-B5CB-509F9C41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248E7-4E64-40AD-95E2-0E57426C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A63FC-C5BB-480C-B7D4-2C27C982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BB118-CCF1-43AC-9D7B-EFD832A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D6337-1109-47AF-87FB-2315F67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0F2C8-F320-4693-8C48-BB32280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B1A0C-6458-433B-B689-FF7B02D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4823-6CA7-48B2-992A-5B40136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FC7B0-3FD0-4665-BBA8-6CAE836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08D-67D4-463D-AD0D-47CCC7C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65BC2-304D-43E4-B640-8EB803F4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DC99C-A351-4B9C-B6BE-F97D0FC0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3FC13-AEDE-4E42-935A-F0861030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1E1C4-E79B-4F1F-931B-4E22D908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3613F-D208-4C99-B496-0C51111B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F628-663A-41DD-8907-7681339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774F-DC48-4F2E-BD86-D1FB0E19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76274-C037-4796-99B5-EBB3043B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04C6C-DD58-4944-B5F3-0C195C13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F2074-96EE-4D9E-B448-1B0B9CB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EF4-05B3-4644-9ED9-51F191B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43E0E-E925-444B-9B1A-B6476AE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E5D43-D50E-4934-871D-B1B309F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B48FA-A255-45B6-8189-8AF0520C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8A1F-B96A-422F-B2D6-B6CDE1DA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B492C-DC86-439F-8259-92876247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86973-0785-424A-BFEF-01885581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4F467-1D1E-471E-9BE8-6D6D471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E83D9-B99C-47D9-9B42-A696D30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0A2AD-56A4-4F55-85E0-D99602C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929F5-1C97-42B9-A575-6EA1DCFC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157-9E71-4DC5-82B4-97D4B48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C6C2B-293D-4CA5-A0BD-8657FFE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A2D26-1F4A-4D16-9C24-F16A705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027D4-2C2E-4B0F-8AAA-4000BC6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4EA08-65BC-4E8E-95FA-D28BEF3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94C98-3428-49CC-B65F-05325994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09622-D6AC-4376-BCDD-658B6B9A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07B9A-6DA8-4918-91E2-5203173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1EA69-A8B4-438A-AB97-DE8405F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402FA-6C19-4FA2-9468-9967608F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31238-1024-4218-9CFA-798481D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18A-E251-4D79-95AC-6A5AE103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725C4-3DC4-43EB-8DDA-CD875F6B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0E457-9D9F-4050-8BC1-5084AE8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65AB8-0E8A-4A25-ABA6-470D1211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3AF3E-72A5-4ABD-A698-19F2C74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92BCC-08A4-46B9-A7E3-EE33F87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40CD8-5D40-4627-9580-6267615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23F46-14BC-4F1B-AA44-914243E6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35F17-FD94-4912-ACA7-EBAC894F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ACE76-E5F9-4975-A882-A27FD137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6B2B64-D495-4B1D-A949-5FF80D157B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BC8-74C8-49AA-BF7A-132C257A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C264E9-0BEB-4A54-A72D-129EC76EC32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9B6E53-AFD9-4B1C-B71E-AED63650094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D1219E-E3A5-4766-942E-086DC40E442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1B382D-A0E8-4688-AA12-3D70FB081C8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1BCCED-C8C3-41BD-A155-DFA050CC3C5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C4B59A-8481-4955-A814-65685280FB4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7F32A6-A4DC-4FAC-9CD2-5C2D2A676B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0B1F20-431D-4F0E-BB2A-462E0D0F807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3EF13E-61F4-4A4C-9CDB-09F11546AC9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A03BE7-7E7C-4A2F-9539-5089962A8C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054-471C-4296-B92C-1A0C1EAB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891E39-C851-4F15-A860-786E263C73E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D0A550-174B-498E-A39D-C0C3071C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A9A358-241D-4620-8C36-18B8F922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77818F-1448-4C2E-80EC-D7EE8BF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F344AA-062D-419D-880A-D1970772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024847-D07B-400C-A4D8-0B7605A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2C04DA-6839-4F6D-B17A-4A99D78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5548F6-EEC4-499A-AF50-08E3201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DABC80-B716-4C97-A9AB-E258FBF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A32EE3-E486-461E-B0B7-266A2AB9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B72-65EA-4C4E-A320-8202E94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4BD902-4D2F-43B0-957B-A218F89A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8E897E-0CBD-4578-A4F2-6610857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CC2998-1CC0-4518-A552-BDCFCC88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E0C611-00BA-4D41-A974-01DA10B2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47C736-6198-4619-9D49-8FD76BD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214371-C82D-493A-BB93-98A0823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3EBD90E-D4F7-439F-9D0B-E4CC937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F7DFAC-EBF9-4589-B309-F8679212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24CF7B-0820-4989-8289-72EE68A0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753F22-0B75-48A8-A620-739D362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DEE-4DB5-4D60-BBEA-2FE360B3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502D72-0544-417F-AF91-D035A9D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FE28A0-38AA-495A-BAB3-EAFA6874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BFC5F7-677B-4EC8-9140-24F0E58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4B551A-4F00-47C4-A896-A1C88EA2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69E6DB-5E94-4F7B-A3FE-B7E76FC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7365B1-BED8-437E-A922-9949FAFA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62C20D-7292-47A0-8698-C9BFEF55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0EC4F3-2C6C-4A9A-BFCF-9310509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DC4EF8-E7EC-4460-A840-61A9E1F7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3B4D87-07AB-409F-8947-97CC775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BDD-A4A7-4909-B64D-0113AA9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2B41EC-BBDF-4B2E-8C90-C57059F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C67CBB-3B1C-4F7B-8A45-E9103B8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95462D-CD47-4CC6-9F25-F7BCC96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2967EC-2DD1-41DC-AFBE-E915760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A5A885-BF02-47A7-AB9D-B014CC5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D80210-8688-4BBE-8DE8-E5F92B98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15E11C-16A2-49B3-8A01-E9ED0F0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38D-CFCD-48B4-931E-88CC530F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150-E686-4CEE-80E1-4CFCA67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F19-6DF7-4BEF-9BB8-562946B4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861-28DA-427C-B694-D06DAEEE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43A4-79CA-4CCC-BDA6-814A4589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BA80-2CA3-4ECD-BB99-D10FDC3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2EF5-EFDD-4B4D-B111-F446D7B7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1DF-7FAB-4C54-92AA-2D80C3B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2C59-CB8D-4D63-A5EC-9387123A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172-8331-4A2E-8E1F-5048056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7B93-A463-4C86-924B-09F5848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B1B-5A8D-4B05-BEBA-3722718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11F1-835C-4AB7-BCC0-5263B37C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016-C308-48A4-9A2B-FD6E6C27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34EF-1A7B-46DF-BCCE-3FAEC64F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D299-02E0-4F57-AADC-FA4A43EA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04E3-5BD5-4A73-B2AE-26228E2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15D5-74E5-45F4-B104-CD7B66E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3CCB-8294-4561-A1D5-FB3D8A34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2044-3440-4227-98D5-D2746A8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8AD5-79DC-4E5D-B877-94053BD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2874-1581-4DC0-B4A0-55200D7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8D91-03EF-41F1-92B4-D6EB9A0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C1F2-D881-4962-82BE-09743816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CAD8-C088-4CA7-BD76-1A28E1F5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CA36-8C9A-44F5-9009-5A46199F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71CB-BA4C-47C1-8DAD-12B74045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DDDD-6F55-48B7-8DF4-5B349076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39C5-FFB0-48AF-9C23-5A44338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3914-5622-44CF-BEFF-11B9F07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73CF-06C7-4443-9651-07D24338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06A3-480A-49DE-AA5C-E86D5E9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08CE-9E83-4F48-B600-F0C4AD0A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A1854-950D-4D07-9ECC-5C6BBF6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9D09-DF3B-440B-B88E-9A625A8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64673-D2E8-4FAE-A71A-A4EA640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C5E1-9627-470C-89A2-CB0830E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F7455-8FC2-4886-AAF0-04A29708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227E-4E66-4A97-87CA-C137019E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E959-7EC0-4292-8FF7-11360D10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DD0A-4012-4F1C-9832-B91EB19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17D61-7F5B-4BA8-8AAE-C34C715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7C06-D9CF-42C1-A601-1E6AC5D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4FB1-BF3F-4276-AC09-25DC2F09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A01C-3CBB-43EC-B415-ACBFD9D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FE51-58BA-45A1-9141-8F61E024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49C4-D8FD-4C1E-9D82-201753C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7A6E-E5D4-4464-B51E-466C76E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ED261-081D-4117-8361-F38D147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7091-A2D7-40E0-A91B-70E716D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E8B3B-5F8F-45A1-A3EC-33B8BD99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4CC1-2E26-415A-8847-A6464DEF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C398-60FC-40FE-BB09-DA41F4F6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FF53-2728-46F2-B003-168941BE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82D7-B588-4330-AFFC-9118AFE1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DF6E3-F206-4DE0-864B-19BE934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2A2AC-6EB5-43E4-849C-54F272D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CA08A-D7FA-4C40-AF3D-EC94E8A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E88E4-DEC4-42D9-B80D-591E11D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5437-97BF-48E0-B576-5725C13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A267-C5AE-442E-A5EA-762989F1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6626-DF62-4D6A-9BDB-D746302E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47E7-E57A-47AD-8E8D-E567FEA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C5307-E55E-4EA3-9CDF-F0876EB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A04E-B13D-417B-A6C6-99974A1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5ACD6-409C-4499-8CFE-C24FDA08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B0C6-1861-4B66-B142-E4831C0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A371-86A3-4F03-8A08-DB01682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9F95-3165-440F-A2B1-CB6A0CDE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3201B-C3E8-48D5-A055-D31BBD8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0CB4-B61C-47FB-B818-AB61B9B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2E1C5-438A-45BD-80A6-195B638B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D323-6F70-444D-BDD0-1CACE9F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7E0C-D252-4DDF-A5B7-E322AEF6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C7AEE-38DA-4BC0-B4FC-52AB8A33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20AF-0845-434D-AC29-3DC26CB7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C933A-9B9C-4487-833F-700F74C0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96391-8761-4E0B-B23D-A61CCC74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B7AC-1742-4D1B-BF9E-6B7B60C6A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3CC-5BC8-4E48-812E-09735E3D3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1A7E-3861-4345-898E-1363A8943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DFD0-4CD1-4FB7-B7B0-D4D84BAC4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B40C-4031-4892-BFB0-499319FB0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40"/>
          </p:nvPr>
        </p:nvSpPr>
        <p:spPr>
          <a:xfrm>
            <a:off x="152352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5557-9AEB-4E60-930E-E294112CE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62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307-579A-4359-897F-E4BA4C782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4D1A-E7A3-42DB-A487-2C62E700E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DC55-C120-4096-96E4-69FE5E4788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983-3F5F-482A-A183-56D5DEF89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91B4-08A3-44CA-AFC7-6CC4F96548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7FA6-75A8-4668-8571-08FE06AFC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5F82-CEB9-4FCD-9301-A25A65E08C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B6C-915C-4EBE-94CC-F5AB1474FB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CDCC-5ABD-4446-A9A0-AF10CD4E9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1C35-BC28-4664-B792-A8246D293B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118-E610-498A-8F3A-6BFEF48C6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676160" y="1600200"/>
            <a:ext cx="6629400" cy="1349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roject Cost Management</a:t>
            </a:r>
            <a:endParaRPr b="0" lang="en-US" sz="3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767" name="Picture 5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295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240" y="566280"/>
            <a:ext cx="891540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Estimation Tools and Techniqu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ogou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p-down es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tual cost of a prev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similar project as the basis for estimating the cost of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urrent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81B4-C4A5-4B87-8340-C2B502F46E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ttom-up es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imating individual 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ems or activities an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ing them to get a project 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2B8C-F736-46E3-BC76-A6B66A4B8E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metric model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project characteristics (parameters) in a mathematical model to estimate project c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3C28-E92B-4F17-A7A9-5A87B6C8AE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A49E-28AF-4B51-9185-E85676D42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2000" y="152280"/>
            <a:ext cx="896796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Budge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240" y="1380600"/>
            <a:ext cx="4343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udgeting involv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ocating the project cost est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 work item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B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quired input to the cost budgeting process since it defines the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F923-8C1E-4867-AEFF-3E4915CE9E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276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B080-024E-4AE2-B3AE-E19378FEAB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2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15328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goal is to produc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aselin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-phased budget that project managers use to measure and monitor cost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estimating the costs by the particular period that the project would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ortant facet of the project management plan that companies use to ensur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0FD-EB03-4630-A7B3-A9F7BF1BFF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7-4: Surveyor Pro Project Cost Baselin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114-6663-4357-9FD5-5C3A596C41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7" descr="Fig07-04.bmp"/>
          <p:cNvPicPr/>
          <p:nvPr/>
        </p:nvPicPr>
        <p:blipFill>
          <a:blip r:embed="rId1"/>
          <a:srcRect l="0" t="0" r="0" b="19855"/>
          <a:stretch/>
        </p:blipFill>
        <p:spPr>
          <a:xfrm>
            <a:off x="228600" y="1828800"/>
            <a:ext cx="8534520" cy="32767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8"/>
          <p:cNvSpPr/>
          <p:nvPr/>
        </p:nvSpPr>
        <p:spPr>
          <a:xfrm>
            <a:off x="342360" y="5097600"/>
            <a:ext cx="70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Numbers are rounded, so some totals appear to be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600" y="6411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Control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cost control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o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ing that only appropriate project changes are included in a revised cost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ing project stakeholders of authorized changes to the project that will aff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E43-6794-460D-BB1E-C2DCE03CE5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39400" y="152280"/>
            <a:ext cx="905652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Earned Value Management (EVM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ject performance measurement technique that integrates scope, time, and co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iginal plan plus approved changes), you can determine how well the project is meeting i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enter actual information periodically to use E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BE5D-CA1B-43BD-A7D5-DD6F3462E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understa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project cos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uld explai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ject cost management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C6C-5CEC-46E7-9394-098D7A240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1AA-DE0D-4501-B036-457A9777FE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609480" y="0"/>
            <a:ext cx="83059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Rules of Thumb for Earned Value Number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s occurs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&lt;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 behind th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onsor benefit so the number shoul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oject over budget if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I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( 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2849-0088-454E-A329-FFF7378E6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o complete performance Index(TCPI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 jika dihitung dengan BAC untuk melihta apakah project anda masih bisa dijalankan atau tid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= (BAC-EV)/(BAC-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ka project anda sesuai dengan ren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 yang bernilai tinggi bearti budget anda sangat kec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562E-D216-4C25-8A49-5EE02E943F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 ( estimation on comple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= BAC/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= (BAC-EV)/(EAC-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uk mengetahui bagaimana agar project anda tidak memiliki budget yang ke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62E0-2D44-4CAD-990F-E0226610B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Management Pla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management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document that describes how the organization will manage cost variance on the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8D5-8F11-457C-88AB-120A21D60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toh soal :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dan Charles memiliki total budget sebesar Rp.10.000.000,- dan project yang mereka rencanakan sebesar 50%. Pekerjaan project mereka sebenarnya adalah 3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lah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 ( dalam R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cana yang sudah berjalan ( dalam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ya yang sudah berjalan (P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ya yang sebenarnya (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anda sesuai dengan jadwal atau tidak? (S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imana keuntungan sponsor ?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BAEA-A385-4010-953A-CC746DBA0B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Jawab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  = 10 juta rupi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Complete 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complete =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BAC X50% = Rp. 5 J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= BAC X 30% = Rp. 3 J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=EV/PV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da tertinggal jadwal yang anda perkir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 = EV-PV = -Rp.2 ju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DB4-CA34-4731-8643-256B158731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ost managemen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akness area of IT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eded for a project managers to improve their ability to deliver projects within approve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rocess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A2BF-7F21-41F5-A21C-10CAAF811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ugas kelompok :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ilah kelompok anda menjadi 2 buah kelomp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atlah estimasi biaya untuk project software anda berdasarkan wbs  yang telah anda buat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tuk project software yang s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apa total budget untuk software and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umpulkan tanggal 1 Desember  2011 paling lambat jam 12.00 wib di meja s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5B0-0D0F-46CC-87BF-20C9AE5B0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is Cost ?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given up i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measured in mon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CBC0-8A08-4E4A-8B19-45B89F12B7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24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is Project Cost Management?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0520" y="13716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required to ensure that the project is completed within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E2E-3DAE-499E-92E2-575F9F7D51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86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cesses: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64796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esti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of the costs of the resources needed to complete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CD19-F44E-43B6-B3E4-A73E4C7AF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"/>
          <p:cNvPicPr/>
          <p:nvPr/>
        </p:nvPicPr>
        <p:blipFill>
          <a:blip r:embed="rId1"/>
          <a:stretch/>
        </p:blipFill>
        <p:spPr>
          <a:xfrm>
            <a:off x="5486400" y="1370160"/>
            <a:ext cx="29145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8088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udge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the overall cost estimate to individual work items to establish a baseline for measur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8FE4-1D40-4E68-9DCA-5B53C6422E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000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0880" y="167616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changes to the project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B74-3FF1-4C5F-BCF5-218C2BB235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rcRect l="2498" t="6669" r="12502" b="0"/>
          <a:stretch/>
        </p:blipFill>
        <p:spPr>
          <a:xfrm>
            <a:off x="3581280" y="1752480"/>
            <a:ext cx="5181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Estima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managers shoul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st estimates serious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f they want to complete projects withi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udget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B6A-C112-4F3F-A008-57AF6EF40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components that u for estimating cost for your project?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work ( if you have).. As a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 holder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baseline ( wbs, milestone, project char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523-FD6F-445C-AC88-4F1EF1B668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23:10:12Z</dcterms:created>
  <dc:creator>Course Technology</dc:creator>
  <dc:description/>
  <dc:language>en-US</dc:language>
  <cp:lastModifiedBy>admin</cp:lastModifiedBy>
  <dcterms:modified xsi:type="dcterms:W3CDTF">2011-11-15T01:43:51Z</dcterms:modified>
  <cp:revision>154</cp:revision>
  <dc:subject/>
  <dc:title>Chapter 7</dc:title>
</cp:coreProperties>
</file>