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dt" idx="51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ftr" idx="52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 type="sldNum" idx="53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A4C9-3C5C-407E-9213-0E9F59A6B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Slide Number Placeholder 3"/>
          <p:cNvSpPr/>
          <p:nvPr/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334F-A0D9-4165-AD5F-4E6F0880C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A8B06-2135-4E7D-95DF-5BF4683D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46914-C4C5-49ED-8977-A1D0E960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D98E1-FDBA-4112-8EC0-B1DABAE8C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FC04-0E2D-447C-9486-144B7D45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93DCD-BE27-4ED3-A6F9-7C886EC1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89736-FAED-455D-AFF0-126FE933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1AE78-0B4E-44DC-9B85-E42B165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596EC-3988-4CF8-A7D2-F5816A58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DCC1A-39E3-4A1C-AC2D-924A1312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E6840-21D8-4A16-9F13-12046DE8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E632A-D352-4D80-8190-7E7B14172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4662A-6590-4828-9DF8-66343D5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25910D-94B5-42F6-9A7A-006977AA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0DF5A-1EB9-4246-91BB-BB4B07DE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92AC8-AA09-45B9-8ACA-FB63C048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316CC5-D9B8-45C4-99B8-14D2B503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D6A30-6907-4982-A26A-F19454BE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FE5A3-A234-4E12-8E9F-852E837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02724-1539-40F4-A03F-ADE8EE239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65AC9-5401-4FF3-A318-2EE5CA24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C2B14-0DA0-4E19-827C-80DE87DB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22237-62F6-49DD-80F1-0F5A0C7E8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064BC-B353-4A5C-8E6D-01AB9689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27613-01D2-4BEC-AB35-43C34229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492939-D6EE-46DD-9690-34EFBDA4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01B71-B600-49B5-B18B-65EC0970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704BB5-B1B4-46B4-8A12-29D0E0821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42066E-7D6F-4D9A-888B-1C3E2584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2CF5E-C054-46FF-AD88-E87268CD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73557-363B-4947-86AE-5E26C22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2B49-140B-43ED-ABC0-EB5FD1E0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CFD50-E220-48A7-9A3E-6A91607D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132274-B800-40B2-9B24-455E2BC3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05CCFE-D661-4D45-A66A-9AD523B2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FE422-C9AB-4016-B4D2-3F974735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1F0AE-7CF2-4489-8861-24C74EE60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6B8C24-D52D-4F64-AE69-D2A9D76E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F46E0-BDAD-4C83-B105-3CB4B425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A7597-F57D-4AB3-9854-CD5BBA05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C8DB1-A975-4DA1-8B78-9F8C44B3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77690-D4F8-4E8C-AED3-4AA75840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250-82DF-4242-882A-871B18726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186D8-D70D-492C-AB4E-FAECF9B8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057DB-5326-4DB4-BCBF-451208F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67EB7-29D2-4DCA-B41A-B34CD5B8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59B23-C3D6-4BB8-A87B-02DC3F9D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A0C7E-F800-4103-BD47-170FD4B6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922D8-FB97-4BCB-B1AC-246F948B2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5356C-95B4-4D33-960B-122EF2D5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A367B-9F68-4618-B2D6-EB7255DBB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F09B0-6FBA-42CA-B7AD-4A185673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DD357-377B-440A-907B-15739939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60E9-7128-4DFD-B4C7-38ABD1A2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052C6-FCD7-4488-96D6-20C6E66B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3E6B1-6BD3-4E0E-BC07-08BCE56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B30E06-FE52-4B00-B085-E50D721E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668714-BB66-4CFD-B673-B14AAEE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1F0354-13C4-4551-9437-AD473E6A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8AA06-0B1E-4D9E-89A7-B2954FFC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624E3-7C2D-41A7-B2C0-3D63A2A91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8B7CF7-21FE-4EEE-81BB-D264DE33E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260C8-4178-4F69-8D3F-2924E0B2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FE384-C481-44E7-A68D-546221A2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D49-2821-4D7C-914A-A34A8FF6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915483-4DE1-49C9-88B5-B30C56EE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64D9E-B912-437C-A3EC-05C3A9C3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5C9771-4B93-41C1-AE28-903A3EBD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CE22C-ED36-46D0-B065-1F2C2A90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D50D0-FD50-44CC-88BE-2371CA35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AC2683-3A61-4643-B9C7-C4F6CDB1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B59BFC-60BE-4116-98A4-9B6A397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9F739D-6946-4DB2-8494-74E1D686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8E380-252F-4796-BBDE-A5CA6D34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A5BFDD-2EA0-46C4-BB9F-49CB7F2557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6EA-C1A2-43B4-956A-49E8413C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986F72C-84FC-4FD2-93EF-CA9B6912032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7F99FF-A5AF-4085-8454-474DFC2FF89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9F132B6-0D97-4E8C-9C86-EC6A32D088E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8E61AD-1526-4FC5-B96B-C85E70C96404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353C01-5D57-468C-9DDC-162C6F08C37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01477E0-3126-421C-9AED-0C19D1EB8FB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15A19B-85AB-473B-AA9A-DD801F9E6E4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B40241-D37D-4921-90F3-B59B4FF41A6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48B3995-D530-4289-BDE6-8E085DBD8E4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4C139A-51F8-4202-BF8D-D96788EE72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ACA-7790-4366-B378-1A4C73C2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B2A461-9993-411B-8E33-542495DB9EB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E8A767-344F-4288-BE80-113B36BA2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C9626D-633B-430A-A090-F0C5523D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674A0B-C343-4576-8C1B-DE9728A5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A002F5-6DB2-4EFE-91F0-0792BD97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1A890D-6B54-41A5-B76A-5FC05D6C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F7BB6D-0175-4826-83F5-2F62CA66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99472A-2D41-4D70-A6C8-FB383F85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640A66B-9DAA-4700-A5AA-ACC66F7A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0E6399-C7B1-4602-BFAB-3A36E8DA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177F-F0E2-4AB1-9B39-59060048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AA3BE2-A24E-439A-837B-ECA29D72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57708D-0455-4BF8-B101-FD9D5E9DA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FF8DE8E-5F6F-4AA9-B679-3FD2A674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F5F364-9661-49E1-9A4E-1C4EBC2F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4F041FE-04F9-4685-B941-ECE8997F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B380CF4-C23E-4D7B-AA78-750BE4DE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1B3320D-F97C-48D1-8298-B6F3B6A9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D05697-FBBC-41D0-A820-84D18E97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8D9518-DE11-4FEB-8AD4-210026D6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8CE721-D42B-4DF1-BDF7-887B5899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7AA-3709-4DF1-9EB9-5201E6F9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A22895-C50E-45B2-A34B-22FE2DCA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B1604A-4A9F-4DEE-A22A-461D5C7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FF734F-E2BE-4E1C-BB60-0B2AD328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5AAAE59-C1E5-40C4-97EA-4331A452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67DFC4-8D5B-429C-88D0-CDA00F4F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0DC328-3930-40D2-B15D-696ACB27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D912E9-78AE-40DC-A3FF-85725E49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2F30D7-638B-4D2B-98AA-46B3C8E8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E766D69-C6E5-40A6-8929-0FF63CC1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7C4151E-4421-4C32-9A57-95F66375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29A4-70F5-409C-B17A-5698FC00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A27599-1067-4D2A-9DEF-EEBAF249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1DFD395-D5B6-4AF2-80C9-ABEA5CC6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703A59-EA6E-4DA3-B93C-A22441B4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C4E3CBB-B784-443C-8D30-BA33A056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5961ADC-8457-4405-8892-A8C5FBE4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9A3840E-DA78-466B-AC9C-B7376EFB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6824368-5D01-45E5-9001-0BF54678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967-CA0F-4CD5-8D12-6EF7B220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8A8-2DD1-416F-8F92-C975A893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CEF7-0F8F-48A2-BAAF-CA871A1D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E8CD-335F-4FB5-A2E9-1D9DC17E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9296-626C-4118-8F6D-F9788D9A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2D9B-DFB5-4FEF-A011-81924FDD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EFDC-52FF-4BD5-8A2B-10FE3E77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5A35-3284-49EA-A06C-26589715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B055-6003-48CE-B7B4-ABC63922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3BBF-ACA9-47DA-8585-2AC2A900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648A-7E97-49B6-843A-54D2DD36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95B0-4845-4B00-AB30-4F9BECCD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58E2-2E46-45BD-ACBC-594A69FE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35A0-36FC-47B9-ABBA-B6B21DEC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0D98-F45F-4A80-A474-A9594168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0F3B-B1AB-4698-A4C6-92E06165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C657-FBA3-42D6-89E4-BEDE9DE0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30AC0-C79C-47FE-878D-1FED9AF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BA5B8-472B-46D8-A0C9-60732D3A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A47C-DFF0-46C7-9BD1-5DD98137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58F2-ABFD-4846-9557-15B2D1498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419C-EBD1-4094-93F6-7FF586AB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1DD44-44D5-4131-A318-D23796CC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7D209-7B99-4B9C-88F1-8C044861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2E5FC-209A-4BCC-B729-393F676C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092E1-714E-4835-99BF-9FD64E036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56CDC-0093-4E96-99EB-6BFE4931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A2991-A7EB-4680-AB8E-E3DEADB7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9EE15-39A1-4ABE-B875-77CD6028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116C2-E9FF-42DD-9774-DA9ACA65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921AD-A1FF-4759-8B9E-B3D3E939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36FA-16CE-4D25-87F9-786E43B6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FB28-213B-4304-9115-8164C0E9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FFB94-D360-4DFD-8437-F3C4931B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7A65-65AA-4C47-AB65-60473F6C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598AE-4ABF-4D77-AFFA-4BC82275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CE67C-01FA-45F6-9A72-2B6B9AC6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ACE4C-0BC8-4080-A4D5-B8D43CE5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8356-7007-4480-B115-95D17008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E6007-E5B8-4C59-BEA2-E5914331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530EE-FD48-4014-8ED8-73D2B84C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C52E4-EA09-400A-BB4C-8D821486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C900E-1942-4115-A4A8-E6946012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51D1-C6E7-4F09-BCB5-F7E3A0A4E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05D66-A4A8-46D9-A0C2-42EC5F0C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106AA-FFC0-41CE-A05E-0D068471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766F5-604A-4901-A623-D8DB1634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0B307-9C7E-4F18-A0EC-5644D997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052AE-E5D9-4CE9-A689-F4294BAD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60168-F2D0-4B75-8640-C2E8BD9D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23778-5C72-4C85-AC8C-BFAF9712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540C8-9222-4066-8D88-9796C9EE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E0FCB-7CDC-4C5E-B587-038CA486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4BCC6-812A-4A83-923D-0D0FC2AA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CDCC1-B21D-4883-B369-606C91E1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1E3C8-FD27-4D04-9FB2-36D6F7BB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69873-4AE4-4EEA-A40B-A4BB31A9B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58BEE-4DD8-45CE-953D-7A6373B8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49A0A-4E30-4486-828C-41491182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FD486-1E91-4501-AFA1-913D230F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60A02-E2CE-41C8-A793-B4726799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DAC79-4F29-4E2F-B62F-443B6140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877A1-E8AB-4F61-981D-65C3D633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B5286-2BF0-42C9-B789-6DCA94128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AFFFB-28F1-4F8F-BC63-5DF0F01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1B7FF-79C5-4EBA-BB38-30F1F8E0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81E6E-E376-4A43-9E2A-9F2955CC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F2E12-43A1-4F85-9EDB-3E9D3C93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8E59E4-5993-4019-A2A0-EF2824DC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6C91A-5507-4CC0-A52A-E1BBE584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3D4DD-EC81-4613-AA71-BD85DECE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6C869-E357-4C34-AFD0-861E3F33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0F0A6-4CE4-42C9-957F-3D406579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4D84C-B944-42CC-8B67-BB8A1B16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B33C8-49BD-4B6C-A233-2DFF6DC2E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4E496-96B5-4585-BE80-CAA635D78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A76E8-19FE-4EC7-AB71-A3FE4B20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23B207-A4E2-41A1-A0CC-5030FDEC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803E-6552-4AAE-A3E8-37C79BC220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78E8-0892-4FB4-90AF-7A3C766C66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2349-9CA3-4DF3-8D64-01BE5F53DF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02BD-C406-4B4D-8B6B-B9961A65A0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0832-E87C-4A19-A963-95F7C3506E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ftr" idx="40"/>
          </p:nvPr>
        </p:nvSpPr>
        <p:spPr>
          <a:xfrm>
            <a:off x="1523520" y="640080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sldNum" idx="4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63EF-B798-4B1C-B86F-6E12F0C94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622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CA71-AA13-4F3D-B784-BAFC235C0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dt" idx="4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ftr" idx="4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 type="sldNum" idx="4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ED28-4D91-40A2-883A-62F2D54CE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d8a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cf6d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4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49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50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0BB10-1DAA-4A8A-BD29-FC9A301607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575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22240" indent="-228600">
              <a:spcBef>
                <a:spcPts val="575"/>
              </a:spcBef>
              <a:buClr>
                <a:srgbClr val="d8afb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096920" indent="-228600">
              <a:spcBef>
                <a:spcPts val="575"/>
              </a:spcBef>
              <a:buClr>
                <a:srgbClr val="de6c3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575"/>
              </a:spcBef>
              <a:buClr>
                <a:srgbClr val="de6c36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>
              <a:lnSpc>
                <a:spcPct val="90000"/>
              </a:lnSpc>
              <a:spcBef>
                <a:spcPts val="349"/>
              </a:spcBef>
              <a:buClr>
                <a:srgbClr val="b13f9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3f9a"/>
                </a:solidFill>
                <a:latin typeface="Times New Roman"/>
              </a:rPr>
              <a:t>Information Technology Project Management, Fifth Edition, Copyright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b83d68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ctr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A17B-9FA2-405E-A82B-9B58C81E4E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08FA-3D8A-487E-A73A-639C614098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A500-355D-4B65-ABAD-2D0F6B1214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D6FE9-E17E-4DD4-A24B-039C32ECFA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2B02-334A-481E-9FB8-189338EED03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54A9-B2A5-4746-A864-04E949A02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DD88-9988-468D-B0BC-8D64EBD93D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Technology Project Management, Fifth Edition, Copyright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9394-D67A-44AA-ADAC-59A0515EDD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676160" y="1600200"/>
            <a:ext cx="6629400" cy="13492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Rounded MT Bold"/>
              </a:rPr>
              <a:t>Project Cost Management</a:t>
            </a:r>
            <a:endParaRPr b="0" lang="en-US" sz="3000" spc="-1" strike="noStrike">
              <a:solidFill>
                <a:srgbClr val="b13f9a"/>
              </a:solidFill>
              <a:latin typeface="Arial"/>
            </a:endParaRPr>
          </a:p>
        </p:txBody>
      </p:sp>
      <p:pic>
        <p:nvPicPr>
          <p:cNvPr id="767" name="Picture 5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32958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28240" y="566280"/>
            <a:ext cx="8915400" cy="652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Estimation Tools and Techniqu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alogous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top-down es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actual cost of a previ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similar project as the basis for estimating the cost of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he current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158B-45C7-4750-8C63-6420A11375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ttom-up estimat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ol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stimating individual wor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tems or activities and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summing them to get a project to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C0A7-CD62-458A-B538-A9D8300AB7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metric modeling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s project characteristics (parameters) in a mathematical model to estimate project cos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2611-768B-438A-AF7A-6771AD120B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3EA7-F0EB-45B9-B404-82B2ECA8DB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632448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52000" y="152280"/>
            <a:ext cx="896796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Budget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240" y="1380600"/>
            <a:ext cx="43434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budgeting involve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llocating the project cost estim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vidual work item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BS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equired input to the cost budgeting process since it defines the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FC2C-1759-49BD-B5D1-5DACB07AEE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5" descr=""/>
          <p:cNvPicPr/>
          <p:nvPr/>
        </p:nvPicPr>
        <p:blipFill>
          <a:blip r:embed="rId1"/>
          <a:stretch/>
        </p:blipFill>
        <p:spPr>
          <a:xfrm>
            <a:off x="5257800" y="1447920"/>
            <a:ext cx="3276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BB4-1B95-42EB-885D-B1102C9DC0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Picture 2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8153280" cy="666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mportant goal is to produc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bas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baselin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ime-phased budget that project managers use to measure and monitor cost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by estimating the costs by the particular period that the project would be compl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mportant facet of the project management plan that companies use to ensure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DAC1-605C-47A0-B119-D0EE929F15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Figure 7-4: Surveyor Pro Project Cost Baseline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F82A-5AFC-4C51-9BAB-8213DCABC5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Picture 7" descr="Fig07-04.bmp"/>
          <p:cNvPicPr/>
          <p:nvPr/>
        </p:nvPicPr>
        <p:blipFill>
          <a:blip r:embed="rId1"/>
          <a:srcRect l="0" t="0" r="0" b="19855"/>
          <a:stretch/>
        </p:blipFill>
        <p:spPr>
          <a:xfrm>
            <a:off x="228600" y="1828800"/>
            <a:ext cx="8534520" cy="3276720"/>
          </a:xfrm>
          <a:prstGeom prst="rect">
            <a:avLst/>
          </a:prstGeom>
          <a:ln w="0">
            <a:noFill/>
          </a:ln>
        </p:spPr>
      </p:pic>
      <p:sp>
        <p:nvSpPr>
          <p:cNvPr id="824" name="TextBox 8"/>
          <p:cNvSpPr/>
          <p:nvPr/>
        </p:nvSpPr>
        <p:spPr>
          <a:xfrm>
            <a:off x="342360" y="5097600"/>
            <a:ext cx="70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Numbers are rounded, so some totals appear to be of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28600" y="641160"/>
            <a:ext cx="8229600" cy="5778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Control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cost control includ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cost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ing that only appropriate project changes are included in a revised cost bas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ing project stakeholders of authorized changes to the project that will affect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6670-A136-4D72-9110-9D7EF3AE52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39400" y="152280"/>
            <a:ext cx="9056520" cy="106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Earned Value Management (EVM)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oject performance measurement technique that integrates scope, time, and cos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iginal plan plus approved changes), you can determine how well the project is meeting its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enter actual information periodically to use E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FC98-4967-49FE-A28F-B774CB3BD2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Learning Objective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understand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ortance of project cos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ould explain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ic project cost management princi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2C5F-B3D8-4603-889B-E7ED6A406F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73F3-C3E6-4F33-82C5-AA1D02708C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1"/>
          <a:stretch/>
        </p:blipFill>
        <p:spPr>
          <a:xfrm>
            <a:off x="609480" y="0"/>
            <a:ext cx="83059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Rules of Thumb for Earned Value Numbers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blems occurs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&lt;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 behind th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onsor benefit so the number should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roject over budget if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I&lt;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 ( 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7F69-8916-4051-99AB-0A1C3957E8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o complete performance Index(TCPI)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 jika dihitung dengan BAC untuk melihta apakah project anda masih bisa dijalankan atau tida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= (BAC-EV)/(BAC-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ka project anda sesuai dengan rencan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 yang bernilai tinggi bearti budget anda sangat keci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A47A-9E84-4809-A94E-96FA625BB4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 ( estimation on comple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= BAC/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I= (BAC-EV)/(EAC-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tuk mengetahui bagaimana agar project anda tidak memiliki budget yang kec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AF2-E191-41A6-ADE6-B2509251EA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Management Plan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management pl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document that describes how the organization will manage cost variance on the proj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7809-3A8A-435A-9AB7-E91447250E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ntoh soal :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es dan Charles memiliki total budget sebesar Rp.10.000.000,- dan project yang mereka rencanakan sebesar 50%. Pekerjaan project mereka sebenarnya adalah 3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unglah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 ( dalam Rp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cana yang sudah berjalan ( dalam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ya yang sudah berjalan (P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aya yang sebenarnya (E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kah anda sesuai dengan jadwal atau tidak? (S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imana keuntungan sponsor ?(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19840" indent="-21708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C85F-3D0E-46E4-8B55-15555EED60E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Jawab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  = 10 juta rupia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ed Complete =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al complete =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 = BAC X50% = Rp. 5 J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= BAC X 30% = Rp. 3 J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=EV/PV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anda tertinggal jadwal yang anda perkirak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V = EV-PV = -Rp.2 jut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52B2-3194-432B-8337-1D8AB5684F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hapter Summary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cost managemen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akness area of IT project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eded for a project managers to improve their ability to deliver projects within approve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rocesses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estim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budg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374"/>
              </a:spcBef>
              <a:buClr>
                <a:srgbClr val="ac66b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65B0-D49A-4565-AADB-DE0E28FC01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Tugas kelompok :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gilah kelompok anda menjadi 2 buah kelomp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atlah estimasi biaya untuk project software anda berdasarkan wbs  yang telah anda buat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tuk project software yang s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apa total budget untuk software and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umpulkan tanggal 1 Desember  2011 paling lambat jam 12.00 wib di meja sa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lide Number Placeholder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61D8-7F53-48A8-86E5-890A459FD6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What is Cost ? 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hing given up in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usually measured in mon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895E9-45DF-457E-B256-8A76621F187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924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What is Project Cost Management?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380520" y="137160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required to ensure that the project is completed within a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oved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F562-18B1-4094-BB48-004CD40AFB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2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286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Processes: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464796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estima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of the costs of the resources needed to complete a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6996-1F9E-4995-8959-295D7DA6B7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6" descr=""/>
          <p:cNvPicPr/>
          <p:nvPr/>
        </p:nvPicPr>
        <p:blipFill>
          <a:blip r:embed="rId1"/>
          <a:stretch/>
        </p:blipFill>
        <p:spPr>
          <a:xfrm>
            <a:off x="5486400" y="1370160"/>
            <a:ext cx="2914560" cy="38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80880" y="205740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t budge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ing the overall cost estimate to individual work items to establish a baseline for measuring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360D-7DCB-4844-A888-48B76BAD04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Picture 5" descr=""/>
          <p:cNvPicPr/>
          <p:nvPr/>
        </p:nvPicPr>
        <p:blipFill>
          <a:blip r:embed="rId1"/>
          <a:stretch/>
        </p:blipFill>
        <p:spPr>
          <a:xfrm>
            <a:off x="4800600" y="2209680"/>
            <a:ext cx="40006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0880" y="167616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 contr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changes to the project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D169-4B80-494E-BCD8-31C430965C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1"/>
          <a:srcRect l="2498" t="6669" r="12502" b="0"/>
          <a:stretch/>
        </p:blipFill>
        <p:spPr>
          <a:xfrm>
            <a:off x="3581280" y="1752480"/>
            <a:ext cx="51818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Cost Estimating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managers shoul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ost estimates seriously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f they want to complete projects within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udget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5E84-2DE6-4345-8E7C-DA1A81FE4A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13f9a"/>
                </a:solidFill>
                <a:latin typeface="Arial"/>
              </a:rPr>
              <a:t>What components that u for estimating cost for your project?</a:t>
            </a:r>
            <a:endParaRPr b="0" lang="en-US" sz="4000" spc="-1" strike="noStrike">
              <a:solidFill>
                <a:srgbClr val="b13f9a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808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work ( if you have).. As a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ke holder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575"/>
              </a:spcBef>
              <a:buClr>
                <a:srgbClr val="b83d68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pe baseline ( wbs, milestone, project char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C081-7C45-45F9-AFFC-F28C7984F1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5T23:10:12Z</dcterms:created>
  <dc:creator>Course Technology</dc:creator>
  <dc:description/>
  <dc:language>en-US</dc:language>
  <cp:lastModifiedBy>admin</cp:lastModifiedBy>
  <dcterms:modified xsi:type="dcterms:W3CDTF">2011-11-15T01:43:51Z</dcterms:modified>
  <cp:revision>154</cp:revision>
  <dc:subject/>
  <dc:title>Chapter 7</dc:title>
</cp:coreProperties>
</file>