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jpeg" ContentType="image/jpeg"/>
  <Override PartName="/ppt/media/image9.gif" ContentType="image/gif"/>
  <Override PartName="/ppt/media/image8.jpeg" ContentType="image/jpeg"/>
  <Override PartName="/ppt/media/image7.gif" ContentType="image/gif"/>
  <Override PartName="/ppt/media/image5.jpeg" ContentType="image/jpeg"/>
  <Override PartName="/ppt/media/image20.gif" ContentType="image/gif"/>
  <Override PartName="/ppt/media/image18.jpeg" ContentType="image/jpeg"/>
  <Override PartName="/ppt/media/image3.gif" ContentType="image/gif"/>
  <Override PartName="/ppt/media/image19.jpeg" ContentType="image/jpeg"/>
  <Override PartName="/ppt/media/image1.jpeg" ContentType="image/jpeg"/>
  <Override PartName="/ppt/media/image17.gif" ContentType="image/gif"/>
  <Override PartName="/ppt/media/image15.gif" ContentType="image/gif"/>
  <Override PartName="/ppt/media/image14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6FB1-E9ED-450C-8445-C85128AF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712-1B1A-493B-92A3-3EEC82AC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B0D-590B-4829-8788-765DDF34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300-9214-42FB-B609-A96391A2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AA348-2792-41C4-97F7-AAF7A4F3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97717-E2C0-4322-AEE2-EB4AE74F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D20D4-133A-4D57-AE43-DBC4B981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53D71-7B25-4FA5-A97F-0538F1BA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B6D15-C537-4968-8F26-A9E44EF0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8C943-446B-4044-A3AF-02F02A08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54D07-F23C-424A-9C98-B59DCC1A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45E-8552-424D-BD76-63A99E7A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BC545-90AF-4737-8F8E-9578F4E5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5BA86-EFAF-4FF8-9BA0-CEF26DC7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10108-C5D1-4793-9038-58810390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9B7C4-DB4E-4FEB-811D-EAEA4107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0CD87-0B2B-4E31-8FC9-25584D7C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160A-8CF2-4AF3-A33A-83C85A9E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C98-F978-4BDF-AACC-22E6C289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AD5-A502-4A8B-8BC3-BAC542DA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A81-6599-4A34-A309-D8125BF6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35C3-25C7-4A62-9871-A1FEFD5F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864-0EAF-4CDF-92A4-E8C8C03B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6E7-9B80-4421-8A6C-7D7F5E6B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600E-F814-4BEB-9ABF-C34B5BB2F5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177F-F127-42A4-BF90-8F093C550A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image" Target="../media/image14.jpeg"/><Relationship Id="rId5" Type="http://schemas.openxmlformats.org/officeDocument/2006/relationships/image" Target="../media/image15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image" Target="../media/image16.jpe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image" Target="../media/image18.jpe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19.jpeg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77080" y="1557360"/>
            <a:ext cx="398520" cy="398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63640" y="620640"/>
            <a:ext cx="6429600" cy="857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666699">
              <a:alpha val="87000"/>
            </a:srgbClr>
          </a:solidFill>
          <a:ln w="0">
            <a:noFill/>
          </a:ln>
          <a:effectLst>
            <a:outerShdw dist="153753" dir="2700000" blurRad="0" rotWithShape="0">
              <a:srgbClr val="3c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826920" y="836640"/>
            <a:ext cx="7344000" cy="5059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92000" y="5949360"/>
            <a:ext cx="35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ik wil mijn ziel wat laten varen,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iet mijn lijf en mijn verstan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56000" y="1916280"/>
            <a:ext cx="308592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 zee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powerpointsite-bep.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de by bep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6429600" cy="857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77080" y="1557360"/>
            <a:ext cx="398520" cy="398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900000" y="907920"/>
            <a:ext cx="7344000" cy="5032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09800" y="5949360"/>
            <a:ext cx="37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Tahoma"/>
              </a:rPr>
              <a:t>Ik wil alleen zijn met de zee,</a:t>
            </a:r>
            <a:br>
              <a:rPr sz="1800"/>
            </a:br>
            <a:r>
              <a:rPr b="1" i="1" lang="en-US" sz="1800" spc="-1" strike="noStrike">
                <a:solidFill>
                  <a:srgbClr val="010199"/>
                </a:solidFill>
                <a:latin typeface="Tahoma"/>
              </a:rPr>
              <a:t>ik wil alleen zijn met het stran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227640" y="3141720"/>
            <a:ext cx="662040" cy="93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2556000" y="1700280"/>
            <a:ext cx="1285920" cy="81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powerpointsite-bep.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de by bep</a:t>
            </a: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6429600" cy="857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877080" y="1557360"/>
            <a:ext cx="398520" cy="398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00ccff"/>
          </a:solidFill>
          <a:ln w="0">
            <a:noFill/>
          </a:ln>
          <a:effectLst>
            <a:outerShdw dist="153753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00000" y="907920"/>
            <a:ext cx="7344000" cy="5042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622240" y="5949360"/>
            <a:ext cx="37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Ik wil gewoon een beetje dromen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rond de dingen die ik vo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580000" y="1125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476360" y="1773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3492360" y="242100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powerpointsite-bep.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de by bep</a:t>
            </a: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6429600" cy="857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77080" y="1557360"/>
            <a:ext cx="398520" cy="398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98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900000" y="907920"/>
            <a:ext cx="7344000" cy="5042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386800" y="5949360"/>
            <a:ext cx="32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ahoma"/>
              </a:rPr>
              <a:t>en de zee, ik weet het zeker,</a:t>
            </a:r>
            <a:br>
              <a:rPr sz="1800"/>
            </a:br>
            <a:r>
              <a:rPr b="1" i="1" lang="en-US" sz="1800" spc="-1" strike="noStrike">
                <a:solidFill>
                  <a:srgbClr val="800080"/>
                </a:solidFill>
                <a:latin typeface="Tahoma"/>
              </a:rPr>
              <a:t>dat ze weet wat ik bedoe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powerpointsite-bep.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de by bep</a:t>
            </a: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6429600" cy="857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877080" y="1557360"/>
            <a:ext cx="398520" cy="398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900000" y="907920"/>
            <a:ext cx="7344000" cy="5042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827080" y="594936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00"/>
                </a:solidFill>
                <a:latin typeface="Tahoma"/>
              </a:rPr>
              <a:t>Ik wil alleen zijn met de golven,</a:t>
            </a:r>
            <a:br>
              <a:rPr sz="1800"/>
            </a:br>
            <a:r>
              <a:rPr b="1" i="1" lang="en-US" sz="1800" spc="-1" strike="noStrike">
                <a:solidFill>
                  <a:srgbClr val="993300"/>
                </a:solidFill>
                <a:latin typeface="Tahoma"/>
              </a:rPr>
              <a:t>'k wil alleen zijn met de luch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651640" y="4076640"/>
            <a:ext cx="792000" cy="69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powerpointsite-bep.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de by bep</a:t>
            </a: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6429600" cy="857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877080" y="1557360"/>
            <a:ext cx="398520" cy="398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900000" y="907920"/>
            <a:ext cx="7344000" cy="5043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875320" y="5949360"/>
            <a:ext cx="35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00"/>
                </a:solidFill>
                <a:latin typeface="Tahoma"/>
              </a:rPr>
              <a:t>ik wil luist'ren naar mijn adem,</a:t>
            </a:r>
            <a:br>
              <a:rPr sz="1800"/>
            </a:br>
            <a:r>
              <a:rPr b="1" i="1" lang="en-US" sz="1800" spc="-1" strike="noStrike">
                <a:solidFill>
                  <a:srgbClr val="333300"/>
                </a:solidFill>
                <a:latin typeface="Tahoma"/>
              </a:rPr>
              <a:t>ik wil luisteren naar mijn zu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4427640" y="3860640"/>
            <a:ext cx="628560" cy="865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867280" y="1197000"/>
            <a:ext cx="1285920" cy="81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powerpointsite-bep.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de by bep</a:t>
            </a: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6429600" cy="857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877080" y="1557360"/>
            <a:ext cx="398520" cy="398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33cccc">
              <a:alpha val="89000"/>
            </a:srgbClr>
          </a:solidFill>
          <a:ln w="0">
            <a:noFill/>
          </a:ln>
          <a:effectLst>
            <a:outerShdw dist="153753" dir="2700000" blurRad="0" rotWithShape="0">
              <a:srgbClr val="1e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900000" y="907920"/>
            <a:ext cx="7344000" cy="5042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7760" y="594936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ahoma"/>
              </a:rPr>
              <a:t>Ik wil luist'ren naar mijn zwijgen,</a:t>
            </a:r>
            <a:br>
              <a:rPr sz="1800"/>
            </a:br>
            <a:r>
              <a:rPr b="1" i="1" lang="en-US" sz="1800" spc="-1" strike="noStrike">
                <a:solidFill>
                  <a:srgbClr val="000099"/>
                </a:solidFill>
                <a:latin typeface="Tahoma"/>
              </a:rPr>
              <a:t>daarna zal ik verder ga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523880" y="3284640"/>
            <a:ext cx="201600" cy="3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powerpointsite-bep.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de by bep</a:t>
            </a: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6429600" cy="85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877080" y="1557360"/>
            <a:ext cx="398520" cy="398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900000" y="907920"/>
            <a:ext cx="7344000" cy="5042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0200" y="5949360"/>
            <a:ext cx="342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en de zee, ik weet het zeker,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al mijn zwijgen wel verstaa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661000" y="3645000"/>
            <a:ext cx="358920" cy="50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powerpointsite-bep.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de by bep</a:t>
            </a: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77080" y="1557360"/>
            <a:ext cx="398520" cy="398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763640" y="620640"/>
            <a:ext cx="6429600" cy="857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336699"/>
          </a:solidFill>
          <a:ln w="0">
            <a:noFill/>
          </a:ln>
          <a:effectLst>
            <a:outerShdw dist="153753" dir="2700000" blurRad="0" rotWithShape="0">
              <a:srgbClr val="1e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900000" y="907920"/>
            <a:ext cx="7344000" cy="5059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powerpointsite-bep.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de by bep</a:t>
            </a: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000"/>
                            </p:stCondLst>
                            <p:childTnLst>
                              <p:par>
                                <p:cTn id="236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2T19:36:21Z</dcterms:created>
  <dc:creator>PowerpointSite-Bep.nl</dc:creator>
  <dc:description/>
  <dc:language>en-US</dc:language>
  <cp:lastModifiedBy>Smets</cp:lastModifiedBy>
  <dcterms:modified xsi:type="dcterms:W3CDTF">2009-01-29T20:08:09Z</dcterms:modified>
  <cp:revision>9</cp:revision>
  <dc:subject/>
  <dc:title>Dia 1</dc:title>
</cp:coreProperties>
</file>