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0349-9F54-4B81-B345-3B0DFAB28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3A43-D402-4423-8790-8489E57EF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FD60-47BA-47CB-A2CC-F980E4073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6802-258D-43D6-84D7-3B7F9A036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B23C-C0A2-4E92-A6CB-2FE3FBADD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EA0A-0893-49DB-B30A-CFEC82E74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3D03-29BC-4658-B690-FFDECAB9C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D829-F9D9-49F2-A17C-6C72DA875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D96A-588A-4ACE-8319-F6F3F2821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CBC9-C1D2-4609-A3BA-DE24B778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0949-E5C1-4779-93C1-67325C0F0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4911-BB5A-40DC-BB61-4654FE25B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7800BC-4DB7-4030-BFFF-EC997F9E05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4E6445-8FAD-4EB4-B136-581385408F2A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image" Target="../media/image2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2.png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5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8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9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0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/>
            <p:cNvPicPr/>
            <p:nvPr/>
          </p:nvPicPr>
          <p:blipFill>
            <a:blip r:embed="rId4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5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08:29:15Z</dcterms:created>
  <dc:creator>최봉수</dc:creator>
  <dc:description/>
  <dc:language>en-US</dc:language>
  <cp:lastModifiedBy>군만두 맛있다</cp:lastModifiedBy>
  <dcterms:modified xsi:type="dcterms:W3CDTF">2023-07-12T04:08:12Z</dcterms:modified>
  <cp:revision>2</cp:revision>
  <dc:subject/>
  <dc:title>슬라이드 1</dc:title>
</cp:coreProperties>
</file>