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B67-EA08-44D5-B91E-35B0F091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8814-13F3-4DB4-8614-2C87F094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691-C8C3-4A06-8F89-AD88BDCA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3B9-89DC-4B2D-A19C-E9FFC61D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9CA-319D-4622-A998-5F64CF01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4E91-D501-4CE7-8748-70DEC3DB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99D9-D4C1-4ECE-B66A-AD32D649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7694-6FB6-4253-84F7-90708D16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6F8-0DBB-4480-B664-1BCE41B3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3E8-A419-4902-8325-35372E42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2E6-908A-4DC2-92E6-06B95141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0C2-92C6-41D2-96B4-36DF349F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88839-0B28-41A8-AC1B-C91E9DE60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860BB-A59D-4F5A-90B6-E8368D6B729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8:29:15Z</dcterms:created>
  <dc:creator>최봉수</dc:creator>
  <dc:description/>
  <dc:language>en-US</dc:language>
  <cp:lastModifiedBy>군만두 맛있다</cp:lastModifiedBy>
  <dcterms:modified xsi:type="dcterms:W3CDTF">2023-07-12T04:08:12Z</dcterms:modified>
  <cp:revision>2</cp:revision>
  <dc:subject/>
  <dc:title>슬라이드 1</dc:title>
</cp:coreProperties>
</file>