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1158-007A-4725-9F9A-1FD4AF9D3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m adalah sekelompok elemen-elemen yang terintegrasi dengan maksud yanng sama untuk mencapai suatu tujuan” (Mc.Leod Raymond Jr, 199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B739-1ECC-49DF-A06C-2B9DD633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D21C-B457-495D-B9E2-BBE6D5FD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08AB-BE3E-438A-B77E-DF002098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CD5A-8AF8-4F50-891F-0D7AA478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A181-C4EC-464C-8D17-552295D4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D95A-C91B-4DE0-B914-2B8F1EE0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A8D8-5E05-4DBA-84FA-BB1D47C4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270A-B55F-4129-9AFF-C09CD7E2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70AD-3310-4B36-A48D-A5706353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CBAE-81E1-4254-B509-4CB480A5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C133-D6E1-43E5-8387-00613E7A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6358-A3AB-488D-A612-369256ED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3865-58C8-4826-8E6A-A3904535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9A69-4089-4982-825A-BFB9BF52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F51F-EA79-401F-8B97-EBE49978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315E-48EE-461D-88FE-89389CBC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9B50-D072-4502-84AD-4118B6A3F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5FBA-C99C-4D95-844A-A88527C0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940B-D19A-4C61-8033-322EAFE9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F9AF-AAF7-41A3-B611-3F3A94F5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74B2-7A9F-4D18-85F0-0CEB3BB5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E859-9303-456A-9603-09484CBB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6543-8B35-4DFC-A8B8-B06A2942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D541-6009-4419-AFEC-E3C5EFDD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9254-BBD8-469A-B135-32EADCBBF5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5B43-69E8-4A23-884D-4218BBD4CB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javascript:enlarge(&apos;Pascal_2.jpeg&apos;)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javascript:enlarge(&apos;Al-Khwarizmi.jpeg&apos;)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99"/>
                </a:solidFill>
                <a:latin typeface="Tahoma"/>
              </a:rPr>
              <a:t>KONSEP PEMROGRAMAN (PENGERTIAN DASA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lina Dayanti,  M.K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99"/>
                </a:solidFill>
                <a:latin typeface="Tahoma"/>
              </a:rPr>
              <a:t>BELAJAR PEMROGRAMAN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emprogram: belajar tentang metodologi pemecahan masalah, kemudian menuangkannya dalam suatu notasi tertentu yang mudah dibaca dan dipahami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ahasa pemrograman: belajar memakai suatu bahasa, tata bahasanya, instruksi-instruksinya, tata cara pengoperasian </a:t>
            </a:r>
            <a:r>
              <a:rPr b="0" i="1" lang="de-DE" sz="2800" spc="-1" strike="noStrike">
                <a:solidFill>
                  <a:srgbClr val="000000"/>
                </a:solidFill>
                <a:latin typeface="Tahoma"/>
              </a:rPr>
              <a:t>compiler-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ya, dan memanfaatkan instruksi-instruksi tersebut untuk membuat program yang ditulis hanya dalam bahasa itu saj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Bahasa pemrograma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 leve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cal dan Visual Pascal (Delph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dan Visual Bas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tra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hasa 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w leve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hasa Assemb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9600" y="0"/>
            <a:ext cx="2354400" cy="24908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99"/>
                </a:solidFill>
                <a:latin typeface="Tahoma"/>
              </a:rPr>
              <a:t>PROSES, LANGKAH DAN AK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3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Conto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: keadaan sebelum aksi di kerjak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Ak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: keadaan setelah aksi dikerjak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fek dari pengerjaan suatu aksi dapat diamati dengan membandingkan keadaan pada saat aksi belum dimulai t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an keadaan pada saat aksi selesai dikerjakan t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6701040" y="1987920"/>
            <a:ext cx="124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laise Pas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1623-166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oh algoritma euclide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m dan n sudah terdefinisi nilainya, m&gt;0, n&gt;0 dan m&gt;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1. bagilah m dengan n dan misalkan r adalah sisany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r adalah sisa hasil bagi, 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≤ r&lt;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 adalah sisa hasil bagi, 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≤ r&lt;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2. apakah r=0? Jika r=0, algoritma selesai, n adalah jawabannya, tetapi jika tidak, lanjutkan ke langkah E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r=0(n adalah jawabannya) atau 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≠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: r≠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3. ganti nilai m dengan nilai n, nilai n dengan nilai r, dan ulang kembali ke langkah E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m=n dan n=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al kata Algorit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0"/>
            <a:ext cx="2411280" cy="2349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Algorism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tau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 Algorith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rarti proses menghitu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l-Khuwarizmi dalam buku berjudul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Kitab Al Jabar Wal-Muqabala 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yang artinya “Buku pemugaran dan pengurangan” </a:t>
            </a: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(The book of restoration and reduction</a:t>
            </a: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7814160" y="1914840"/>
            <a:ext cx="137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 Khuwariz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780-850 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99"/>
                </a:solidFill>
                <a:latin typeface="Tahoma"/>
              </a:rPr>
              <a:t>ALGORITMA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9304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lgoritma adalah urutan langkah-langkah logis penyelesaian masalah yang disusun secara sistematis dan log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angkah-langkah dalam Algoritma harus logis dan harus dapat ditentukan bernilai salah atau benar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lgoritma adalah jantung ilmu komputer atau informatik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lgoritma tersebut ditulis dalam notasi bahasa pemrograman sehingga dinamakan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goritma Euclide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berikan dua buah bilangan bulat positif m dan n (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). Carilah pembagi bersama terbesar (pbt) dari kedua bilangan terseb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1. bagilah m dengan n dan misalkan r adalah sisany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2. apakah r=0? Jika r=0, algoritma selesai, n adalah jawabannya, tetapi jika tidak, lanjutkan ke langkah E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3. ganti nilai m dengan nilai n, nilai n dengan nilai r, dan ulang kembali ke langkah E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oh Algoritma Euclide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salkan m=30 dan n=12, maka pbt(30,12) dapat dihitung dengan algoritma euclidean sebagai berik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1.1. hitung m/n=30/12=2, sisanya r=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2.1. karena r=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≠0, maka lanjutkan ke langkah 3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3.1. nilai m=n=12 dan n=r=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1.2. hitung m/n=12/6=2, sisanya r=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2.2. karena r=0, maka n=6 adalah jawabannya.selesa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Jadi, pbt(30,12)=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OGRAM KOMPU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rogram adalah perwujudan atau implementasi teknis Algoritma yang ditulis dalam bahasa pemrogaman tertentu sehingga dapat dilaksanakan oleh kompu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omputer hanyalah salah suatu pemros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emroses artinya melaksanakan atau “mengeksekusi” algoritma yang menjabarkan proses tersebu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lgoritma harus dinyatakan dalam bentuk yang dapat dimengerti oleh pemros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99"/>
                </a:solidFill>
                <a:latin typeface="Tahoma"/>
              </a:rPr>
              <a:t>Penulisan algorit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itulis dalam bahasa natural, misalnya Algoritma untuk menghitung luas lingkaran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p 1: memberi nila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3,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p 2: memasukkan nilai diameter 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p 3: menghitung luas A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* (D/2)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p 4: menampilkan hasil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333399"/>
                </a:solidFill>
                <a:latin typeface="Tahoma"/>
              </a:rPr>
              <a:t>Penulisan algorit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7280" y="1988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tulis dalam bentuk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lowcha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untuk awal/akhir progra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untuk memberikan inialisasi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untuk input/outpu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untuk pros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untuk percabanga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63640" y="2781360"/>
            <a:ext cx="863640" cy="431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3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692360" y="3500280"/>
            <a:ext cx="1057320" cy="581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9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692360" y="4221000"/>
            <a:ext cx="1000080" cy="533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1835280" y="5013360"/>
            <a:ext cx="828720" cy="457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1763640" y="5516640"/>
            <a:ext cx="10000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lowchart: Luas lingkar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31352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07:48:56Z</dcterms:created>
  <dc:creator>fmipa</dc:creator>
  <dc:description/>
  <dc:language>en-US</dc:language>
  <cp:lastModifiedBy>Admin Administrator</cp:lastModifiedBy>
  <dcterms:modified xsi:type="dcterms:W3CDTF">2011-10-03T01:28:39Z</dcterms:modified>
  <cp:revision>54</cp:revision>
  <dc:subject/>
  <dc:title>SIM untuk Sekolah</dc:title>
</cp:coreProperties>
</file>