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514E-7A2B-4E82-82D7-261D11AAD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 adalah sekelompok elemen-elemen yang terintegrasi dengan maksud yanng sama untuk mencapai suatu tujuan” (Mc.Leod Raymond Jr, 199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6653-5513-4E0F-B2F0-AD3947FA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184E-984F-4254-9240-52D1CBF0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6908-AF74-4C0E-B9F4-2BE4FC2E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E4D4-2C00-482F-AA7B-0E1470E2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9E35-8B57-474A-96D4-B714F18D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2385-3E88-41BD-B7D3-4C142A75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8403-7F6A-405A-88EE-1956C381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5B02-4E95-4185-AE31-DC4AD6B7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3B17-C376-4BC4-ABB7-AC3CE437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62FF-E125-467D-BF3E-C2262C85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0D57-3235-4A4A-9BA5-49B0E314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A244-47F6-4E78-AE38-D96D590A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7BCC-FACE-4DA3-9B58-42E27D28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2F99-82D0-4812-B33F-62270248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0F3F-A781-44B9-A166-4A02F377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5DE7-5152-4F31-B515-817C0B55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AF70-FCB3-4F29-BBB4-59B457B0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3C28-9967-478C-A0F2-8C33CF39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F9F3-0823-446D-93D0-A49F0265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690F-5846-4CF4-B715-590C10E0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04CE-C942-4F04-92E0-7A29783D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B5DE-2E10-4990-9D34-E247F897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5FF-473F-4959-8CD1-FA3EDA29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AB5F-4DDB-4593-9F42-D036AE86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89D1-47E0-44A9-990E-E828ABF4ED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7F79-C77C-4450-B209-3837BA18C5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javascript:enlarge(&apos;Pascal_2.jpeg&apos;)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javascript:enlarge(&apos;Al-Khwarizmi.jpeg&apos;)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99"/>
                </a:solidFill>
                <a:latin typeface="Tahoma"/>
              </a:rPr>
              <a:t>KONSEP PEMROGRAMAN (PENGERTIAN DASA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lina Dayanti,  M.K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99"/>
                </a:solidFill>
                <a:latin typeface="Tahoma"/>
              </a:rPr>
              <a:t>BELAJAR PEMROGRAMAN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emprogram: belajar tentang metodologi pemecahan masalah, kemudian menuangkannya dalam suatu notasi tertentu yang mudah dibaca dan dipahami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ahasa pemrograman: belajar memakai suatu bahasa, tata bahasanya, instruksi-instruksinya, tata cara pengoperasian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compiler-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ya, dan memanfaatkan instruksi-instruksi tersebut untuk membuat program yang ditulis hanya dalam bahasa itu saj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Bahasa pemrograma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 leve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cal dan Visual Pascal (Delph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dan Visual Bas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tra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hasa 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w leve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hasa Assemb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9600" y="0"/>
            <a:ext cx="2354400" cy="24908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99"/>
                </a:solidFill>
                <a:latin typeface="Tahoma"/>
              </a:rPr>
              <a:t>PROSES, LANGKAH DAN AK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3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Conto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: keadaan sebelum aksi di kerjak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Ak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: keadaan setelah aksi dikerjak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fek dari pengerjaan suatu aksi dapat diamati dengan membandingkan keadaan pada saat aksi belum dimulai t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an keadaan pada saat aksi selesai dikerjakan t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6701040" y="1987920"/>
            <a:ext cx="124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laise Pas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1623-166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oh algoritma euclide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m dan n sudah terdefinisi nilainya, m&gt;0, n&gt;0 dan m&gt;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1. bagilah m dengan n dan misalkan r adalah sisany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r adalah sisa hasil bagi, 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≤ r&lt;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 adalah sisa hasil bagi, 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≤ r&lt;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2. apakah r=0? Jika r=0, algoritma selesai, n adalah jawabannya, tetapi jika tidak, lanjutkan ke langkah E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r=0(n adalah jawabannya) atau 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≠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: r≠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3. ganti nilai m dengan nilai n, nilai n dengan nilai r, dan ulang kembali ke langkah E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m=n dan n=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al kata Algorit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0"/>
            <a:ext cx="2411280" cy="2349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Algorism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tau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 Algorith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rarti proses menghitu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l-Khuwarizmi dalam buku berjudul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Kitab Al Jabar Wal-Muqabala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yang artinya “Buku pemugaran dan pengurangan”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(The book of restoration and reduction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7814160" y="1914840"/>
            <a:ext cx="137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 Khuwariz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780-850 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99"/>
                </a:solidFill>
                <a:latin typeface="Tahoma"/>
              </a:rPr>
              <a:t>ALGORITM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9304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lgoritma adalah urutan langkah-langkah logis penyelesaian masalah yang disusun secara sistematis dan log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angkah-langkah dalam Algoritma harus logis dan harus dapat ditentukan bernilai salah atau benar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lgoritma adalah jantung ilmu komputer atau informatik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lgoritma tersebut ditulis dalam notasi bahasa pemrograman sehingga dinamakan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goritma Euclide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berikan dua buah bilangan bulat positif m dan n (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). Carilah pembagi bersama terbesar (pbt) dari kedua bilangan terseb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1. bagilah m dengan n dan misalkan r adalah sisany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2. apakah r=0? Jika r=0, algoritma selesai, n adalah jawabannya, tetapi jika tidak, lanjutkan ke langkah E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3. ganti nilai m dengan nilai n, nilai n dengan nilai r, dan ulang kembali ke langkah E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oh Algoritma Euclide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salkan m=30 dan n=12, maka pbt(30,12) dapat dihitung dengan algoritma euclidean sebagai berik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1.1. hitung m/n=30/12=2, sisanya r=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2.1. karena r=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≠0, maka lanjutkan ke langkah 3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3.1. nilai m=n=12 dan n=r=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1.2. hitung m/n=12/6=2, sisanya r=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2.2. karena r=0, maka n=6 adalah jawabannya.selesa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Jadi, pbt(30,12)=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OGRAM KOMPU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rogram adalah perwujudan atau implementasi teknis Algoritma yang ditulis dalam bahasa pemrogaman tertentu sehingga dapat dilaksanakan oleh kompu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omputer hanyalah salah suatu pemros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emroses artinya melaksanakan atau “mengeksekusi” algoritma yang menjabarkan proses tersebu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lgoritma harus dinyatakan dalam bentuk yang dapat dimengerti oleh pemros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99"/>
                </a:solidFill>
                <a:latin typeface="Tahoma"/>
              </a:rPr>
              <a:t>Penulisan algorit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itulis dalam bahasa natural, misalnya Algoritma untuk menghitung luas lingkaran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p 1: memberi nila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3,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p 2: memasukkan nilai diameter 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p 3: menghitung luas A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* (D/2)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p 4: menampilkan hasil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99"/>
                </a:solidFill>
                <a:latin typeface="Tahoma"/>
              </a:rPr>
              <a:t>Penulisan algorit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7280" y="1988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tulis dalam bentuk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lowcha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untuk awal/akhir progra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untuk memberikan inialisasi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untuk input/outpu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untuk pros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untuk percabanga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63640" y="2781360"/>
            <a:ext cx="863640" cy="431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3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692360" y="3500280"/>
            <a:ext cx="1057320" cy="581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692360" y="4221000"/>
            <a:ext cx="1000080" cy="533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1835280" y="5013360"/>
            <a:ext cx="828720" cy="457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1763640" y="5516640"/>
            <a:ext cx="10000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lowchart: Luas lingkar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31352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07:48:56Z</dcterms:created>
  <dc:creator>fmipa</dc:creator>
  <dc:description/>
  <dc:language>en-US</dc:language>
  <cp:lastModifiedBy>Admin Administrator</cp:lastModifiedBy>
  <dcterms:modified xsi:type="dcterms:W3CDTF">2011-10-03T01:28:39Z</dcterms:modified>
  <cp:revision>54</cp:revision>
  <dc:subject/>
  <dc:title>SIM untuk Sekolah</dc:title>
</cp:coreProperties>
</file>