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ED43-48CD-47B9-8000-1CBDDDA4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11FB-43F3-42A7-AB8A-4DB58E28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AD7-DA54-4549-96BA-44B84AEF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9ED0-ECA3-432B-BD3F-ACC54553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9400-B69E-4B20-82FD-596709A4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4DBD-60C5-4D38-947A-839FA109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AE76-C863-49F6-A239-A074575A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871A-50A7-4B37-B8C2-24A10180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9CF6-AC8C-4ECD-A1A5-DC44C188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D2DC-B00D-4CDC-8CED-025E2299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D163-7B87-40F7-BB1C-FA894176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1985-3D84-47ED-8352-CFCA093D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A03B-3AC3-48EF-8078-F0B640CB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7C8B-0ECA-41ED-BB71-142FCC73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11E0-6969-4272-9866-56B687A4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9471-E6ED-4F2D-973E-158BEA13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2E11-CF49-4ADB-863C-39531FCF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0EBD-CB36-4FA7-85EA-E1BCF992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EB99-E7A5-453B-8DEB-EB68DB60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2832-D8E0-4058-B6BB-F1CDEC09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836-FACB-4E67-BE36-097E3640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AC0-8613-4BD1-8285-0AEB59B0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4366-43E3-4BB2-AF9C-EF3204D1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BBFA-0C11-4579-B281-499D29C3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94AB-D6DD-4B9E-BCCF-DCFAF7DC0DF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D37B-E4D4-41E0-9FB0-025C8433550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2240" cy="3809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564000" y="2421000"/>
            <a:ext cx="4032360" cy="4032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867280" y="1628640"/>
            <a:ext cx="50508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572000" cy="30578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292720" y="3573360"/>
            <a:ext cx="1952640" cy="2314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5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51309" t="0" r="0" b="0"/>
          <a:stretch/>
        </p:blipFill>
        <p:spPr>
          <a:xfrm>
            <a:off x="395280" y="404640"/>
            <a:ext cx="2691000" cy="4176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419640" y="3645000"/>
            <a:ext cx="3482640" cy="2438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55640" y="501336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2357640" cy="3529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rcRect l="43748" t="62153" r="26451" b="13088"/>
          <a:stretch/>
        </p:blipFill>
        <p:spPr>
          <a:xfrm>
            <a:off x="3708360" y="3213000"/>
            <a:ext cx="3457440" cy="2287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724360" y="2349360"/>
            <a:ext cx="21600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774880" cy="3384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995640" y="3068640"/>
            <a:ext cx="30196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2106720" cy="2808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564000" y="31417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2805120" cy="3168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067280" y="2924280"/>
            <a:ext cx="3186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rcRect l="10956" t="9059" r="15360" b="9769"/>
          <a:stretch/>
        </p:blipFill>
        <p:spPr>
          <a:xfrm>
            <a:off x="4067280" y="1916280"/>
            <a:ext cx="3082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222720" cy="4518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27194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3505320" cy="3581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3176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0:12:47Z</dcterms:created>
  <dc:creator>?</dc:creator>
  <dc:description/>
  <dc:language>en-US</dc:language>
  <cp:lastModifiedBy>Smets</cp:lastModifiedBy>
  <dcterms:modified xsi:type="dcterms:W3CDTF">2008-08-31T20:09:35Z</dcterms:modified>
  <cp:revision>6</cp:revision>
  <dc:subject/>
  <dc:title>Na, hättet ihr die erkannt!?</dc:title>
</cp:coreProperties>
</file>