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019-02C4-4D55-A85C-8D00E2D0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C6A-7E8A-4A28-90A6-D4FC87E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D2F-A574-406E-A7F9-10FE9A82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3D9-4CFB-4EF5-AA80-70AF0771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2894-234E-4F29-8358-F5F1E691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0BE0-92AF-4BD0-8CD2-CAC0C8E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63A-F73B-45DA-BD02-00F5EE9F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9405-63E1-4A09-AEBA-90D1EDC0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2A6E-DE86-4C8E-9686-577AB48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C8C-4018-47D0-B822-194A8D7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1E3-FBB9-4AE2-B0C0-4DC6827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262-CFDC-45C4-87D9-2EE21E8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A2C8-102B-47D3-AB1D-154B3E48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6C79-A50E-4DA7-BBEB-F705DBE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BE2D-CFD8-4301-ADA6-CCA5ABF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87A-2A46-4032-86B9-8B5E226E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3054-628D-4E63-8F35-15394085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43F-C265-4DED-BB18-C966486D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76E-913C-46C6-90C6-4172448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391-60AB-45F6-AEDD-867A027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CB1-B903-4761-8E22-2EA070D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63B-0DD6-47E3-BA57-E87CD8DC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248-46D8-4255-B5EB-84137710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CAD-3A03-43B7-8A2F-06823A2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7E8-578D-4603-9410-D8BCDD4EDAE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4644-B6B2-45E7-8B29-A78B594E416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67280" y="1628640"/>
            <a:ext cx="505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572000" cy="3057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952640" cy="2314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51309" t="0" r="0" b="0"/>
          <a:stretch/>
        </p:blipFill>
        <p:spPr>
          <a:xfrm>
            <a:off x="395280" y="404640"/>
            <a:ext cx="2691000" cy="4176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348264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5640" y="5013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357640" cy="352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43748" t="62153" r="26451" b="13088"/>
          <a:stretch/>
        </p:blipFill>
        <p:spPr>
          <a:xfrm>
            <a:off x="3708360" y="3213000"/>
            <a:ext cx="3457440" cy="2287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724360" y="2349360"/>
            <a:ext cx="216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774880" cy="33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30196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564000" y="3141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2805120" cy="316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3186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10956" t="9059" r="15360" b="9769"/>
          <a:stretch/>
        </p:blipFill>
        <p:spPr>
          <a:xfrm>
            <a:off x="4067280" y="1916280"/>
            <a:ext cx="308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222720" cy="451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2719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505320" cy="3581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176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0:12:47Z</dcterms:created>
  <dc:creator>?</dc:creator>
  <dc:description/>
  <dc:language>en-US</dc:language>
  <cp:lastModifiedBy>Smets</cp:lastModifiedBy>
  <dcterms:modified xsi:type="dcterms:W3CDTF">2008-08-31T20:09:35Z</dcterms:modified>
  <cp:revision>6</cp:revision>
  <dc:subject/>
  <dc:title>Na, hättet ihr die erkannt!?</dc:title>
</cp:coreProperties>
</file>