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72E7-3133-473C-B047-D6024BEA7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E2C5-AF41-4E2D-893A-994A718D9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19CB-C678-469D-A5F4-A59B8E94F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A2F6-BF59-4BFD-A793-C1A242534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C581-1F52-4950-BE53-7730D6896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3E07-F960-451C-861A-3A6FAAB15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9F18-1E66-4C74-97A6-619747403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0D62-ABFB-4879-9D5E-A014ED534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3A24-0229-48B8-BA7C-595878199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2540-5EE3-4C96-B796-459633C97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1E62-BD96-4457-9037-BC535B41E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6F60-43B5-42A4-B280-CE8DF0027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4590-C7D4-436B-B6EE-C5F11B622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5415-DE8D-44CC-9027-BC69F6C2F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733F-3A26-4CC8-840B-52A8EFC8A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A843-6BB7-4441-AF42-487882671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0C59-9364-4EB1-BEA4-F825D6130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116D-153F-466C-ABBA-691BC0F8A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7A22-5FD0-46AB-9BB7-2BE956DF8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01C9-6249-4D20-B0CF-90A0B0E2A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3886-D0CC-481E-B95B-33F6994EA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89FF-BE00-47AB-A317-E6E143ACE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ED9E-51BF-41AE-9A7A-C1190D78D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5CA0-2F75-4239-A878-ED6FF2C8E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FDAF-C752-4CE4-8846-67630341B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A819-4DCF-470A-9CC1-5F3F252D2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FEC9-3F64-4007-B3D4-41A4A4837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5988-B6C8-446C-8EC0-A6AD2BA48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FB2A-959A-4B4F-851B-F2C529F57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4953-431E-430F-BE9E-EA2DC6D34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4F8F-FEF8-48AE-9BC5-8F9B4AAAA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96F0-B9E0-4B7C-976C-D7F13EB0B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D0FE-F052-4E66-8009-51D3620CC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1938-AE58-476E-BD2F-786EBF935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067B-D66F-4CA2-A1B6-12E99B9D5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5BE8-36F1-4C00-BF05-723C95086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E97F-F181-4BBB-BBBC-3105CE696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E384-EC86-4914-A5A2-35C7247A1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4C16-A07A-4598-8DDB-ACF42BB1D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D2B9-2FAD-40B6-B9B1-579E79906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9B8C-07D7-4FB3-A690-EAA5A8A5E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A028-3A52-41AA-94A6-BAB753F07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298C-1936-4D57-8319-BF54408C8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AA6C-1A66-48E6-9D9C-E5DAAF1FF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2711-4A2B-4983-953F-8FD8BD1EF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0C1-047A-454B-AF10-B3E63753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CE0B-EE66-4098-AA94-52B8AFF2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069B-A926-4782-A454-BEA32D69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8D13-3699-4A21-A718-AC941509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EAA-80BC-4054-8003-812EDB28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C9E6-4E70-4D62-845A-1183CAE2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AF4-7537-4EF3-8214-7A0F5314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FA2C-DDD8-4FD8-9063-C660A113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2560" y="115560"/>
            <a:ext cx="69850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728C-993B-47C4-B68B-D7D6EDE5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73DB-2E49-4728-9993-0963D969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18D2-0B50-4F80-87AD-5CD0A915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BDD7-537B-41AB-B45E-5A36F0CF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3CED-F769-41ED-90F4-E9B9B2C877AC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5D416E47-C5BF-43F0-A804-0AC93968E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logosttt"/>
          <p:cNvPicPr/>
          <p:nvPr/>
        </p:nvPicPr>
        <p:blipFill>
          <a:blip r:embed="rId2"/>
          <a:stretch/>
        </p:blipFill>
        <p:spPr>
          <a:xfrm>
            <a:off x="250920" y="189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6" name="varkom.avi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934920" cy="576000"/>
          </a:xfrm>
          <a:prstGeom prst="rect">
            <a:avLst/>
          </a:prstGeom>
          <a:ln w="0">
            <a:noFill/>
          </a:ln>
        </p:spPr>
      </p:pic>
      <p:sp>
        <p:nvSpPr>
          <p:cNvPr id="7" name="Line 13"/>
          <p:cNvSpPr/>
          <p:nvPr/>
        </p:nvSpPr>
        <p:spPr>
          <a:xfrm>
            <a:off x="468360" y="6093000"/>
            <a:ext cx="820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8388-78EB-4804-B40C-CA7F29FA2CA7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09A2747E-AA42-46E3-A59B-7808A1B1B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Deret Fourier dan Transformasi Fourier 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234900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Period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efisien Fou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et Fourier Fungsi Genap dan Fungsi Ganj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uasan Fung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et Fourier Kompl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l Fou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si Fou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fat Transformasi Fou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8647-35D7-4307-96B8-5803BD465B7B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10E4BC4B-1C03-4F88-AEF6-7A28807DA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Koefisien Fourier # 4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(t) didefinisikan pada (-L , L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periodik dengan periode 2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kontinu bagian demi bagian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eret Fourier dari f(t) didefinisik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882720" y="2486160"/>
                <a:ext cx="51292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8" name="Rectangle 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7"/>
              <p:cNvSpPr txBox="1"/>
              <p:nvPr/>
            </p:nvSpPr>
            <p:spPr>
              <a:xfrm>
                <a:off x="1143000" y="3213000"/>
                <a:ext cx="15289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L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Rectangle 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1187280" y="4149720"/>
                <a:ext cx="21639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L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</m:t>
                            </m:r>
                            <m:r>
                              <m:t xml:space="preserve">n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Rectangle 1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1"/>
              <p:cNvSpPr txBox="1"/>
              <p:nvPr/>
            </p:nvSpPr>
            <p:spPr>
              <a:xfrm>
                <a:off x="1116000" y="4941720"/>
                <a:ext cx="28083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L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</m:t>
                            </m:r>
                            <m:r>
                              <m:t xml:space="preserve">n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Rectangle 12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4"/>
              <p:cNvSpPr txBox="1"/>
              <p:nvPr/>
            </p:nvSpPr>
            <p:spPr>
              <a:xfrm>
                <a:off x="4067280" y="3429000"/>
                <a:ext cx="2665440" cy="24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oefisien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urier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ari</m:t>
                              </m:r>
                              <m:r>
                                <m:t xml:space="preserve"> </m:t>
                              </m:r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split dir="in" orient="vert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6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DA35-2C94-4B55-9C91-9D71CB88118F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CF584624-03AA-4B57-A4F3-E03034D7C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Koefisien Fourier # 5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3"/>
              <p:cNvSpPr txBox="1"/>
              <p:nvPr/>
            </p:nvSpPr>
            <p:spPr>
              <a:xfrm>
                <a:off x="3489480" y="1492200"/>
                <a:ext cx="13698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|</m:t>
                    </m:r>
                    <m:m>
                      <m:mr>
                        <m:e>
                          <m:r>
                            <m:t xml:space="preserve">π</m:t>
                          </m:r>
                        </m:e>
                      </m:mr>
                      <m:mr>
                        <m:e>
                          <m:r>
                            <m:t xml:space="preserve">−</m:t>
                          </m:r>
                          <m:r>
                            <m:t xml:space="preserve">π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2700360" y="2139840"/>
                <a:ext cx="27352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π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π</m:t>
                              </m:r>
                            </m:e>
                          </m:mr>
                        </m:m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sub>
                          <m:sup>
                            <m:r>
                              <m:t xml:space="preserve">π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5"/>
              <p:cNvSpPr txBox="1"/>
              <p:nvPr/>
            </p:nvSpPr>
            <p:spPr>
              <a:xfrm>
                <a:off x="749160" y="2924280"/>
                <a:ext cx="12304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π</m:t>
                        </m:r>
                      </m:den>
                    </m:f>
                    <m:r>
                      <m:t xml:space="preserve">|</m:t>
                    </m:r>
                    <m:m>
                      <m:mr>
                        <m:e>
                          <m:r>
                            <m:t xml:space="preserve">π</m:t>
                          </m:r>
                        </m:e>
                      </m:mr>
                      <m:mr>
                        <m:e>
                          <m:r>
                            <m:t xml:space="preserve">−</m:t>
                          </m:r>
                          <m:r>
                            <m:t xml:space="preserve">π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Rectangle 6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8"/>
              <p:cNvSpPr txBox="1"/>
              <p:nvPr/>
            </p:nvSpPr>
            <p:spPr>
              <a:xfrm>
                <a:off x="592200" y="981000"/>
                <a:ext cx="23954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9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418560" y="98028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 t + </a:t>
            </a: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id-ID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f(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5029560" y="965880"/>
            <a:ext cx="35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t) periodik dengan p =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13"/>
              <p:cNvSpPr txBox="1"/>
              <p:nvPr/>
            </p:nvSpPr>
            <p:spPr>
              <a:xfrm>
                <a:off x="528480" y="1341360"/>
                <a:ext cx="153540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π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5"/>
              <p:cNvSpPr txBox="1"/>
              <p:nvPr/>
            </p:nvSpPr>
            <p:spPr>
              <a:xfrm>
                <a:off x="2154240" y="1363680"/>
                <a:ext cx="13381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π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4" name="Rectangle 1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18"/>
              <p:cNvSpPr txBox="1"/>
              <p:nvPr/>
            </p:nvSpPr>
            <p:spPr>
              <a:xfrm>
                <a:off x="461880" y="2133720"/>
                <a:ext cx="22384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π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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Rectangle 1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0"/>
              <p:cNvSpPr txBox="1"/>
              <p:nvPr/>
            </p:nvSpPr>
            <p:spPr>
              <a:xfrm>
                <a:off x="531720" y="3625920"/>
                <a:ext cx="23846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π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Rectangle 2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2"/>
              <p:cNvSpPr txBox="1"/>
              <p:nvPr/>
            </p:nvSpPr>
            <p:spPr>
              <a:xfrm>
                <a:off x="2957400" y="3686040"/>
                <a:ext cx="31575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π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π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sub>
                          <m:sup>
                            <m:r>
                              <m:t xml:space="preserve">π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0" name="Rectangle 23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24"/>
              <p:cNvSpPr txBox="1"/>
              <p:nvPr/>
            </p:nvSpPr>
            <p:spPr>
              <a:xfrm>
                <a:off x="900000" y="4494240"/>
                <a:ext cx="42609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nπ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nπ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π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π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Text Box 55"/>
          <p:cNvSpPr/>
          <p:nvPr/>
        </p:nvSpPr>
        <p:spPr>
          <a:xfrm>
            <a:off x="4912920" y="157788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60"/>
          <p:cNvGrpSpPr/>
          <p:nvPr/>
        </p:nvGrpSpPr>
        <p:grpSpPr>
          <a:xfrm>
            <a:off x="5546880" y="1392120"/>
            <a:ext cx="3346200" cy="1739880"/>
            <a:chOff x="5546880" y="1392120"/>
            <a:chExt cx="3346200" cy="1739880"/>
          </a:xfrm>
        </p:grpSpPr>
        <p:sp>
          <p:nvSpPr>
            <p:cNvPr id="234" name="Text Box 57"/>
            <p:cNvSpPr/>
            <p:nvPr/>
          </p:nvSpPr>
          <p:spPr>
            <a:xfrm>
              <a:off x="5546880" y="1392120"/>
              <a:ext cx="3346200" cy="1739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Integral Parsial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 = t + 1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du = dt  da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v = cos nt dt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v = 1/n sin 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Object 58"/>
                <p:cNvSpPr txBox="1"/>
                <p:nvPr/>
              </p:nvSpPr>
              <p:spPr>
                <a:xfrm>
                  <a:off x="6162840" y="2328840"/>
                  <a:ext cx="1938240" cy="70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u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e>
                      </m:nary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uv</m:t>
                      </m:r>
                      <m:r>
                        <m:t xml:space="preserve">|</m:t>
                      </m:r>
                      <m:m>
                        <m:mr>
                          <m:e>
                            <m:r>
                              <m:t xml:space="preserve">b</m:t>
                            </m:r>
                          </m:e>
                        </m:mr>
                        <m:mr>
                          <m:e>
                            <m:r>
                              <m:t xml:space="preserve">a</m:t>
                            </m:r>
                          </m:e>
                        </m:mr>
                      </m:m>
                      <m:r>
                        <m:t xml:space="preserve">−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v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u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6" name="Text Box 61"/>
          <p:cNvSpPr/>
          <p:nvPr/>
        </p:nvSpPr>
        <p:spPr>
          <a:xfrm>
            <a:off x="2078280" y="2925720"/>
            <a:ext cx="328356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t + 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 = dt  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 = sin nt d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 = -1/n cos 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3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62"/>
              <p:cNvSpPr txBox="1"/>
              <p:nvPr/>
            </p:nvSpPr>
            <p:spPr>
              <a:xfrm>
                <a:off x="900000" y="5157720"/>
                <a:ext cx="1224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n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39" name=""/>
          <p:cNvGraphicFramePr/>
          <p:nvPr/>
        </p:nvGraphicFramePr>
        <p:xfrm>
          <a:off x="6276960" y="3289320"/>
          <a:ext cx="1552680" cy="2436840"/>
        </p:xfrm>
        <a:graphic>
          <a:graphicData uri="http://schemas.openxmlformats.org/drawingml/2006/table">
            <a:tbl>
              <a:tblPr/>
              <a:tblGrid>
                <a:gridCol w="743040"/>
                <a:gridCol w="8096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mb dir="vert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350"/>
                            </p:stCondLst>
                            <p:childTnLst>
                              <p:par>
                                <p:cTn id="4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850"/>
                            </p:stCondLst>
                            <p:childTnLst>
                              <p:par>
                                <p:cTn id="4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4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3E82-B28C-4691-A4B1-82C07EA78741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5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2D8AA80D-29D0-4F64-803C-20F76E348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981000"/>
            <a:ext cx="7859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ungsi berikut dipandang periodik dengan periode 2. Gambar grafik dan perderetkan dalam deret Fouri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9640" y="3357360"/>
            <a:ext cx="777744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Tentukan deret Fourier dari fungsi periodik dengan periode p = 2L, sket grafik f(t) dan jumlah partial deret untuk n = 3, bila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t) = 2t, 0 &lt; t &lt;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L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f(t) =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t ( 0 &lt; t &lt; 1 ) 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5"/>
              <p:cNvSpPr txBox="1"/>
              <p:nvPr/>
            </p:nvSpPr>
            <p:spPr>
              <a:xfrm>
                <a:off x="1203480" y="2028960"/>
                <a:ext cx="4520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2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1</m:t>
                              </m:r>
                              <m:r>
                                <m:t xml:space="preserve">2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3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1F68-71CB-4466-A6C1-529B7D4E087B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D6E515E1-81DF-4108-BA66-F598D9D51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F Fungsi Genap dan Fungsi Ganjil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ungsi f(t) disebut 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fungsi genap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bila berlaku  f(-t) = f(t) untuk setiap t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id-ID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d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ungsi f(t) disebut 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fungsi ganjil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bila berlaku f(-t) = -f(t) untuk setiap t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id-ID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f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Grafik fungsi genap, y = f(t) simetris terhadap sumbu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rafik fungsi ganjil, y = f(t)  simetris terhadap titik pusat salib sum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Hasilkali dua  fungsi gen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gsi gen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asilkali dua fungsi ganji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fungsi gen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asilkali  fungsi gena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ungsi ganji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fungsi ganj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4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66"/>
                            </p:stCondLst>
                            <p:childTnLst>
                              <p:par>
                                <p:cTn id="5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98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98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898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898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898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98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898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98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134E-67ED-4F6F-8012-0864A47F5725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150DDF81-38A1-437B-847E-ED75091AD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F Fungsi Genap dan Fungsi Ganjil # 2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258" name="Group 69"/>
          <p:cNvGrpSpPr/>
          <p:nvPr/>
        </p:nvGrpSpPr>
        <p:grpSpPr>
          <a:xfrm>
            <a:off x="324000" y="855720"/>
            <a:ext cx="2447640" cy="1565280"/>
            <a:chOff x="324000" y="855720"/>
            <a:chExt cx="2447640" cy="1565280"/>
          </a:xfrm>
        </p:grpSpPr>
        <p:sp>
          <p:nvSpPr>
            <p:cNvPr id="259" name="Arc 11"/>
            <p:cNvSpPr/>
            <p:nvPr/>
          </p:nvSpPr>
          <p:spPr>
            <a:xfrm flipV="1">
              <a:off x="1547640" y="1313640"/>
              <a:ext cx="663840" cy="7095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4"/>
            <p:cNvSpPr/>
            <p:nvPr/>
          </p:nvSpPr>
          <p:spPr>
            <a:xfrm flipV="1">
              <a:off x="1547640" y="101772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5"/>
            <p:cNvSpPr/>
            <p:nvPr/>
          </p:nvSpPr>
          <p:spPr>
            <a:xfrm>
              <a:off x="324000" y="2023920"/>
              <a:ext cx="24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3"/>
            <p:cNvSpPr/>
            <p:nvPr/>
          </p:nvSpPr>
          <p:spPr>
            <a:xfrm>
              <a:off x="1586160" y="855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rc 18"/>
            <p:cNvSpPr/>
            <p:nvPr/>
          </p:nvSpPr>
          <p:spPr>
            <a:xfrm flipV="1" rot="5400000">
              <a:off x="855720" y="1341720"/>
              <a:ext cx="709560" cy="65268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9"/>
            <p:cNvSpPr/>
            <p:nvPr/>
          </p:nvSpPr>
          <p:spPr>
            <a:xfrm>
              <a:off x="2198520" y="1490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0"/>
            <p:cNvSpPr/>
            <p:nvPr/>
          </p:nvSpPr>
          <p:spPr>
            <a:xfrm>
              <a:off x="896760" y="1490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2097360" y="203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2"/>
            <p:cNvSpPr/>
            <p:nvPr/>
          </p:nvSpPr>
          <p:spPr>
            <a:xfrm>
              <a:off x="765360" y="20397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23"/>
          <p:cNvSpPr/>
          <p:nvPr/>
        </p:nvSpPr>
        <p:spPr>
          <a:xfrm>
            <a:off x="3990960" y="103176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t) fungsi genap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24"/>
              <p:cNvSpPr txBox="1"/>
              <p:nvPr/>
            </p:nvSpPr>
            <p:spPr>
              <a:xfrm>
                <a:off x="6583320" y="836640"/>
                <a:ext cx="17766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a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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70" name="Group 38"/>
          <p:cNvGrpSpPr/>
          <p:nvPr/>
        </p:nvGrpSpPr>
        <p:grpSpPr>
          <a:xfrm>
            <a:off x="579600" y="2708280"/>
            <a:ext cx="1944360" cy="1780920"/>
            <a:chOff x="579600" y="2708280"/>
            <a:chExt cx="1944360" cy="1780920"/>
          </a:xfrm>
        </p:grpSpPr>
        <p:sp>
          <p:nvSpPr>
            <p:cNvPr id="271" name="Arc 14"/>
            <p:cNvSpPr/>
            <p:nvPr/>
          </p:nvSpPr>
          <p:spPr>
            <a:xfrm flipV="1" rot="10800000">
              <a:off x="943560" y="3749040"/>
              <a:ext cx="608040" cy="739080"/>
            </a:xfrm>
            <a:prstGeom prst="pie">
              <a:avLst/>
            </a:pr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rc 15"/>
            <p:cNvSpPr/>
            <p:nvPr/>
          </p:nvSpPr>
          <p:spPr>
            <a:xfrm flipV="1">
              <a:off x="1550160" y="3010320"/>
              <a:ext cx="608040" cy="739080"/>
            </a:xfrm>
            <a:prstGeom prst="pie">
              <a:avLst/>
            </a:prstGeom>
            <a:noFill/>
            <a:ln w="28440">
              <a:solidFill>
                <a:srgbClr val="000099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26"/>
            <p:cNvGrpSpPr/>
            <p:nvPr/>
          </p:nvGrpSpPr>
          <p:grpSpPr>
            <a:xfrm>
              <a:off x="579600" y="2708280"/>
              <a:ext cx="1944360" cy="1780920"/>
              <a:chOff x="579600" y="2708280"/>
              <a:chExt cx="1944360" cy="1780920"/>
            </a:xfrm>
          </p:grpSpPr>
          <p:sp>
            <p:nvSpPr>
              <p:cNvPr id="274" name="Line 27"/>
              <p:cNvSpPr/>
              <p:nvPr/>
            </p:nvSpPr>
            <p:spPr>
              <a:xfrm flipV="1">
                <a:off x="1551240" y="2852280"/>
                <a:ext cx="0" cy="163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28"/>
              <p:cNvSpPr/>
              <p:nvPr/>
            </p:nvSpPr>
            <p:spPr>
              <a:xfrm>
                <a:off x="579600" y="3750120"/>
                <a:ext cx="19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29"/>
              <p:cNvSpPr/>
              <p:nvPr/>
            </p:nvSpPr>
            <p:spPr>
              <a:xfrm>
                <a:off x="1582560" y="27082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Line 31"/>
            <p:cNvSpPr/>
            <p:nvPr/>
          </p:nvSpPr>
          <p:spPr>
            <a:xfrm>
              <a:off x="2119320" y="3274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32"/>
            <p:cNvSpPr/>
            <p:nvPr/>
          </p:nvSpPr>
          <p:spPr>
            <a:xfrm>
              <a:off x="983880" y="375012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33"/>
            <p:cNvSpPr/>
            <p:nvPr/>
          </p:nvSpPr>
          <p:spPr>
            <a:xfrm>
              <a:off x="2040120" y="3764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34"/>
            <p:cNvSpPr/>
            <p:nvPr/>
          </p:nvSpPr>
          <p:spPr>
            <a:xfrm>
              <a:off x="906480" y="34884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 Box 35"/>
          <p:cNvSpPr/>
          <p:nvPr/>
        </p:nvSpPr>
        <p:spPr>
          <a:xfrm>
            <a:off x="3992400" y="184464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t) fungsi ganji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7"/>
          <p:cNvSpPr/>
          <p:nvPr/>
        </p:nvSpPr>
        <p:spPr>
          <a:xfrm>
            <a:off x="3447360" y="2491560"/>
            <a:ext cx="54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 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gsi ganjil dan cos 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gsi genap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36"/>
              <p:cNvSpPr txBox="1"/>
              <p:nvPr/>
            </p:nvSpPr>
            <p:spPr>
              <a:xfrm>
                <a:off x="6608880" y="1628640"/>
                <a:ext cx="11682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a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284" name=""/>
          <p:cNvGraphicFramePr/>
          <p:nvPr/>
        </p:nvGraphicFramePr>
        <p:xfrm>
          <a:off x="3635280" y="3009960"/>
          <a:ext cx="4824360" cy="1584360"/>
        </p:xfrm>
        <a:graphic>
          <a:graphicData uri="http://schemas.openxmlformats.org/drawingml/2006/table">
            <a:tbl>
              <a:tblPr/>
              <a:tblGrid>
                <a:gridCol w="1608120"/>
                <a:gridCol w="1608120"/>
                <a:gridCol w="1608120"/>
              </a:tblGrid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t) sin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t) cos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j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j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j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Rectangle 7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70"/>
              <p:cNvSpPr txBox="1"/>
              <p:nvPr/>
            </p:nvSpPr>
            <p:spPr>
              <a:xfrm>
                <a:off x="2340000" y="4941720"/>
                <a:ext cx="367200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L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L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87" name="Oval 72"/>
          <p:cNvSpPr/>
          <p:nvPr/>
        </p:nvSpPr>
        <p:spPr>
          <a:xfrm>
            <a:off x="5580000" y="3500280"/>
            <a:ext cx="1008000" cy="5763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73"/>
          <p:cNvSpPr/>
          <p:nvPr/>
        </p:nvSpPr>
        <p:spPr>
          <a:xfrm>
            <a:off x="7124760" y="4044960"/>
            <a:ext cx="1008000" cy="5763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AutoShape 74"/>
          <p:cNvCxnSpPr>
            <a:stCxn id="288" idx="4"/>
          </p:cNvCxnSpPr>
          <p:nvPr/>
        </p:nvCxnSpPr>
        <p:spPr>
          <a:xfrm rot="5400000">
            <a:off x="6438960" y="4193280"/>
            <a:ext cx="762480" cy="1618200"/>
          </a:xfrm>
          <a:prstGeom prst="bentConnector2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290" name="AutoShape 75"/>
          <p:cNvCxnSpPr/>
          <p:nvPr/>
        </p:nvCxnSpPr>
        <p:spPr>
          <a:xfrm rot="5400000">
            <a:off x="3535560" y="2869560"/>
            <a:ext cx="1316160" cy="3709080"/>
          </a:xfrm>
          <a:prstGeom prst="bentConnector4">
            <a:avLst>
              <a:gd name="adj1" fmla="val 54391"/>
              <a:gd name="adj2" fmla="val 106163"/>
            </a:avLst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p:transition spd="slow">
    <p:circle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470E-BE4D-44FC-A94A-86D49002BF87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8360340C-A679-45F5-A5F6-DE86FAFD9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F Fungsi Genap dan Fungsi Ganjil # 3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16000" y="981000"/>
            <a:ext cx="6624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(t) fungsi genap terdefinisi pada  ( -L,L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kontinu bagian demi bagian da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periodik dengan periode p = 2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6"/>
              <p:cNvSpPr txBox="1"/>
              <p:nvPr/>
            </p:nvSpPr>
            <p:spPr>
              <a:xfrm>
                <a:off x="1476360" y="5013360"/>
                <a:ext cx="4824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8" name="Rectangle 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8"/>
              <p:cNvSpPr txBox="1"/>
              <p:nvPr/>
            </p:nvSpPr>
            <p:spPr>
              <a:xfrm>
                <a:off x="1547640" y="2349360"/>
                <a:ext cx="37450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L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nπ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Rectangle 1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0"/>
              <p:cNvSpPr txBox="1"/>
              <p:nvPr/>
            </p:nvSpPr>
            <p:spPr>
              <a:xfrm>
                <a:off x="1619280" y="3627360"/>
                <a:ext cx="3816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</m:t>
                        </m:r>
                        <m:f>
                          <m:num>
                            <m:r>
                              <m:t xml:space="preserve">nπ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Rectangle 1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0"/>
          <p:cNvSpPr/>
          <p:nvPr/>
        </p:nvSpPr>
        <p:spPr>
          <a:xfrm>
            <a:off x="5796000" y="2349360"/>
            <a:ext cx="2736720" cy="1511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 Cosi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66"/>
                            </p:stCondLst>
                            <p:childTnLst>
                              <p:par>
                                <p:cTn id="6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98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6066"/>
                            </p:stCondLst>
                            <p:childTnLst>
                              <p:par>
                                <p:cTn id="6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898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7066"/>
                            </p:stCondLst>
                            <p:childTnLst>
                              <p:par>
                                <p:cTn id="6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98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8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E5A8-FDC4-44BC-BA3F-1668A324B8E8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F9299AC4-620D-4FFD-9831-EBC28DF4B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F Fungsi Genap dan Fungsi Ganjil # 3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1187280" y="1052640"/>
            <a:ext cx="6769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(t) fungsi 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jil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terdefinisi pada  ( -L,L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kontinu bagian demi bagian da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periodik dengan periode p = 2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6"/>
              <p:cNvSpPr txBox="1"/>
              <p:nvPr/>
            </p:nvSpPr>
            <p:spPr>
              <a:xfrm>
                <a:off x="1763640" y="5229360"/>
                <a:ext cx="482436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4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12"/>
              <p:cNvSpPr txBox="1"/>
              <p:nvPr/>
            </p:nvSpPr>
            <p:spPr>
              <a:xfrm>
                <a:off x="1619280" y="2276640"/>
                <a:ext cx="22320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L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Rectangle 1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4"/>
              <p:cNvSpPr txBox="1"/>
              <p:nvPr/>
            </p:nvSpPr>
            <p:spPr>
              <a:xfrm>
                <a:off x="1620720" y="3284640"/>
                <a:ext cx="2880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L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Rectangle 1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17"/>
              <p:cNvSpPr txBox="1"/>
              <p:nvPr/>
            </p:nvSpPr>
            <p:spPr>
              <a:xfrm>
                <a:off x="1547640" y="4221000"/>
                <a:ext cx="25196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nπ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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3" name="AutoShape 19"/>
          <p:cNvSpPr/>
          <p:nvPr/>
        </p:nvSpPr>
        <p:spPr>
          <a:xfrm>
            <a:off x="5292720" y="3284640"/>
            <a:ext cx="2448000" cy="1296720"/>
          </a:xfrm>
          <a:prstGeom prst="wedgeEllipseCallout">
            <a:avLst>
              <a:gd name="adj1" fmla="val -92800"/>
              <a:gd name="adj2" fmla="val 534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 Si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3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6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E7BA-A887-4840-BDE5-D3825977804F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86B53833-7209-401B-A47D-F4B36B771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F Fungsi Genap dan Fungsi Ganjil #  4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3"/>
              <p:cNvSpPr txBox="1"/>
              <p:nvPr/>
            </p:nvSpPr>
            <p:spPr>
              <a:xfrm>
                <a:off x="395280" y="1143000"/>
                <a:ext cx="23050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Text Box 4"/>
          <p:cNvSpPr/>
          <p:nvPr/>
        </p:nvSpPr>
        <p:spPr>
          <a:xfrm>
            <a:off x="2770920" y="121608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t + 6) = f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7"/>
          <p:cNvGrpSpPr/>
          <p:nvPr/>
        </p:nvGrpSpPr>
        <p:grpSpPr>
          <a:xfrm>
            <a:off x="611280" y="1916280"/>
            <a:ext cx="2592360" cy="1800000"/>
            <a:chOff x="611280" y="1916280"/>
            <a:chExt cx="2592360" cy="1800000"/>
          </a:xfrm>
        </p:grpSpPr>
        <p:grpSp>
          <p:nvGrpSpPr>
            <p:cNvPr id="331" name="Group 8"/>
            <p:cNvGrpSpPr/>
            <p:nvPr/>
          </p:nvGrpSpPr>
          <p:grpSpPr>
            <a:xfrm>
              <a:off x="611280" y="1916280"/>
              <a:ext cx="2592360" cy="1800000"/>
              <a:chOff x="611280" y="1916280"/>
              <a:chExt cx="2592360" cy="1800000"/>
            </a:xfrm>
          </p:grpSpPr>
          <p:sp>
            <p:nvSpPr>
              <p:cNvPr id="332" name="Rectangle 9"/>
              <p:cNvSpPr/>
              <p:nvPr/>
            </p:nvSpPr>
            <p:spPr>
              <a:xfrm>
                <a:off x="828720" y="26341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10"/>
              <p:cNvSpPr/>
              <p:nvPr/>
            </p:nvSpPr>
            <p:spPr>
              <a:xfrm flipV="1">
                <a:off x="1908000" y="1916280"/>
                <a:ext cx="0" cy="180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11"/>
              <p:cNvSpPr/>
              <p:nvPr/>
            </p:nvSpPr>
            <p:spPr>
              <a:xfrm>
                <a:off x="611280" y="2995560"/>
                <a:ext cx="25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12"/>
              <p:cNvSpPr/>
              <p:nvPr/>
            </p:nvSpPr>
            <p:spPr>
              <a:xfrm>
                <a:off x="1908000" y="2492280"/>
                <a:ext cx="93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13"/>
              <p:cNvSpPr/>
              <p:nvPr/>
            </p:nvSpPr>
            <p:spPr>
              <a:xfrm>
                <a:off x="971280" y="3500280"/>
                <a:ext cx="93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14"/>
              <p:cNvSpPr/>
              <p:nvPr/>
            </p:nvSpPr>
            <p:spPr>
              <a:xfrm>
                <a:off x="2843280" y="2492280"/>
                <a:ext cx="0" cy="50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15"/>
              <p:cNvSpPr/>
              <p:nvPr/>
            </p:nvSpPr>
            <p:spPr>
              <a:xfrm>
                <a:off x="971280" y="2997000"/>
                <a:ext cx="0" cy="50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16"/>
              <p:cNvSpPr/>
              <p:nvPr/>
            </p:nvSpPr>
            <p:spPr>
              <a:xfrm>
                <a:off x="2681280" y="3016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Text Box 17"/>
            <p:cNvSpPr/>
            <p:nvPr/>
          </p:nvSpPr>
          <p:spPr>
            <a:xfrm>
              <a:off x="1602000" y="229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18"/>
            <p:cNvSpPr/>
            <p:nvPr/>
          </p:nvSpPr>
          <p:spPr>
            <a:xfrm>
              <a:off x="1889280" y="33033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AutoShape 29"/>
          <p:cNvSpPr/>
          <p:nvPr/>
        </p:nvSpPr>
        <p:spPr>
          <a:xfrm>
            <a:off x="3203640" y="1989000"/>
            <a:ext cx="1297080" cy="496440"/>
          </a:xfrm>
          <a:prstGeom prst="wedgeRoundRectCallout">
            <a:avLst>
              <a:gd name="adj1" fmla="val -93060"/>
              <a:gd name="adj2" fmla="val 286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j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37"/>
              <p:cNvSpPr txBox="1"/>
              <p:nvPr/>
            </p:nvSpPr>
            <p:spPr>
              <a:xfrm>
                <a:off x="4897440" y="1116000"/>
                <a:ext cx="2084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nπ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5" name="Rectangle 40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39"/>
              <p:cNvSpPr txBox="1"/>
              <p:nvPr/>
            </p:nvSpPr>
            <p:spPr>
              <a:xfrm>
                <a:off x="5219640" y="1916280"/>
                <a:ext cx="31687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nπt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nπt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7" name="Rectangle 4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41"/>
              <p:cNvSpPr txBox="1"/>
              <p:nvPr/>
            </p:nvSpPr>
            <p:spPr>
              <a:xfrm>
                <a:off x="5292720" y="2781360"/>
                <a:ext cx="3024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πt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|</m:t>
                    </m:r>
                    <m:m>
                      <m:mr>
                        <m:e>
                          <m:r>
                            <m:t xml:space="preserve">3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πt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|</m:t>
                    </m:r>
                    <m:m>
                      <m:mr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49" name="Rectangle 44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43"/>
              <p:cNvSpPr txBox="1"/>
              <p:nvPr/>
            </p:nvSpPr>
            <p:spPr>
              <a:xfrm>
                <a:off x="5305320" y="3500280"/>
                <a:ext cx="3154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nπ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n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1" name="Rectangle 46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45"/>
              <p:cNvSpPr txBox="1"/>
              <p:nvPr/>
            </p:nvSpPr>
            <p:spPr>
              <a:xfrm>
                <a:off x="5364000" y="4221000"/>
                <a:ext cx="1513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n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3" name="Rectangle 48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47"/>
              <p:cNvSpPr txBox="1"/>
              <p:nvPr/>
            </p:nvSpPr>
            <p:spPr>
              <a:xfrm>
                <a:off x="5003640" y="4941720"/>
                <a:ext cx="21607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nπt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355" name="AutoShape 49"/>
          <p:cNvCxnSpPr/>
          <p:nvPr/>
        </p:nvCxnSpPr>
        <p:spPr>
          <a:xfrm flipH="1" flipV="1" rot="10800000">
            <a:off x="4896360" y="1506600"/>
            <a:ext cx="106920" cy="3892680"/>
          </a:xfrm>
          <a:prstGeom prst="bentConnector3">
            <a:avLst>
              <a:gd name="adj1" fmla="val -214864"/>
            </a:avLst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56" name="Rectangle 5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50"/>
              <p:cNvSpPr txBox="1"/>
              <p:nvPr/>
            </p:nvSpPr>
            <p:spPr>
              <a:xfrm>
                <a:off x="512640" y="3860640"/>
                <a:ext cx="29354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nπ</m:t>
                            </m:r>
                          </m:den>
                        </m:f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nπ</m:t>
                            </m:r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8" name="Rectangle 5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52"/>
              <p:cNvSpPr txBox="1"/>
              <p:nvPr/>
            </p:nvSpPr>
            <p:spPr>
              <a:xfrm>
                <a:off x="900000" y="4653000"/>
                <a:ext cx="24480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π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wheel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7C0E-1CE0-495B-9971-D23B57674F32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F69D9E7F-0715-4B43-8CD3-E06C51655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F Fungsi Genap dan Fungsi Ganjil #  5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5"/>
              <p:cNvSpPr txBox="1"/>
              <p:nvPr/>
            </p:nvSpPr>
            <p:spPr>
              <a:xfrm>
                <a:off x="468360" y="1125360"/>
                <a:ext cx="2717640" cy="6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π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π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5" name="Text Box 6"/>
          <p:cNvSpPr/>
          <p:nvPr/>
        </p:nvSpPr>
        <p:spPr>
          <a:xfrm>
            <a:off x="3418560" y="1197000"/>
            <a:ext cx="164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t + 2 </a:t>
            </a:r>
            <a:r>
              <a:rPr b="0" lang="id-ID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= f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9"/>
          <p:cNvGrpSpPr/>
          <p:nvPr/>
        </p:nvGrpSpPr>
        <p:grpSpPr>
          <a:xfrm>
            <a:off x="468360" y="1773360"/>
            <a:ext cx="3960720" cy="1800000"/>
            <a:chOff x="468360" y="1773360"/>
            <a:chExt cx="3960720" cy="1800000"/>
          </a:xfrm>
        </p:grpSpPr>
        <p:sp>
          <p:nvSpPr>
            <p:cNvPr id="367" name="Line 20"/>
            <p:cNvSpPr/>
            <p:nvPr/>
          </p:nvSpPr>
          <p:spPr>
            <a:xfrm>
              <a:off x="468360" y="3068640"/>
              <a:ext cx="39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1"/>
            <p:cNvSpPr/>
            <p:nvPr/>
          </p:nvSpPr>
          <p:spPr>
            <a:xfrm flipV="1">
              <a:off x="2340000" y="1773360"/>
              <a:ext cx="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2"/>
            <p:cNvSpPr/>
            <p:nvPr/>
          </p:nvSpPr>
          <p:spPr>
            <a:xfrm>
              <a:off x="3060720" y="234936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23"/>
            <p:cNvSpPr/>
            <p:nvPr/>
          </p:nvSpPr>
          <p:spPr>
            <a:xfrm>
              <a:off x="3566160" y="3068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V="1">
              <a:off x="2340000" y="2349000"/>
              <a:ext cx="720720" cy="7189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H="1" flipV="1">
              <a:off x="3060720" y="2349000"/>
              <a:ext cx="720720" cy="7189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26"/>
            <p:cNvSpPr/>
            <p:nvPr/>
          </p:nvSpPr>
          <p:spPr>
            <a:xfrm>
              <a:off x="2934000" y="30686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27"/>
            <p:cNvSpPr/>
            <p:nvPr/>
          </p:nvSpPr>
          <p:spPr>
            <a:xfrm>
              <a:off x="1982880" y="213336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8"/>
            <p:cNvSpPr/>
            <p:nvPr/>
          </p:nvSpPr>
          <p:spPr>
            <a:xfrm flipH="1">
              <a:off x="2340000" y="23493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Line 30"/>
          <p:cNvSpPr/>
          <p:nvPr/>
        </p:nvSpPr>
        <p:spPr>
          <a:xfrm flipH="1" flipV="1">
            <a:off x="1620720" y="2349360"/>
            <a:ext cx="720720" cy="7192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1"/>
          <p:cNvSpPr/>
          <p:nvPr/>
        </p:nvSpPr>
        <p:spPr>
          <a:xfrm flipV="1">
            <a:off x="900000" y="2349360"/>
            <a:ext cx="720720" cy="7192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2"/>
          <p:cNvSpPr/>
          <p:nvPr/>
        </p:nvSpPr>
        <p:spPr>
          <a:xfrm>
            <a:off x="1620720" y="2349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3"/>
          <p:cNvSpPr/>
          <p:nvPr/>
        </p:nvSpPr>
        <p:spPr>
          <a:xfrm>
            <a:off x="162072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4"/>
          <p:cNvSpPr/>
          <p:nvPr/>
        </p:nvSpPr>
        <p:spPr>
          <a:xfrm>
            <a:off x="1457640" y="3013200"/>
            <a:ext cx="4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d-ID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5"/>
          <p:cNvSpPr/>
          <p:nvPr/>
        </p:nvSpPr>
        <p:spPr>
          <a:xfrm>
            <a:off x="626040" y="303840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id-ID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6"/>
          <p:cNvSpPr/>
          <p:nvPr/>
        </p:nvSpPr>
        <p:spPr>
          <a:xfrm>
            <a:off x="3564000" y="1700280"/>
            <a:ext cx="1368360" cy="503280"/>
          </a:xfrm>
          <a:prstGeom prst="wedgeRoundRectCallout">
            <a:avLst>
              <a:gd name="adj1" fmla="val -58351"/>
              <a:gd name="adj2" fmla="val 1181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37"/>
              <p:cNvSpPr txBox="1"/>
              <p:nvPr/>
            </p:nvSpPr>
            <p:spPr>
              <a:xfrm>
                <a:off x="5229360" y="981000"/>
                <a:ext cx="14922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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Rectangle 40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39"/>
              <p:cNvSpPr txBox="1"/>
              <p:nvPr/>
            </p:nvSpPr>
            <p:spPr>
              <a:xfrm>
                <a:off x="6869160" y="981000"/>
                <a:ext cx="1165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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7" name="Rectangle 42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41"/>
              <p:cNvSpPr txBox="1"/>
              <p:nvPr/>
            </p:nvSpPr>
            <p:spPr>
              <a:xfrm>
                <a:off x="5580000" y="1844640"/>
                <a:ext cx="10080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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9" name="Text Box 43"/>
          <p:cNvSpPr/>
          <p:nvPr/>
        </p:nvSpPr>
        <p:spPr>
          <a:xfrm>
            <a:off x="6568200" y="207792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id-ID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45"/>
              <p:cNvSpPr txBox="1"/>
              <p:nvPr/>
            </p:nvSpPr>
            <p:spPr>
              <a:xfrm>
                <a:off x="5292720" y="2708280"/>
                <a:ext cx="17287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Rectangle 48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47"/>
              <p:cNvSpPr txBox="1"/>
              <p:nvPr/>
            </p:nvSpPr>
            <p:spPr>
              <a:xfrm>
                <a:off x="5651640" y="3573360"/>
                <a:ext cx="21603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π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π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Rectangle 5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9"/>
              <p:cNvSpPr txBox="1"/>
              <p:nvPr/>
            </p:nvSpPr>
            <p:spPr>
              <a:xfrm>
                <a:off x="5651640" y="4365720"/>
                <a:ext cx="1296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t xml:space="preserve">|</m:t>
                    </m:r>
                    <m:m>
                      <m:mr>
                        <m:e>
                          <m:r>
                            <m:t xml:space="preserve">π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96" name="Rectangle 5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51"/>
              <p:cNvSpPr txBox="1"/>
              <p:nvPr/>
            </p:nvSpPr>
            <p:spPr>
              <a:xfrm>
                <a:off x="5724360" y="5084640"/>
                <a:ext cx="1584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nπ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8" name="Rectangle 5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53"/>
              <p:cNvSpPr txBox="1"/>
              <p:nvPr/>
            </p:nvSpPr>
            <p:spPr>
              <a:xfrm>
                <a:off x="611280" y="3873600"/>
                <a:ext cx="3240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π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nπ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00" name="Rectangle 5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55"/>
              <p:cNvSpPr txBox="1"/>
              <p:nvPr/>
            </p:nvSpPr>
            <p:spPr>
              <a:xfrm>
                <a:off x="1052640" y="4724280"/>
                <a:ext cx="278748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slow">
    <p:wheel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Date Placeholder 4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928C-14CC-413B-813A-71E8EFFB36BC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5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12700232-8825-4193-B1D6-1A3DAF201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6920" y="98100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Selidiki apakah fungsi berikut genap, ganjil atau tidak kedua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f(t) = t( 1 - t ) , 0 &lt; t &lt; 1 ,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4360" y="2924280"/>
            <a:ext cx="77040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Diketahui f(t) periodik dengan peri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ditentukan oleh f(t) = t ( t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)  untuk 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&lt; t &l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. Tentukan deret Fourier f(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ungsi f(t) berikut dipandang periodik dengan periode 2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. Tentukan Deret Fourie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5"/>
              <p:cNvSpPr txBox="1"/>
              <p:nvPr/>
            </p:nvSpPr>
            <p:spPr>
              <a:xfrm>
                <a:off x="1332000" y="2260440"/>
                <a:ext cx="546552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π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π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Rectangle 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7"/>
              <p:cNvSpPr txBox="1"/>
              <p:nvPr/>
            </p:nvSpPr>
            <p:spPr>
              <a:xfrm>
                <a:off x="1338120" y="4941720"/>
                <a:ext cx="38815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π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π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BA5C-3742-4D74-94EC-B405BD814AC0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8039E243-4056-449A-9C2C-03333222F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ungsi Periodik # 1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920" y="1267920"/>
            <a:ext cx="70581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ungsi f(t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id-ID" sz="2400" spc="-1" strike="noStrike" u="sng">
                <a:solidFill>
                  <a:srgbClr val="000000"/>
                </a:solidFill>
                <a:uFillTx/>
                <a:latin typeface="Arial"/>
              </a:rPr>
              <a:t>fungsi periodik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bil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 bilangan 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, sehingga berlaku f(t+p) = f(t) untuk setiap 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p terkecil disebut </a:t>
            </a:r>
            <a:r>
              <a:rPr b="1" lang="id-ID" sz="2400" spc="-1" strike="noStrike" u="sng">
                <a:solidFill>
                  <a:srgbClr val="000000"/>
                </a:solidFill>
                <a:uFillTx/>
                <a:latin typeface="Arial"/>
              </a:rPr>
              <a:t>periode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dari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Jumlah fungsi periodik merupakan fungsi periodik. 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Misal f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(t), f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(t), f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3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(t),…., f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n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(t)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: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ungsi periodik dengan 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 periode p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, p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,…, p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, m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aka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f(t) = 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f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(t) + f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(t) + f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3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(t) +….+ f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n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(t)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ungsi periodik dengan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 periode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 = K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elipata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ersekutua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erkecil (KPK ) dari p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, p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, …, p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n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4009-6A6F-4C99-815E-116F97CCEBE9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14A2AD72-5FBA-4092-AD3E-0DF0B05C9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Perluasan Fungsi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1110960" y="1021320"/>
            <a:ext cx="59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isal fungsi f(t) terdefinisi pada  0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rc 4"/>
          <p:cNvSpPr/>
          <p:nvPr/>
        </p:nvSpPr>
        <p:spPr>
          <a:xfrm flipV="1" rot="6352200">
            <a:off x="1834920" y="2061360"/>
            <a:ext cx="504720" cy="647640"/>
          </a:xfrm>
          <a:prstGeom prst="pie">
            <a:avLst/>
          </a:prstGeom>
          <a:noFill/>
          <a:ln w="28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rc 6"/>
          <p:cNvSpPr/>
          <p:nvPr/>
        </p:nvSpPr>
        <p:spPr>
          <a:xfrm flipV="1">
            <a:off x="2340000" y="2059920"/>
            <a:ext cx="504720" cy="647640"/>
          </a:xfrm>
          <a:prstGeom prst="pie">
            <a:avLst/>
          </a:pr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8"/>
          <p:cNvSpPr/>
          <p:nvPr/>
        </p:nvSpPr>
        <p:spPr>
          <a:xfrm>
            <a:off x="183672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1260360" y="1699920"/>
            <a:ext cx="2232000" cy="1873080"/>
            <a:chOff x="1260360" y="1699920"/>
            <a:chExt cx="2232000" cy="1873080"/>
          </a:xfrm>
        </p:grpSpPr>
        <p:sp>
          <p:nvSpPr>
            <p:cNvPr id="421" name="Line 10"/>
            <p:cNvSpPr/>
            <p:nvPr/>
          </p:nvSpPr>
          <p:spPr>
            <a:xfrm flipV="1">
              <a:off x="2339640" y="1699920"/>
              <a:ext cx="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11"/>
            <p:cNvSpPr/>
            <p:nvPr/>
          </p:nvSpPr>
          <p:spPr>
            <a:xfrm>
              <a:off x="1260360" y="270828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rc 12"/>
            <p:cNvSpPr/>
            <p:nvPr/>
          </p:nvSpPr>
          <p:spPr>
            <a:xfrm flipV="1">
              <a:off x="2339640" y="2059920"/>
              <a:ext cx="505080" cy="64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13"/>
            <p:cNvSpPr/>
            <p:nvPr/>
          </p:nvSpPr>
          <p:spPr>
            <a:xfrm>
              <a:off x="2830320" y="221940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4"/>
            <p:cNvSpPr/>
            <p:nvPr/>
          </p:nvSpPr>
          <p:spPr>
            <a:xfrm>
              <a:off x="2695680" y="2670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Text Box 15"/>
          <p:cNvSpPr/>
          <p:nvPr/>
        </p:nvSpPr>
        <p:spPr>
          <a:xfrm>
            <a:off x="1478160" y="26701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6"/>
          <p:cNvSpPr/>
          <p:nvPr/>
        </p:nvSpPr>
        <p:spPr>
          <a:xfrm>
            <a:off x="3780000" y="1773360"/>
            <a:ext cx="49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t) diperluas menjadi fungsi genap  pada (-L,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8"/>
          <p:cNvSpPr/>
          <p:nvPr/>
        </p:nvSpPr>
        <p:spPr>
          <a:xfrm>
            <a:off x="3859200" y="278136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20"/>
              <p:cNvSpPr txBox="1"/>
              <p:nvPr/>
            </p:nvSpPr>
            <p:spPr>
              <a:xfrm>
                <a:off x="3851280" y="3213000"/>
                <a:ext cx="1873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21"/>
              <p:cNvSpPr txBox="1"/>
              <p:nvPr/>
            </p:nvSpPr>
            <p:spPr>
              <a:xfrm>
                <a:off x="5940360" y="3213000"/>
                <a:ext cx="2808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23"/>
              <p:cNvSpPr txBox="1"/>
              <p:nvPr/>
            </p:nvSpPr>
            <p:spPr>
              <a:xfrm>
                <a:off x="1979640" y="4221000"/>
                <a:ext cx="36003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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  <m:r>
                      <m:t xml:space="preserve">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Text Box 24"/>
          <p:cNvSpPr/>
          <p:nvPr/>
        </p:nvSpPr>
        <p:spPr>
          <a:xfrm>
            <a:off x="1979640" y="5267160"/>
            <a:ext cx="43927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b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F Cosin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ri f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7"/>
          <p:cNvSpPr/>
          <p:nvPr/>
        </p:nvSpPr>
        <p:spPr>
          <a:xfrm>
            <a:off x="-18108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2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9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6A11-7C85-41C7-A721-42455A4A2F5C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DBDBFC7E-46E9-40AA-9F97-4F2D02F0D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Perluasan Fungsi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966600" y="1021320"/>
            <a:ext cx="59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isal fungsi f(t) terdefinisi pada  0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rc 5"/>
          <p:cNvSpPr/>
          <p:nvPr/>
        </p:nvSpPr>
        <p:spPr>
          <a:xfrm flipV="1" rot="10800000">
            <a:off x="1763640" y="2707200"/>
            <a:ext cx="504720" cy="647640"/>
          </a:xfrm>
          <a:prstGeom prst="pie">
            <a:avLst/>
          </a:pr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rc 6"/>
          <p:cNvSpPr/>
          <p:nvPr/>
        </p:nvSpPr>
        <p:spPr>
          <a:xfrm flipV="1">
            <a:off x="2266920" y="2059920"/>
            <a:ext cx="504720" cy="647640"/>
          </a:xfrm>
          <a:prstGeom prst="pie">
            <a:avLst/>
          </a:pr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7"/>
          <p:cNvSpPr/>
          <p:nvPr/>
        </p:nvSpPr>
        <p:spPr>
          <a:xfrm>
            <a:off x="1763640" y="2708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9"/>
          <p:cNvGrpSpPr/>
          <p:nvPr/>
        </p:nvGrpSpPr>
        <p:grpSpPr>
          <a:xfrm>
            <a:off x="1187280" y="1699920"/>
            <a:ext cx="2232000" cy="1873080"/>
            <a:chOff x="1187280" y="1699920"/>
            <a:chExt cx="2232000" cy="1873080"/>
          </a:xfrm>
        </p:grpSpPr>
        <p:sp>
          <p:nvSpPr>
            <p:cNvPr id="444" name="Line 10"/>
            <p:cNvSpPr/>
            <p:nvPr/>
          </p:nvSpPr>
          <p:spPr>
            <a:xfrm flipV="1">
              <a:off x="2266560" y="1699920"/>
              <a:ext cx="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11"/>
            <p:cNvSpPr/>
            <p:nvPr/>
          </p:nvSpPr>
          <p:spPr>
            <a:xfrm>
              <a:off x="1187280" y="270828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rc 12"/>
            <p:cNvSpPr/>
            <p:nvPr/>
          </p:nvSpPr>
          <p:spPr>
            <a:xfrm flipV="1">
              <a:off x="2266560" y="2059920"/>
              <a:ext cx="505080" cy="64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3"/>
            <p:cNvSpPr/>
            <p:nvPr/>
          </p:nvSpPr>
          <p:spPr>
            <a:xfrm>
              <a:off x="2757240" y="221940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14"/>
            <p:cNvSpPr/>
            <p:nvPr/>
          </p:nvSpPr>
          <p:spPr>
            <a:xfrm>
              <a:off x="2622600" y="2670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Text Box 15"/>
          <p:cNvSpPr/>
          <p:nvPr/>
        </p:nvSpPr>
        <p:spPr>
          <a:xfrm>
            <a:off x="1405080" y="26701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7"/>
          <p:cNvSpPr/>
          <p:nvPr/>
        </p:nvSpPr>
        <p:spPr>
          <a:xfrm>
            <a:off x="3708360" y="170028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t) diperluas menjadi  fungsi ganjil  pada (-L,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6"/>
          <p:cNvSpPr/>
          <p:nvPr/>
        </p:nvSpPr>
        <p:spPr>
          <a:xfrm>
            <a:off x="3793680" y="2635200"/>
            <a:ext cx="243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da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28"/>
              <p:cNvSpPr txBox="1"/>
              <p:nvPr/>
            </p:nvSpPr>
            <p:spPr>
              <a:xfrm>
                <a:off x="3851280" y="3141720"/>
                <a:ext cx="2808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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nπ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6" name="Rectangle 2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30"/>
              <p:cNvSpPr txBox="1"/>
              <p:nvPr/>
            </p:nvSpPr>
            <p:spPr>
              <a:xfrm>
                <a:off x="2124000" y="4076640"/>
                <a:ext cx="31687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</m:t>
                        </m:r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8" name="Text Box 31"/>
          <p:cNvSpPr/>
          <p:nvPr/>
        </p:nvSpPr>
        <p:spPr>
          <a:xfrm>
            <a:off x="2202480" y="5227560"/>
            <a:ext cx="3602160" cy="459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bu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F Sin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ri f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7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3377"/>
                            </p:stCondLst>
                            <p:childTnLst>
                              <p:par>
                                <p:cTn id="9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500"/>
                            </p:stCondLst>
                            <p:childTnLst>
                              <p:par>
                                <p:cTn id="10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6C9E-6F16-47E9-AC36-D83AA10FD7DC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6D0C95B4-02D9-40B2-BACC-FC9740E8F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539640" y="981000"/>
            <a:ext cx="80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ukan DF Cosinus dari fungsi f(t) = t ; 0 &lt; t &lt; 2  yang dipandang periodik dengan periode p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5"/>
              <p:cNvSpPr txBox="1"/>
              <p:nvPr/>
            </p:nvSpPr>
            <p:spPr>
              <a:xfrm>
                <a:off x="611280" y="1700280"/>
                <a:ext cx="1584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6"/>
              <p:cNvSpPr txBox="1"/>
              <p:nvPr/>
            </p:nvSpPr>
            <p:spPr>
              <a:xfrm>
                <a:off x="666720" y="2637000"/>
                <a:ext cx="211608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nπ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7"/>
              <p:cNvSpPr txBox="1"/>
              <p:nvPr/>
            </p:nvSpPr>
            <p:spPr>
              <a:xfrm>
                <a:off x="2268360" y="1765440"/>
                <a:ext cx="776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68" name="Text Box 8"/>
          <p:cNvSpPr/>
          <p:nvPr/>
        </p:nvSpPr>
        <p:spPr>
          <a:xfrm>
            <a:off x="3041280" y="200808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3770640" y="1819440"/>
            <a:ext cx="5252400" cy="7038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= 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 = dt  d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v = cos ( n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/2) d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 =  (2/n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sin (n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0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11"/>
              <p:cNvSpPr txBox="1"/>
              <p:nvPr/>
            </p:nvSpPr>
            <p:spPr>
              <a:xfrm>
                <a:off x="2844720" y="2708280"/>
                <a:ext cx="2373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nπ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nπ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2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13"/>
              <p:cNvSpPr txBox="1"/>
              <p:nvPr/>
            </p:nvSpPr>
            <p:spPr>
              <a:xfrm>
                <a:off x="5435640" y="2637000"/>
                <a:ext cx="19652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π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4" name="Rectangle 1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15"/>
              <p:cNvSpPr txBox="1"/>
              <p:nvPr/>
            </p:nvSpPr>
            <p:spPr>
              <a:xfrm>
                <a:off x="1062000" y="3467160"/>
                <a:ext cx="18543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 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nπ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6" name="Rectangle 1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17"/>
              <p:cNvSpPr txBox="1"/>
              <p:nvPr/>
            </p:nvSpPr>
            <p:spPr>
              <a:xfrm>
                <a:off x="684360" y="4230720"/>
                <a:ext cx="22460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</m:t>
                        </m:r>
                        <m:f>
                          <m:num>
                            <m:r>
                              <m:t xml:space="preserve">nπ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8" name="Rectangle 1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19"/>
              <p:cNvSpPr txBox="1"/>
              <p:nvPr/>
            </p:nvSpPr>
            <p:spPr>
              <a:xfrm>
                <a:off x="3021120" y="4202280"/>
                <a:ext cx="31352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 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nπ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nπ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0" name="Rectangle 20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21"/>
              <p:cNvSpPr txBox="1"/>
              <p:nvPr/>
            </p:nvSpPr>
            <p:spPr>
              <a:xfrm>
                <a:off x="969840" y="5054760"/>
                <a:ext cx="50468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π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Rectangle 2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Object 23"/>
              <p:cNvSpPr txBox="1"/>
              <p:nvPr/>
            </p:nvSpPr>
            <p:spPr>
              <a:xfrm>
                <a:off x="5918040" y="5075280"/>
                <a:ext cx="2779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slow">
    <p:blinds dir="horz"/>
  </p:transition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2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4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F42B-2C58-4C51-AF37-8B3335419049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ooter Placeholder 5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F0356799-30D5-4CB5-87D4-0F1222DB9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# 1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99640" y="980640"/>
            <a:ext cx="7559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Nyatakan f(t) = t , ( 0 &lt; t &l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sebagai deret Fourier sinus dan gambar grafik perluasan periodik dari f(t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a -5 &lt; t &lt; 5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bila f(t) dipandang periodik dengan periode  p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lai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4"/>
              <p:cNvSpPr txBox="1"/>
              <p:nvPr/>
            </p:nvSpPr>
            <p:spPr>
              <a:xfrm>
                <a:off x="839880" y="2781360"/>
                <a:ext cx="301140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</m:t>
                            </m:r>
                            <m:r>
                              <m:t xml:space="preserve">π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91" name="Text Box 6"/>
          <p:cNvSpPr/>
          <p:nvPr/>
        </p:nvSpPr>
        <p:spPr>
          <a:xfrm>
            <a:off x="4054320" y="2637000"/>
            <a:ext cx="4478400" cy="119124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= dt  d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 = sin (n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) d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 =  - 1/n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s (n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7"/>
              <p:cNvSpPr txBox="1"/>
              <p:nvPr/>
            </p:nvSpPr>
            <p:spPr>
              <a:xfrm>
                <a:off x="1500120" y="3973680"/>
                <a:ext cx="43671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nπ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nπt</m:t>
                        </m:r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nπ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9"/>
              <p:cNvSpPr txBox="1"/>
              <p:nvPr/>
            </p:nvSpPr>
            <p:spPr>
              <a:xfrm>
                <a:off x="1515960" y="4869000"/>
                <a:ext cx="44640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nπ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nπt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nπ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nπt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0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Date Placeholder 5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F6EC-6831-45E0-9BD0-3E342B71018B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6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BF29F50B-2B64-4487-9391-C8190294F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toh # 2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4"/>
              <p:cNvSpPr txBox="1"/>
              <p:nvPr/>
            </p:nvSpPr>
            <p:spPr>
              <a:xfrm>
                <a:off x="1116000" y="1916280"/>
                <a:ext cx="35272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π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nπ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6"/>
              <p:cNvSpPr txBox="1"/>
              <p:nvPr/>
            </p:nvSpPr>
            <p:spPr>
              <a:xfrm>
                <a:off x="1116000" y="1052640"/>
                <a:ext cx="45356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π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nπ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nπ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nπ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01" name=""/>
          <p:cNvGraphicFramePr/>
          <p:nvPr/>
        </p:nvGraphicFramePr>
        <p:xfrm>
          <a:off x="1187280" y="2708280"/>
          <a:ext cx="5616720" cy="1000080"/>
        </p:xfrm>
        <a:graphic>
          <a:graphicData uri="http://schemas.openxmlformats.org/drawingml/2006/table">
            <a:tbl>
              <a:tblPr/>
              <a:tblGrid>
                <a:gridCol w="1368720"/>
                <a:gridCol w="863640"/>
                <a:gridCol w="792000"/>
                <a:gridCol w="863640"/>
                <a:gridCol w="792000"/>
                <a:gridCol w="936720"/>
              </a:tblGrid>
              <a:tr h="54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 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Rectangle 3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38"/>
              <p:cNvSpPr txBox="1"/>
              <p:nvPr/>
            </p:nvSpPr>
            <p:spPr>
              <a:xfrm>
                <a:off x="1168560" y="3933720"/>
                <a:ext cx="3835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4" name="Rectangle 4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44"/>
              <p:cNvSpPr txBox="1"/>
              <p:nvPr/>
            </p:nvSpPr>
            <p:spPr>
              <a:xfrm>
                <a:off x="1185840" y="4797360"/>
                <a:ext cx="424980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π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nπ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C6A4-67C8-4A15-9AB9-1729F10D1112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F7F8CF3E-CA95-4D1D-832B-B09BA9C03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toh # 3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fik perluasan dari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(t) = t , ( 0 &lt; t &l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ngan periode p = 2 pada -5 &lt; t &lt;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Ganj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13"/>
          <p:cNvGrpSpPr/>
          <p:nvPr/>
        </p:nvGrpSpPr>
        <p:grpSpPr>
          <a:xfrm>
            <a:off x="1332000" y="2565000"/>
            <a:ext cx="6478920" cy="2663640"/>
            <a:chOff x="1332000" y="2565000"/>
            <a:chExt cx="6478920" cy="2663640"/>
          </a:xfrm>
        </p:grpSpPr>
        <p:sp>
          <p:nvSpPr>
            <p:cNvPr id="512" name="Line 4"/>
            <p:cNvSpPr/>
            <p:nvPr/>
          </p:nvSpPr>
          <p:spPr>
            <a:xfrm flipV="1">
              <a:off x="4140360" y="2565000"/>
              <a:ext cx="0" cy="266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5"/>
            <p:cNvSpPr/>
            <p:nvPr/>
          </p:nvSpPr>
          <p:spPr>
            <a:xfrm>
              <a:off x="1332000" y="3933720"/>
              <a:ext cx="641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6"/>
            <p:cNvSpPr/>
            <p:nvPr/>
          </p:nvSpPr>
          <p:spPr>
            <a:xfrm flipV="1">
              <a:off x="4140360" y="3429000"/>
              <a:ext cx="50292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7"/>
            <p:cNvSpPr/>
            <p:nvPr/>
          </p:nvSpPr>
          <p:spPr>
            <a:xfrm>
              <a:off x="46432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8"/>
            <p:cNvSpPr/>
            <p:nvPr/>
          </p:nvSpPr>
          <p:spPr>
            <a:xfrm flipH="1">
              <a:off x="4140000" y="342900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9"/>
            <p:cNvSpPr/>
            <p:nvPr/>
          </p:nvSpPr>
          <p:spPr>
            <a:xfrm>
              <a:off x="4435920" y="4024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10"/>
            <p:cNvSpPr/>
            <p:nvPr/>
          </p:nvSpPr>
          <p:spPr>
            <a:xfrm>
              <a:off x="3853080" y="3213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7544880" y="40050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Line 12"/>
          <p:cNvSpPr/>
          <p:nvPr/>
        </p:nvSpPr>
        <p:spPr>
          <a:xfrm flipV="1">
            <a:off x="4643280" y="3933360"/>
            <a:ext cx="50328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4"/>
          <p:cNvSpPr/>
          <p:nvPr/>
        </p:nvSpPr>
        <p:spPr>
          <a:xfrm flipV="1">
            <a:off x="3635280" y="3933360"/>
            <a:ext cx="50328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5"/>
          <p:cNvSpPr/>
          <p:nvPr/>
        </p:nvSpPr>
        <p:spPr>
          <a:xfrm flipV="1">
            <a:off x="3132000" y="3429000"/>
            <a:ext cx="50328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6"/>
          <p:cNvSpPr/>
          <p:nvPr/>
        </p:nvSpPr>
        <p:spPr>
          <a:xfrm flipV="1">
            <a:off x="5148360" y="3429000"/>
            <a:ext cx="50328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7"/>
          <p:cNvSpPr/>
          <p:nvPr/>
        </p:nvSpPr>
        <p:spPr>
          <a:xfrm flipV="1">
            <a:off x="5653080" y="3933360"/>
            <a:ext cx="50328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8"/>
          <p:cNvSpPr/>
          <p:nvPr/>
        </p:nvSpPr>
        <p:spPr>
          <a:xfrm flipV="1">
            <a:off x="6156360" y="3429000"/>
            <a:ext cx="50328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9"/>
          <p:cNvSpPr/>
          <p:nvPr/>
        </p:nvSpPr>
        <p:spPr>
          <a:xfrm flipV="1">
            <a:off x="2627280" y="3932280"/>
            <a:ext cx="50328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20"/>
          <p:cNvSpPr/>
          <p:nvPr/>
        </p:nvSpPr>
        <p:spPr>
          <a:xfrm>
            <a:off x="3635280" y="443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21"/>
          <p:cNvSpPr/>
          <p:nvPr/>
        </p:nvSpPr>
        <p:spPr>
          <a:xfrm flipV="1">
            <a:off x="363528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2"/>
          <p:cNvSpPr/>
          <p:nvPr/>
        </p:nvSpPr>
        <p:spPr>
          <a:xfrm flipV="1">
            <a:off x="464328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3"/>
          <p:cNvSpPr/>
          <p:nvPr/>
        </p:nvSpPr>
        <p:spPr>
          <a:xfrm flipV="1">
            <a:off x="565164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24"/>
          <p:cNvSpPr/>
          <p:nvPr/>
        </p:nvSpPr>
        <p:spPr>
          <a:xfrm flipV="1">
            <a:off x="262728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25"/>
          <p:cNvSpPr/>
          <p:nvPr/>
        </p:nvSpPr>
        <p:spPr>
          <a:xfrm flipV="1">
            <a:off x="3635280" y="342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6"/>
          <p:cNvSpPr/>
          <p:nvPr/>
        </p:nvSpPr>
        <p:spPr>
          <a:xfrm flipV="1">
            <a:off x="5651640" y="342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7"/>
          <p:cNvSpPr/>
          <p:nvPr/>
        </p:nvSpPr>
        <p:spPr>
          <a:xfrm flipV="1">
            <a:off x="2627280" y="342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8"/>
          <p:cNvSpPr/>
          <p:nvPr/>
        </p:nvSpPr>
        <p:spPr>
          <a:xfrm flipV="1">
            <a:off x="2124000" y="3429000"/>
            <a:ext cx="50328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29"/>
          <p:cNvSpPr/>
          <p:nvPr/>
        </p:nvSpPr>
        <p:spPr>
          <a:xfrm flipV="1">
            <a:off x="1620720" y="3933360"/>
            <a:ext cx="50328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0"/>
          <p:cNvSpPr/>
          <p:nvPr/>
        </p:nvSpPr>
        <p:spPr>
          <a:xfrm flipV="1">
            <a:off x="161928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1"/>
          <p:cNvSpPr/>
          <p:nvPr/>
        </p:nvSpPr>
        <p:spPr>
          <a:xfrm flipV="1">
            <a:off x="6659640" y="3430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33"/>
          <p:cNvSpPr/>
          <p:nvPr/>
        </p:nvSpPr>
        <p:spPr>
          <a:xfrm rot="16200000">
            <a:off x="3996360" y="4221720"/>
            <a:ext cx="287640" cy="1006200"/>
          </a:xfrm>
          <a:custGeom>
            <a:avLst/>
            <a:gdLst>
              <a:gd name="textAreaLeft" fmla="*/ 183960 w 287640"/>
              <a:gd name="textAreaRight" fmla="*/ 288000 w 287640"/>
              <a:gd name="textAreaTop" fmla="*/ 25920 h 1006200"/>
              <a:gd name="textAreaBottom" fmla="*/ 980280 h 100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4"/>
          <p:cNvSpPr/>
          <p:nvPr/>
        </p:nvSpPr>
        <p:spPr>
          <a:xfrm>
            <a:off x="3746520" y="472428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5"/>
          <p:cNvSpPr/>
          <p:nvPr/>
        </p:nvSpPr>
        <p:spPr>
          <a:xfrm>
            <a:off x="4716360" y="24210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37"/>
          <p:cNvSpPr/>
          <p:nvPr/>
        </p:nvSpPr>
        <p:spPr>
          <a:xfrm rot="5400000">
            <a:off x="5002560" y="2564280"/>
            <a:ext cx="288720" cy="1008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9"/>
          <p:cNvSpPr/>
          <p:nvPr/>
        </p:nvSpPr>
        <p:spPr>
          <a:xfrm>
            <a:off x="6451920" y="39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0"/>
          <p:cNvSpPr/>
          <p:nvPr/>
        </p:nvSpPr>
        <p:spPr>
          <a:xfrm>
            <a:off x="1333080" y="35481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B4C3-5FB5-44D3-A499-02CFB73BC44C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341AF852-C090-4CE6-B32C-9BFB0ED96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7058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ungsi f(t) periodik dengan periode 2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ditentukan oleh </a:t>
            </a:r>
            <a:r>
              <a:rPr b="1" lang="id-ID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(t) =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- t ,  0 &lt; t &lt;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. Tentukan deret Fourier sinu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mbar grafik perluasannya pada selang  – 3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t &lt;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ungsi f(t) periodik dengan periode 2 ditentukan oleh f(t)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 untuk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0 &lt; t &lt; 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an f(t) = 0 untuk ½ &lt; t &lt; 1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. Tentukan deret Fouri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inus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mbarkan grafik perluasannya pada selang – 3 &lt; t &lt;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ungsi f(t) periodik dengan periode 2 ditentukan oleh f(t) = ( t - 1 )</a:t>
            </a:r>
            <a:r>
              <a:rPr b="0" lang="id-ID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,  0 &lt; t &lt; 1. Tentukan deret Fouri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inus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mbarkan grafik perluasannya pada selang – 4 &lt; t &lt;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404D-DBA2-4708-965A-F7409102D6D8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45EE941A-72B1-4520-9058-EB49F9F75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F Kompleks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58560" y="1052640"/>
            <a:ext cx="676908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al fungsi f(t) terdefinisi pada (0,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k dengan periode p =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tinu bagian demi bag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 dari fungsi f(t) dinyataka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5"/>
              <p:cNvSpPr txBox="1"/>
              <p:nvPr/>
            </p:nvSpPr>
            <p:spPr>
              <a:xfrm>
                <a:off x="1692360" y="2852640"/>
                <a:ext cx="3600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6"/>
              <p:cNvSpPr txBox="1"/>
              <p:nvPr/>
            </p:nvSpPr>
            <p:spPr>
              <a:xfrm>
                <a:off x="1763640" y="4221000"/>
                <a:ext cx="374508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58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9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1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3DE2-D636-4143-9D76-281B0B6F6712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75D168E8-766D-44B1-A4C5-CB9F84602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DF Kompleks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5"/>
              <p:cNvSpPr txBox="1"/>
              <p:nvPr/>
            </p:nvSpPr>
            <p:spPr>
              <a:xfrm>
                <a:off x="1187280" y="981000"/>
                <a:ext cx="478188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3" name="Rectangle 6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Object 7"/>
              <p:cNvSpPr txBox="1"/>
              <p:nvPr/>
            </p:nvSpPr>
            <p:spPr>
              <a:xfrm>
                <a:off x="1187280" y="2060640"/>
                <a:ext cx="31687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5" name="Rectangle 8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9"/>
              <p:cNvSpPr txBox="1"/>
              <p:nvPr/>
            </p:nvSpPr>
            <p:spPr>
              <a:xfrm>
                <a:off x="1476360" y="3141720"/>
                <a:ext cx="360036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7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Object 11"/>
              <p:cNvSpPr txBox="1"/>
              <p:nvPr/>
            </p:nvSpPr>
            <p:spPr>
              <a:xfrm>
                <a:off x="1692360" y="4292640"/>
                <a:ext cx="3887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|</m:t>
                    </m:r>
                    <m:m>
                      <m:mr>
                        <m:e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π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|</m:t>
                    </m:r>
                    <m:m>
                      <m:mr>
                        <m:e>
                          <m:r>
                            <m:t xml:space="preserve">2</m:t>
                          </m:r>
                        </m:e>
                      </m:mr>
                      <m:mr>
                        <m:e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79" name="Rectangle 12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20"/>
              <p:cNvSpPr txBox="1"/>
              <p:nvPr/>
            </p:nvSpPr>
            <p:spPr>
              <a:xfrm>
                <a:off x="5076720" y="2043000"/>
                <a:ext cx="32403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slow">
    <p:cover dir="l"/>
  </p:transition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0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177F-3EFE-4BD9-9108-0E0232B44796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22928AE3-5690-45C1-B743-AB743185A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DF Kompleks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16"/>
              <p:cNvSpPr txBox="1"/>
              <p:nvPr/>
            </p:nvSpPr>
            <p:spPr>
              <a:xfrm>
                <a:off x="727200" y="1181160"/>
                <a:ext cx="78771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π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π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π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π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5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Object 18"/>
              <p:cNvSpPr txBox="1"/>
              <p:nvPr/>
            </p:nvSpPr>
            <p:spPr>
              <a:xfrm>
                <a:off x="1476360" y="2276640"/>
                <a:ext cx="360036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π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π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π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7" name="Rectangle 19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Object 20"/>
              <p:cNvSpPr txBox="1"/>
              <p:nvPr/>
            </p:nvSpPr>
            <p:spPr>
              <a:xfrm>
                <a:off x="1474920" y="3357720"/>
                <a:ext cx="252072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π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  <m:r>
                                  <m:t xml:space="preserve">π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9" name="Rectangle 2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Object 22"/>
              <p:cNvSpPr txBox="1"/>
              <p:nvPr/>
            </p:nvSpPr>
            <p:spPr>
              <a:xfrm>
                <a:off x="1476360" y="4508640"/>
                <a:ext cx="540072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π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  <m:r>
                                      <m:t xml:space="preserve">π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Object 24"/>
              <p:cNvSpPr txBox="1"/>
              <p:nvPr/>
            </p:nvSpPr>
            <p:spPr>
              <a:xfrm>
                <a:off x="4932360" y="3213000"/>
                <a:ext cx="36003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slow">
    <p:cover dir="l"/>
  </p:transition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0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500"/>
                            </p:stCondLst>
                            <p:childTnLst>
                              <p:par>
                                <p:cTn id="12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9F6A-48D2-497B-BBA1-9A0B839B84EE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3E563D31-5490-4BE5-9624-1B907784F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Fungsi Periodik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41148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 y = sin x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 =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y = sin 2x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y = sin (nx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 =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sinus"/>
          <p:cNvPicPr/>
          <p:nvPr/>
        </p:nvPicPr>
        <p:blipFill>
          <a:blip r:embed="rId1"/>
          <a:stretch/>
        </p:blipFill>
        <p:spPr>
          <a:xfrm>
            <a:off x="30240" y="765000"/>
            <a:ext cx="4541760" cy="4000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sin2x"/>
          <p:cNvPicPr/>
          <p:nvPr/>
        </p:nvPicPr>
        <p:blipFill>
          <a:blip r:embed="rId2"/>
          <a:stretch/>
        </p:blipFill>
        <p:spPr>
          <a:xfrm>
            <a:off x="4565520" y="765000"/>
            <a:ext cx="4470480" cy="40006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4427640" y="4692600"/>
            <a:ext cx="46083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 y = cos (nx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 =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y = tan (x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y = tan (nx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y = tan (3x) + sin(5x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2427120" y="2052720"/>
            <a:ext cx="1152720" cy="7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 flipV="1">
            <a:off x="2484360" y="1700280"/>
            <a:ext cx="1152720" cy="7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 flipV="1">
            <a:off x="2859120" y="2268000"/>
            <a:ext cx="1152360" cy="82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6948360" y="1700280"/>
            <a:ext cx="5032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7669080" y="1916280"/>
            <a:ext cx="5032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7453440" y="2492280"/>
            <a:ext cx="5032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Date Placeholder 4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5B93-F8A9-4811-9325-8F70A4F37264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ooter Placeholder 5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C3229CE5-F7B6-4C51-AA03-DF5E7888C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ntegral Fourier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042920" y="980640"/>
            <a:ext cx="7345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al f(t) terdefinisi pada (- ½ T, ½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k dengan periode p =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tinu bagian demi bag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efisien Fourier Kompleks dari f(t) dinyatak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Object 5"/>
              <p:cNvSpPr txBox="1"/>
              <p:nvPr/>
            </p:nvSpPr>
            <p:spPr>
              <a:xfrm>
                <a:off x="1476360" y="4221000"/>
                <a:ext cx="547200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e</m:t>
                                </m:r>
                                <m:sSup>
                                  <m:e/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y</m:t>
                                    </m:r>
                                  </m:sup>
                                </m:sSup>
                                <m:r>
                                  <m:t xml:space="preserve">T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6"/>
              <p:cNvSpPr txBox="1"/>
              <p:nvPr/>
            </p:nvSpPr>
            <p:spPr>
              <a:xfrm>
                <a:off x="1476360" y="2882880"/>
                <a:ext cx="32400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2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0" name="Rectangle 8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2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Object 18"/>
              <p:cNvSpPr txBox="1"/>
              <p:nvPr/>
            </p:nvSpPr>
            <p:spPr>
              <a:xfrm>
                <a:off x="4859280" y="2901960"/>
                <a:ext cx="367344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slow">
    <p:comb dir="vert"/>
  </p:transition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0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560"/>
                            </p:stCondLst>
                            <p:childTnLst>
                              <p:par>
                                <p:cTn id="12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060"/>
                            </p:stCondLst>
                            <p:childTnLst>
                              <p:par>
                                <p:cTn id="1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3B3D-3BC6-42CE-ABA9-48C0A0A0DD45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4B60CB14-CE37-4483-95A5-CCFD4DA7E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ntegral Fourier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5"/>
              <p:cNvSpPr txBox="1"/>
              <p:nvPr/>
            </p:nvSpPr>
            <p:spPr>
              <a:xfrm>
                <a:off x="1116000" y="981000"/>
                <a:ext cx="51847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e</m:t>
                                </m:r>
                                <m:sSup>
                                  <m:e/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y</m:t>
                                    </m:r>
                                  </m:sup>
                                </m:sSup>
                                <m:r>
                                  <m:t xml:space="preserve">T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0" name="Rectangle 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9"/>
              <p:cNvSpPr txBox="1"/>
              <p:nvPr/>
            </p:nvSpPr>
            <p:spPr>
              <a:xfrm>
                <a:off x="1116000" y="2205000"/>
                <a:ext cx="12952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10"/>
              <p:cNvSpPr txBox="1"/>
              <p:nvPr/>
            </p:nvSpPr>
            <p:spPr>
              <a:xfrm>
                <a:off x="3203640" y="2205000"/>
                <a:ext cx="24480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Δ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3" name="Text Box 11"/>
          <p:cNvSpPr/>
          <p:nvPr/>
        </p:nvSpPr>
        <p:spPr>
          <a:xfrm>
            <a:off x="2554560" y="234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2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13"/>
              <p:cNvSpPr txBox="1"/>
              <p:nvPr/>
            </p:nvSpPr>
            <p:spPr>
              <a:xfrm>
                <a:off x="1619280" y="2852640"/>
                <a:ext cx="43210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sup>
                                </m:sSup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</m:sup>
                        </m:sSup>
                      </m:e>
                    </m:nary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6" name="Rectangle 14"/>
          <p:cNvSpPr/>
          <p:nvPr/>
        </p:nvSpPr>
        <p:spPr>
          <a:xfrm>
            <a:off x="1092960" y="3907440"/>
            <a:ext cx="573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Bila T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d-ID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id-ID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( 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d-ID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d-ID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0) dan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x, maka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Object 16"/>
              <p:cNvSpPr txBox="1"/>
              <p:nvPr/>
            </p:nvSpPr>
            <p:spPr>
              <a:xfrm>
                <a:off x="1116000" y="4437000"/>
                <a:ext cx="604836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x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9" name="Text Box 17"/>
          <p:cNvSpPr/>
          <p:nvPr/>
        </p:nvSpPr>
        <p:spPr>
          <a:xfrm>
            <a:off x="2194560" y="544500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isebut  Integral Fou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0" name="AutoShape 19"/>
          <p:cNvCxnSpPr/>
          <p:nvPr/>
        </p:nvCxnSpPr>
        <p:spPr>
          <a:xfrm flipH="1" flipV="1" rot="10800000">
            <a:off x="1115640" y="1539360"/>
            <a:ext cx="504000" cy="1834560"/>
          </a:xfrm>
          <a:prstGeom prst="bentConnector3">
            <a:avLst>
              <a:gd name="adj1" fmla="val -81987"/>
            </a:avLst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p:transition spd="slow">
    <p:comb dir="vert"/>
  </p:transition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1560"/>
                            </p:stCondLst>
                            <p:childTnLst>
                              <p:par>
                                <p:cTn id="12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00"/>
                            </p:stCondLst>
                            <p:childTnLst>
                              <p:par>
                                <p:cTn id="12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500"/>
                            </p:stCondLst>
                            <p:childTnLst>
                              <p:par>
                                <p:cTn id="12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0D05-40D7-468C-8BD0-80F6506E8075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AC9AAC6C-AF47-43DF-BF32-1ED3E8576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ransformasi Fourier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3"/>
              <p:cNvSpPr txBox="1"/>
              <p:nvPr/>
            </p:nvSpPr>
            <p:spPr>
              <a:xfrm>
                <a:off x="1763640" y="1052640"/>
                <a:ext cx="604836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x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36" name="AutoShape 4"/>
          <p:cNvSpPr/>
          <p:nvPr/>
        </p:nvSpPr>
        <p:spPr>
          <a:xfrm>
            <a:off x="3564000" y="981000"/>
            <a:ext cx="2879640" cy="129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"/>
          <p:cNvSpPr/>
          <p:nvPr/>
        </p:nvSpPr>
        <p:spPr>
          <a:xfrm>
            <a:off x="401040" y="2781360"/>
            <a:ext cx="723240" cy="459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AutoShape 6"/>
          <p:cNvCxnSpPr>
            <a:stCxn id="636" idx="1"/>
            <a:endCxn id="637" idx="0"/>
          </p:cNvCxnSpPr>
          <p:nvPr/>
        </p:nvCxnSpPr>
        <p:spPr>
          <a:xfrm flipH="1">
            <a:off x="763200" y="1628640"/>
            <a:ext cx="2800800" cy="115344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639" name="Rectangle 7"/>
          <p:cNvSpPr/>
          <p:nvPr/>
        </p:nvSpPr>
        <p:spPr>
          <a:xfrm>
            <a:off x="5031000" y="2797920"/>
            <a:ext cx="386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formasi Four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ri f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Object 8"/>
              <p:cNvSpPr txBox="1"/>
              <p:nvPr/>
            </p:nvSpPr>
            <p:spPr>
              <a:xfrm>
                <a:off x="1660680" y="2460600"/>
                <a:ext cx="33843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  <m:r>
                              <m:t xml:space="preserve"> </m:t>
                            </m:r>
                          </m:sup>
                        </m:sSup>
                      </m:e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1" name="Text Box 9"/>
          <p:cNvSpPr/>
          <p:nvPr/>
        </p:nvSpPr>
        <p:spPr>
          <a:xfrm>
            <a:off x="1186920" y="2800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Object 11"/>
              <p:cNvSpPr txBox="1"/>
              <p:nvPr/>
            </p:nvSpPr>
            <p:spPr>
              <a:xfrm>
                <a:off x="1806480" y="3573360"/>
                <a:ext cx="28656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  <m:r>
                              <m:t xml:space="preserve"> </m:t>
                            </m:r>
                          </m:sup>
                        </m:sSup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644" name="AutoShape 12"/>
          <p:cNvCxnSpPr/>
          <p:nvPr/>
        </p:nvCxnSpPr>
        <p:spPr>
          <a:xfrm flipH="1" flipV="1" rot="10800000">
            <a:off x="1762560" y="1537200"/>
            <a:ext cx="43560" cy="2545560"/>
          </a:xfrm>
          <a:prstGeom prst="bentConnector3">
            <a:avLst>
              <a:gd name="adj1" fmla="val -533333"/>
            </a:avLst>
          </a:prstGeom>
          <a:ln w="2844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645" name="Rectangle 13"/>
          <p:cNvSpPr/>
          <p:nvPr/>
        </p:nvSpPr>
        <p:spPr>
          <a:xfrm>
            <a:off x="4703760" y="3693240"/>
            <a:ext cx="411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formasi Four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ri F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4"/>
          <p:cNvSpPr/>
          <p:nvPr/>
        </p:nvSpPr>
        <p:spPr>
          <a:xfrm>
            <a:off x="1887120" y="488808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15"/>
          <p:cNvSpPr/>
          <p:nvPr/>
        </p:nvSpPr>
        <p:spPr>
          <a:xfrm>
            <a:off x="2556000" y="5013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6"/>
          <p:cNvSpPr/>
          <p:nvPr/>
        </p:nvSpPr>
        <p:spPr>
          <a:xfrm>
            <a:off x="3493440" y="4869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17"/>
          <p:cNvSpPr/>
          <p:nvPr/>
        </p:nvSpPr>
        <p:spPr>
          <a:xfrm>
            <a:off x="1476360" y="4581360"/>
            <a:ext cx="3168720" cy="10796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8"/>
          <p:cNvSpPr/>
          <p:nvPr/>
        </p:nvSpPr>
        <p:spPr>
          <a:xfrm>
            <a:off x="4780440" y="4843440"/>
            <a:ext cx="40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angan Transformasi Fou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0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500"/>
                            </p:stCondLst>
                            <p:childTnLst>
                              <p:par>
                                <p:cTn id="13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500"/>
                            </p:stCondLst>
                            <p:childTnLst>
                              <p:par>
                                <p:cTn id="1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36D1-F45E-493C-B20D-E3EDF51F6FF8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9B2816AC-6FDF-4C2E-A061-3CB02FB30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ransformasi Fourier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4"/>
              <p:cNvSpPr txBox="1"/>
              <p:nvPr/>
            </p:nvSpPr>
            <p:spPr>
              <a:xfrm>
                <a:off x="539640" y="1052640"/>
                <a:ext cx="22320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t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7" name="Rectangle 5"/>
          <p:cNvSpPr/>
          <p:nvPr/>
        </p:nvSpPr>
        <p:spPr>
          <a:xfrm>
            <a:off x="2916360" y="12135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a &gt;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6"/>
          <p:cNvSpPr/>
          <p:nvPr/>
        </p:nvSpPr>
        <p:spPr>
          <a:xfrm>
            <a:off x="4115160" y="119052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s) = ….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Object 8"/>
              <p:cNvSpPr txBox="1"/>
              <p:nvPr/>
            </p:nvSpPr>
            <p:spPr>
              <a:xfrm>
                <a:off x="611280" y="1989000"/>
                <a:ext cx="216036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</m:sup>
                        </m:sSup>
                      </m:e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1" name="Rectangle 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Object 10"/>
              <p:cNvSpPr txBox="1"/>
              <p:nvPr/>
            </p:nvSpPr>
            <p:spPr>
              <a:xfrm>
                <a:off x="2916360" y="2060640"/>
                <a:ext cx="15112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Rectangle 1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Object 12"/>
              <p:cNvSpPr txBox="1"/>
              <p:nvPr/>
            </p:nvSpPr>
            <p:spPr>
              <a:xfrm>
                <a:off x="4500720" y="2060640"/>
                <a:ext cx="14396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Object 13"/>
              <p:cNvSpPr txBox="1"/>
              <p:nvPr/>
            </p:nvSpPr>
            <p:spPr>
              <a:xfrm>
                <a:off x="6012000" y="2028960"/>
                <a:ext cx="1944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6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Object 15"/>
              <p:cNvSpPr txBox="1"/>
              <p:nvPr/>
            </p:nvSpPr>
            <p:spPr>
              <a:xfrm>
                <a:off x="1042920" y="2997360"/>
                <a:ext cx="2305080" cy="66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</m:sup>
                    </m:sSup>
                    <m:r>
                      <m:t xml:space="preserve">|</m:t>
                    </m:r>
                    <m:m>
                      <m:mr>
                        <m:e>
                          <m:r>
                            <m:t xml:space="preserve">x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668" name="Rectangle 1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17"/>
              <p:cNvSpPr txBox="1"/>
              <p:nvPr/>
            </p:nvSpPr>
            <p:spPr>
              <a:xfrm>
                <a:off x="3492360" y="3021120"/>
                <a:ext cx="2448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70" name="Rectangle 1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19"/>
              <p:cNvSpPr txBox="1"/>
              <p:nvPr/>
            </p:nvSpPr>
            <p:spPr>
              <a:xfrm>
                <a:off x="6156360" y="2989440"/>
                <a:ext cx="251928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s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a</m:t>
                                    </m:r>
                                  </m:e>
                                </m:d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72" name="Rectangle 20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Object 21"/>
              <p:cNvSpPr txBox="1"/>
              <p:nvPr/>
            </p:nvSpPr>
            <p:spPr>
              <a:xfrm>
                <a:off x="1042920" y="3789360"/>
                <a:ext cx="1081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4" name="Rectangle 22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Object 23"/>
              <p:cNvSpPr txBox="1"/>
              <p:nvPr/>
            </p:nvSpPr>
            <p:spPr>
              <a:xfrm>
                <a:off x="971640" y="4869000"/>
                <a:ext cx="23763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ainny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76" name="AutoShape 24"/>
          <p:cNvSpPr/>
          <p:nvPr/>
        </p:nvSpPr>
        <p:spPr>
          <a:xfrm>
            <a:off x="3706920" y="5157720"/>
            <a:ext cx="649080" cy="216000"/>
          </a:xfrm>
          <a:prstGeom prst="leftRightArrow">
            <a:avLst>
              <a:gd name="adj1" fmla="val 50000"/>
              <a:gd name="adj2" fmla="val 598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5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26"/>
              <p:cNvSpPr txBox="1"/>
              <p:nvPr/>
            </p:nvSpPr>
            <p:spPr>
              <a:xfrm>
                <a:off x="4789440" y="4797360"/>
                <a:ext cx="172728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nary>
                          <m:naryPr>
                            <m:chr m:val="∏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checker dir="vert"/>
  </p:transition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0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500"/>
                            </p:stCondLst>
                            <p:childTnLst>
                              <p:par>
                                <p:cTn id="14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1D0F-A292-42E7-B75F-54E9FE1718C2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0B4B7632-3E3B-4B58-9412-DA003EB62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042560" y="981000"/>
            <a:ext cx="7643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Tentukan koefisien Fourier kompleks da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Object 4"/>
              <p:cNvSpPr txBox="1"/>
              <p:nvPr/>
            </p:nvSpPr>
            <p:spPr>
              <a:xfrm>
                <a:off x="1473120" y="1716120"/>
                <a:ext cx="5835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≤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6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Object 6"/>
              <p:cNvSpPr txBox="1"/>
              <p:nvPr/>
            </p:nvSpPr>
            <p:spPr>
              <a:xfrm>
                <a:off x="1476360" y="2828880"/>
                <a:ext cx="54007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≤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ainnya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Rectangle 8"/>
          <p:cNvSpPr/>
          <p:nvPr/>
        </p:nvSpPr>
        <p:spPr>
          <a:xfrm>
            <a:off x="971640" y="3860640"/>
            <a:ext cx="7643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Tentuk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si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Fouri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a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0" name="Object 9"/>
              <p:cNvSpPr txBox="1"/>
              <p:nvPr/>
            </p:nvSpPr>
            <p:spPr>
              <a:xfrm>
                <a:off x="1492200" y="4468680"/>
                <a:ext cx="344016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</m:t>
                              </m:r>
                              <m:r>
                                <m:t xml:space="preserve">0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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</m:t>
                              </m:r>
                              <m:r>
                                <m:t xml:space="preserve">t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DCFF-1314-4226-941A-2DB152750BD4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07CAB42E-802E-4CB9-B57B-69986AFD9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ifat Transformasi Fourier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7490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 mendapatkan TF dari sebuah fungs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gunakan Rumus (Versi MatL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gunakan T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gunakan Sifat T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fat Shifting dan Stre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fat Konvolu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u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0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8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9" dur="8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8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8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6" dur="10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1000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0" dur="1000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7" dur="1000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1000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1000"/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1000"/>
                                        <p:tgtEl>
                                          <p:spTgt spid="6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6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6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845C-D40B-4B75-AD9F-BAE8362094A2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CAF34B1D-2764-4C4A-AB23-5542C5FCE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ifat Shifting dan Stretching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ing / Pergese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tching / Similari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ing dan Stre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Object 5"/>
              <p:cNvSpPr txBox="1"/>
              <p:nvPr/>
            </p:nvSpPr>
            <p:spPr>
              <a:xfrm>
                <a:off x="5364000" y="1990800"/>
                <a:ext cx="3240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Object 7"/>
              <p:cNvSpPr txBox="1"/>
              <p:nvPr/>
            </p:nvSpPr>
            <p:spPr>
              <a:xfrm>
                <a:off x="5364000" y="2924280"/>
                <a:ext cx="28083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</m:d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5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6" name="Object 9"/>
              <p:cNvSpPr txBox="1"/>
              <p:nvPr/>
            </p:nvSpPr>
            <p:spPr>
              <a:xfrm>
                <a:off x="5364000" y="4076640"/>
                <a:ext cx="35290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p>
                    </m:sSup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7" name="Text Box 10"/>
          <p:cNvSpPr/>
          <p:nvPr/>
        </p:nvSpPr>
        <p:spPr>
          <a:xfrm>
            <a:off x="3557160" y="10717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1"/>
          <p:cNvSpPr/>
          <p:nvPr/>
        </p:nvSpPr>
        <p:spPr>
          <a:xfrm>
            <a:off x="4297320" y="1341360"/>
            <a:ext cx="7207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2"/>
          <p:cNvSpPr/>
          <p:nvPr/>
        </p:nvSpPr>
        <p:spPr>
          <a:xfrm>
            <a:off x="5287320" y="1071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Date Placeholder 5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73D7-BAE2-4CF5-BA72-26BB78F5BA8D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ooter Placeholder 6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47A50977-FE78-4D27-BB69-E1FD1AFFD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ifat Shifting dan Stretching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Object 3"/>
              <p:cNvSpPr txBox="1"/>
              <p:nvPr/>
            </p:nvSpPr>
            <p:spPr>
              <a:xfrm>
                <a:off x="3841920" y="1978200"/>
                <a:ext cx="23763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Object 4"/>
              <p:cNvSpPr txBox="1"/>
              <p:nvPr/>
            </p:nvSpPr>
            <p:spPr>
              <a:xfrm>
                <a:off x="3913200" y="3105000"/>
                <a:ext cx="20811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5"/>
              <p:cNvSpPr txBox="1"/>
              <p:nvPr/>
            </p:nvSpPr>
            <p:spPr>
              <a:xfrm>
                <a:off x="1177920" y="979560"/>
                <a:ext cx="23763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ainny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7" name="AutoShape 6"/>
          <p:cNvSpPr/>
          <p:nvPr/>
        </p:nvSpPr>
        <p:spPr>
          <a:xfrm>
            <a:off x="3913200" y="1268280"/>
            <a:ext cx="649440" cy="216000"/>
          </a:xfrm>
          <a:prstGeom prst="leftRightArrow">
            <a:avLst>
              <a:gd name="adj1" fmla="val 50000"/>
              <a:gd name="adj2" fmla="val 598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Object 7"/>
              <p:cNvSpPr txBox="1"/>
              <p:nvPr/>
            </p:nvSpPr>
            <p:spPr>
              <a:xfrm>
                <a:off x="4995720" y="907920"/>
                <a:ext cx="172728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nary>
                          <m:naryPr>
                            <m:chr m:val="∏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Object 8"/>
              <p:cNvSpPr txBox="1"/>
              <p:nvPr/>
            </p:nvSpPr>
            <p:spPr>
              <a:xfrm>
                <a:off x="1212840" y="1989000"/>
                <a:ext cx="154800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10"/>
              <p:cNvSpPr txBox="1"/>
              <p:nvPr/>
            </p:nvSpPr>
            <p:spPr>
              <a:xfrm>
                <a:off x="1320840" y="3046320"/>
                <a:ext cx="12700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2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Object 12"/>
              <p:cNvSpPr txBox="1"/>
              <p:nvPr/>
            </p:nvSpPr>
            <p:spPr>
              <a:xfrm>
                <a:off x="1233360" y="4129200"/>
                <a:ext cx="14558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4" name="Text Box 13"/>
          <p:cNvSpPr/>
          <p:nvPr/>
        </p:nvSpPr>
        <p:spPr>
          <a:xfrm>
            <a:off x="2876400" y="21002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4"/>
          <p:cNvSpPr/>
          <p:nvPr/>
        </p:nvSpPr>
        <p:spPr>
          <a:xfrm>
            <a:off x="2876400" y="3125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5"/>
          <p:cNvSpPr/>
          <p:nvPr/>
        </p:nvSpPr>
        <p:spPr>
          <a:xfrm>
            <a:off x="2947680" y="42051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Object 17"/>
              <p:cNvSpPr txBox="1"/>
              <p:nvPr/>
            </p:nvSpPr>
            <p:spPr>
              <a:xfrm>
                <a:off x="3956040" y="4149720"/>
                <a:ext cx="2921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500"/>
                            </p:stCondLst>
                            <p:childTnLst>
                              <p:par>
                                <p:cTn id="14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B433-2008-4CD5-8290-52C53CAEA298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144BB51E-2104-4996-A7A5-B7AB853AA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Konvolusi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3" name="Rectangle 3"/>
          <p:cNvSpPr/>
          <p:nvPr/>
        </p:nvSpPr>
        <p:spPr>
          <a:xfrm>
            <a:off x="226080" y="843480"/>
            <a:ext cx="706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Konvolusi dari dua fungsi g(t) dan fungsi f(t) didefinisik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Object 4"/>
              <p:cNvSpPr txBox="1"/>
              <p:nvPr/>
            </p:nvSpPr>
            <p:spPr>
              <a:xfrm>
                <a:off x="468360" y="1341360"/>
                <a:ext cx="30240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t xml:space="preserve">∗</m:t>
                        </m:r>
                        <m:r>
                          <m:t xml:space="preserve">f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5" name="Rectangle 5"/>
          <p:cNvSpPr/>
          <p:nvPr/>
        </p:nvSpPr>
        <p:spPr>
          <a:xfrm>
            <a:off x="2641680" y="3741480"/>
            <a:ext cx="25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6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Object 7"/>
              <p:cNvSpPr txBox="1"/>
              <p:nvPr/>
            </p:nvSpPr>
            <p:spPr>
              <a:xfrm>
                <a:off x="468360" y="2133720"/>
                <a:ext cx="244800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ainny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8" name="Text Box 8"/>
          <p:cNvSpPr/>
          <p:nvPr/>
        </p:nvSpPr>
        <p:spPr>
          <a:xfrm>
            <a:off x="3202200" y="222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0" name="Object 10"/>
              <p:cNvSpPr txBox="1"/>
              <p:nvPr/>
            </p:nvSpPr>
            <p:spPr>
              <a:xfrm>
                <a:off x="3772080" y="2205000"/>
                <a:ext cx="20952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∗</m:t>
                        </m:r>
                        <m:r>
                          <m:t xml:space="preserve">Π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1" name="Rectangle 11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Object 12"/>
              <p:cNvSpPr txBox="1"/>
              <p:nvPr/>
            </p:nvSpPr>
            <p:spPr>
              <a:xfrm>
                <a:off x="468360" y="3057480"/>
                <a:ext cx="28796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∗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3" name="Rectangle 13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Object 14"/>
              <p:cNvSpPr txBox="1"/>
              <p:nvPr/>
            </p:nvSpPr>
            <p:spPr>
              <a:xfrm>
                <a:off x="1403280" y="3860640"/>
                <a:ext cx="14400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5" name="Rectangle 15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Object 16"/>
              <p:cNvSpPr txBox="1"/>
              <p:nvPr/>
            </p:nvSpPr>
            <p:spPr>
              <a:xfrm>
                <a:off x="1403280" y="4869000"/>
                <a:ext cx="15130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  <m:e>
                        <m:r>
                          <m:t xml:space="preserve"> </m:t>
                        </m:r>
                      </m:e>
                    </m:nary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7" name="Text Box 17"/>
          <p:cNvSpPr/>
          <p:nvPr/>
        </p:nvSpPr>
        <p:spPr>
          <a:xfrm>
            <a:off x="3976920" y="2852640"/>
            <a:ext cx="68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8"/>
          <p:cNvSpPr/>
          <p:nvPr/>
        </p:nvSpPr>
        <p:spPr>
          <a:xfrm>
            <a:off x="4768200" y="2878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Object 20"/>
              <p:cNvSpPr txBox="1"/>
              <p:nvPr/>
            </p:nvSpPr>
            <p:spPr>
              <a:xfrm>
                <a:off x="5292720" y="2897280"/>
                <a:ext cx="19447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∗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1" name="Rectangle 21"/>
          <p:cNvSpPr/>
          <p:nvPr/>
        </p:nvSpPr>
        <p:spPr>
          <a:xfrm>
            <a:off x="3997440" y="357120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0 &lt; t &lt;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22"/>
          <p:cNvSpPr/>
          <p:nvPr/>
        </p:nvSpPr>
        <p:spPr>
          <a:xfrm>
            <a:off x="5028480" y="3565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3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4" name="Object 24"/>
              <p:cNvSpPr txBox="1"/>
              <p:nvPr/>
            </p:nvSpPr>
            <p:spPr>
              <a:xfrm>
                <a:off x="5416560" y="3192480"/>
                <a:ext cx="340524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∗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 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5" name="Rectangle 25"/>
          <p:cNvSpPr/>
          <p:nvPr/>
        </p:nvSpPr>
        <p:spPr>
          <a:xfrm>
            <a:off x="3924360" y="44571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1 &lt; t &lt;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6"/>
          <p:cNvSpPr/>
          <p:nvPr/>
        </p:nvSpPr>
        <p:spPr>
          <a:xfrm>
            <a:off x="5076360" y="4417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7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Object 28"/>
              <p:cNvSpPr txBox="1"/>
              <p:nvPr/>
            </p:nvSpPr>
            <p:spPr>
              <a:xfrm>
                <a:off x="5510160" y="4367160"/>
                <a:ext cx="23036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∗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9" name="Rectangle 2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Object 30"/>
              <p:cNvSpPr txBox="1"/>
              <p:nvPr/>
            </p:nvSpPr>
            <p:spPr>
              <a:xfrm>
                <a:off x="5651640" y="5084640"/>
                <a:ext cx="2520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∗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1" name="Text Box 31"/>
          <p:cNvSpPr/>
          <p:nvPr/>
        </p:nvSpPr>
        <p:spPr>
          <a:xfrm>
            <a:off x="5076360" y="5149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2"/>
          <p:cNvSpPr/>
          <p:nvPr/>
        </p:nvSpPr>
        <p:spPr>
          <a:xfrm>
            <a:off x="3924360" y="5149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inny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0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6" dur="8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7" dur="8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8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8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500"/>
                            </p:stCondLst>
                            <p:childTnLst>
                              <p:par>
                                <p:cTn id="15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3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500"/>
                            </p:stCondLst>
                            <p:childTnLst>
                              <p:par>
                                <p:cTn id="15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500"/>
                            </p:stCondLst>
                            <p:childTnLst>
                              <p:par>
                                <p:cTn id="15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500"/>
                            </p:stCondLst>
                            <p:childTnLst>
                              <p:par>
                                <p:cTn id="16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9505-0FD7-4F24-B4A2-BEB52519C730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D1776CAE-ECC1-46C9-AAD1-284B9A32A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Konvolusi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46040" y="2565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itungan rinci dapat dilihat d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Ronald N Bracewell, </a:t>
            </a:r>
            <a:r>
              <a:rPr b="0" i="1" lang="id-ID" sz="2000" spc="-1" strike="noStrike">
                <a:solidFill>
                  <a:srgbClr val="000000"/>
                </a:solidFill>
                <a:latin typeface="Arial"/>
              </a:rPr>
              <a:t>The Fourier Transform and its Applications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, 3rd, 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Gra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Hi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ok Co.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, Singapore, 2000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4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Object 5"/>
              <p:cNvSpPr txBox="1"/>
              <p:nvPr/>
            </p:nvSpPr>
            <p:spPr>
              <a:xfrm>
                <a:off x="539640" y="1190520"/>
                <a:ext cx="34560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∗</m:t>
                        </m:r>
                        <m:r>
                          <m:t xml:space="preserve">Π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ainny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0" name="Rectangle 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Object 7"/>
              <p:cNvSpPr txBox="1"/>
              <p:nvPr/>
            </p:nvSpPr>
            <p:spPr>
              <a:xfrm>
                <a:off x="5076720" y="1468440"/>
                <a:ext cx="3313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∗</m:t>
                        </m:r>
                        <m:r>
                          <m:t xml:space="preserve">Π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ainny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2" name="Text Box 8"/>
          <p:cNvSpPr/>
          <p:nvPr/>
        </p:nvSpPr>
        <p:spPr>
          <a:xfrm>
            <a:off x="4283280" y="1628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BF78-EE06-4D3F-80EB-0235D2959688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03673FEB-1E15-4340-974F-6CBCC9890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Fungsi Periodik # 3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116000" y="2276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f(t) dipandang periodik dengan peri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4.Gambarkan f(t) pada interval [ -6,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7"/>
              <p:cNvSpPr txBox="1"/>
              <p:nvPr/>
            </p:nvSpPr>
            <p:spPr>
              <a:xfrm>
                <a:off x="1258920" y="1052640"/>
                <a:ext cx="309708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4" name="Group 25"/>
          <p:cNvGrpSpPr/>
          <p:nvPr/>
        </p:nvGrpSpPr>
        <p:grpSpPr>
          <a:xfrm>
            <a:off x="2268360" y="3573360"/>
            <a:ext cx="4319640" cy="2160360"/>
            <a:chOff x="2268360" y="3573360"/>
            <a:chExt cx="4319640" cy="2160360"/>
          </a:xfrm>
        </p:grpSpPr>
        <p:sp>
          <p:nvSpPr>
            <p:cNvPr id="85" name="Line 9"/>
            <p:cNvSpPr/>
            <p:nvPr/>
          </p:nvSpPr>
          <p:spPr>
            <a:xfrm>
              <a:off x="4356000" y="3573360"/>
              <a:ext cx="0" cy="21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0"/>
            <p:cNvSpPr/>
            <p:nvPr/>
          </p:nvSpPr>
          <p:spPr>
            <a:xfrm>
              <a:off x="2268360" y="4725720"/>
              <a:ext cx="43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1"/>
            <p:cNvSpPr/>
            <p:nvPr/>
          </p:nvSpPr>
          <p:spPr>
            <a:xfrm flipV="1">
              <a:off x="4356000" y="4005000"/>
              <a:ext cx="57600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2"/>
            <p:cNvSpPr/>
            <p:nvPr/>
          </p:nvSpPr>
          <p:spPr>
            <a:xfrm flipH="1" flipV="1">
              <a:off x="3707640" y="4004640"/>
              <a:ext cx="646200" cy="72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5"/>
            <p:cNvSpPr/>
            <p:nvPr/>
          </p:nvSpPr>
          <p:spPr>
            <a:xfrm>
              <a:off x="4932000" y="4005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6"/>
            <p:cNvSpPr/>
            <p:nvPr/>
          </p:nvSpPr>
          <p:spPr>
            <a:xfrm>
              <a:off x="3708000" y="4005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7"/>
            <p:cNvSpPr/>
            <p:nvPr/>
          </p:nvSpPr>
          <p:spPr>
            <a:xfrm>
              <a:off x="4770360" y="4673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8"/>
            <p:cNvSpPr/>
            <p:nvPr/>
          </p:nvSpPr>
          <p:spPr>
            <a:xfrm>
              <a:off x="3494160" y="47448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Line 19"/>
          <p:cNvSpPr/>
          <p:nvPr/>
        </p:nvSpPr>
        <p:spPr>
          <a:xfrm flipV="1">
            <a:off x="3132000" y="4005360"/>
            <a:ext cx="576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0"/>
          <p:cNvSpPr/>
          <p:nvPr/>
        </p:nvSpPr>
        <p:spPr>
          <a:xfrm flipV="1">
            <a:off x="5580000" y="4005360"/>
            <a:ext cx="576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1"/>
          <p:cNvSpPr/>
          <p:nvPr/>
        </p:nvSpPr>
        <p:spPr>
          <a:xfrm flipH="1" flipV="1">
            <a:off x="4933440" y="4005360"/>
            <a:ext cx="646200" cy="72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2"/>
          <p:cNvSpPr/>
          <p:nvPr/>
        </p:nvSpPr>
        <p:spPr>
          <a:xfrm flipH="1" flipV="1">
            <a:off x="2484000" y="4005360"/>
            <a:ext cx="646200" cy="72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4"/>
          <p:cNvSpPr/>
          <p:nvPr/>
        </p:nvSpPr>
        <p:spPr>
          <a:xfrm>
            <a:off x="2484360" y="400536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6"/>
          <p:cNvSpPr/>
          <p:nvPr/>
        </p:nvSpPr>
        <p:spPr>
          <a:xfrm>
            <a:off x="6156360" y="400536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7"/>
          <p:cNvSpPr/>
          <p:nvPr/>
        </p:nvSpPr>
        <p:spPr>
          <a:xfrm>
            <a:off x="544212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6066000" y="46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2970360" y="47131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2321280" y="4689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766E-7128-4739-8F46-0F0B595E70B7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3765B992-AEC7-4C48-AF27-8EA04AB3F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Konvolusi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10920" y="76464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isal diberikan pasangan transformas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f (t) 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F(s)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g (t) 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G (s) d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h (t) =  (g * f) (t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ifat aljabar dari konvolusi fungsi dan konvolusi transforma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 * g = g *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(f * g ) * h = f * (g * h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 * ( g + h ) = ( f * g ) + ( f * h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( f  g ) * ( h k )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( F * G ) ( H * K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( f + g ) ( h + k )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( F + G ) * ( H + K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 ( g * h )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F * ( G H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Object 5"/>
              <p:cNvSpPr txBox="1"/>
              <p:nvPr/>
            </p:nvSpPr>
            <p:spPr>
              <a:xfrm>
                <a:off x="1619280" y="1989000"/>
                <a:ext cx="4176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t xml:space="preserve">∗</m:t>
                        </m:r>
                        <m:r>
                          <m:t xml:space="preserve">f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comb dir="horz"/>
  </p:transition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8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6" dur="8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8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8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9" dur="1000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1000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1000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6" dur="1000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7" dur="1000"/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3" dur="1000"/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9" dur="1000"/>
                                        <p:tgtEl>
                                          <p:spTgt spid="7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7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7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5" dur="1000"/>
                                        <p:tgtEl>
                                          <p:spTgt spid="7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7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7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1" dur="1000"/>
                                        <p:tgtEl>
                                          <p:spTgt spid="7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7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7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7" dur="1000"/>
                                        <p:tgtEl>
                                          <p:spTgt spid="7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7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7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3" dur="1000"/>
                                        <p:tgtEl>
                                          <p:spTgt spid="7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4" dur="1000" fill="hold"/>
                                        <p:tgtEl>
                                          <p:spTgt spid="7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7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D71F-B930-4994-9B3A-F7AAC1A66782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C30A7323-43C9-4EAD-BF11-FBB2728BF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Konvolusi # 3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39640" y="3284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unan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Misal diberikan pasangan transformasi Fourier, f(t) </a:t>
            </a:r>
            <a:r>
              <a:rPr b="0" lang="id-ID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 F(s), maka transformasi dari turunan fungsi, f ‘ (t) adal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‘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(t)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s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(t)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i s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6" name="Object 5"/>
              <p:cNvSpPr txBox="1"/>
              <p:nvPr/>
            </p:nvSpPr>
            <p:spPr>
              <a:xfrm>
                <a:off x="4788000" y="1197000"/>
                <a:ext cx="18000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s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7" name="Rectangle 6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Object 7"/>
              <p:cNvSpPr txBox="1"/>
              <p:nvPr/>
            </p:nvSpPr>
            <p:spPr>
              <a:xfrm>
                <a:off x="539640" y="1125360"/>
                <a:ext cx="2519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ainny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9" name="Text Box 8"/>
          <p:cNvSpPr/>
          <p:nvPr/>
        </p:nvSpPr>
        <p:spPr>
          <a:xfrm>
            <a:off x="3727440" y="1316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Object 10"/>
              <p:cNvSpPr txBox="1"/>
              <p:nvPr/>
            </p:nvSpPr>
            <p:spPr>
              <a:xfrm>
                <a:off x="468360" y="2238480"/>
                <a:ext cx="3186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∗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ainnya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2" name="Text Box 11"/>
          <p:cNvSpPr/>
          <p:nvPr/>
        </p:nvSpPr>
        <p:spPr>
          <a:xfrm>
            <a:off x="3727440" y="2395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2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Object 13"/>
              <p:cNvSpPr txBox="1"/>
              <p:nvPr/>
            </p:nvSpPr>
            <p:spPr>
              <a:xfrm>
                <a:off x="6877080" y="2205000"/>
                <a:ext cx="15112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s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5" name="Rectangle 1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Object 15"/>
              <p:cNvSpPr txBox="1"/>
              <p:nvPr/>
            </p:nvSpPr>
            <p:spPr>
              <a:xfrm>
                <a:off x="4643280" y="2349360"/>
                <a:ext cx="20894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7865-7EF1-4E9C-B24D-6FBD9A04D89D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A444CF91-32E1-4852-B565-B80DEA469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Fungsi Delta Diract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ungsi delta diract atau  fungsi impulse satuan, dinyatak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angan Transforma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Object 5"/>
              <p:cNvSpPr txBox="1"/>
              <p:nvPr/>
            </p:nvSpPr>
            <p:spPr>
              <a:xfrm>
                <a:off x="1258920" y="1773360"/>
                <a:ext cx="2808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tuk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Object 7"/>
              <p:cNvSpPr txBox="1"/>
              <p:nvPr/>
            </p:nvSpPr>
            <p:spPr>
              <a:xfrm>
                <a:off x="1332000" y="2249640"/>
                <a:ext cx="15112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Object 9"/>
              <p:cNvSpPr txBox="1"/>
              <p:nvPr/>
            </p:nvSpPr>
            <p:spPr>
              <a:xfrm>
                <a:off x="1398600" y="3730680"/>
                <a:ext cx="2021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Object 11"/>
              <p:cNvSpPr txBox="1"/>
              <p:nvPr/>
            </p:nvSpPr>
            <p:spPr>
              <a:xfrm>
                <a:off x="1332000" y="4303800"/>
                <a:ext cx="26478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6" dur="indefinite" restart="never" nodeType="tmRoot">
          <p:childTnLst>
            <p:seq>
              <p:cTn id="1707" dur="indefinite" nodeType="mainSeq">
                <p:childTnLst>
                  <p:par>
                    <p:cTn id="1708" fill="hold">
                      <p:stCondLst>
                        <p:cond delay="0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560"/>
                            </p:stCondLst>
                            <p:childTnLst>
                              <p:par>
                                <p:cTn id="17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2060"/>
                            </p:stCondLst>
                            <p:childTnLst>
                              <p:par>
                                <p:cTn id="17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6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fill="hold">
                            <p:stCondLst>
                              <p:cond delay="500"/>
                            </p:stCondLst>
                            <p:childTnLst>
                              <p:par>
                                <p:cTn id="17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Date Placeholder 4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366A-37C8-4D17-BAF5-D8BF68ADC9F7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ooter Placeholder 5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DFB8CF72-1AB2-47A6-8805-3C4EBFC42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tep Function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4" name="Object 3"/>
              <p:cNvSpPr txBox="1"/>
              <p:nvPr/>
            </p:nvSpPr>
            <p:spPr>
              <a:xfrm>
                <a:off x="3348000" y="3503520"/>
                <a:ext cx="17287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Object 4"/>
              <p:cNvSpPr txBox="1"/>
              <p:nvPr/>
            </p:nvSpPr>
            <p:spPr>
              <a:xfrm>
                <a:off x="468360" y="1052640"/>
                <a:ext cx="244800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t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6" name="Text Box 5"/>
          <p:cNvSpPr/>
          <p:nvPr/>
        </p:nvSpPr>
        <p:spPr>
          <a:xfrm>
            <a:off x="3183840" y="12891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6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8" name="Object 7"/>
              <p:cNvSpPr txBox="1"/>
              <p:nvPr/>
            </p:nvSpPr>
            <p:spPr>
              <a:xfrm>
                <a:off x="3708360" y="1052640"/>
                <a:ext cx="15271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9" name="Rectangle 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0" name="Object 9"/>
              <p:cNvSpPr txBox="1"/>
              <p:nvPr/>
            </p:nvSpPr>
            <p:spPr>
              <a:xfrm>
                <a:off x="5364000" y="1125360"/>
                <a:ext cx="1008360" cy="6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1" name="Rectangle 10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2" name="Object 11"/>
              <p:cNvSpPr txBox="1"/>
              <p:nvPr/>
            </p:nvSpPr>
            <p:spPr>
              <a:xfrm>
                <a:off x="6516720" y="1106640"/>
                <a:ext cx="19764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3" name="Object 12"/>
              <p:cNvSpPr txBox="1"/>
              <p:nvPr/>
            </p:nvSpPr>
            <p:spPr>
              <a:xfrm>
                <a:off x="1547640" y="2319480"/>
                <a:ext cx="166068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4" name="Text Box 13"/>
          <p:cNvSpPr/>
          <p:nvPr/>
        </p:nvSpPr>
        <p:spPr>
          <a:xfrm>
            <a:off x="523080" y="2513160"/>
            <a:ext cx="7902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AutoShape 14"/>
          <p:cNvCxnSpPr/>
          <p:nvPr/>
        </p:nvCxnSpPr>
        <p:spPr>
          <a:xfrm flipH="1" flipV="1" rot="10800000">
            <a:off x="467280" y="1494360"/>
            <a:ext cx="1910520" cy="824760"/>
          </a:xfrm>
          <a:prstGeom prst="bentConnector4">
            <a:avLst>
              <a:gd name="adj1" fmla="val -11967"/>
              <a:gd name="adj2" fmla="val 76855"/>
            </a:avLst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826" name="Rectangle 1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Object 16"/>
              <p:cNvSpPr txBox="1"/>
              <p:nvPr/>
            </p:nvSpPr>
            <p:spPr>
              <a:xfrm>
                <a:off x="469800" y="3259080"/>
                <a:ext cx="20145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→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8" name="Rectangle 1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Object 18"/>
              <p:cNvSpPr txBox="1"/>
              <p:nvPr/>
            </p:nvSpPr>
            <p:spPr>
              <a:xfrm>
                <a:off x="468360" y="4200480"/>
                <a:ext cx="214956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0" name="Text Box 19"/>
          <p:cNvSpPr/>
          <p:nvPr/>
        </p:nvSpPr>
        <p:spPr>
          <a:xfrm>
            <a:off x="3399840" y="2513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2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Object 21"/>
              <p:cNvSpPr txBox="1"/>
              <p:nvPr/>
            </p:nvSpPr>
            <p:spPr>
              <a:xfrm>
                <a:off x="3995640" y="2276640"/>
                <a:ext cx="18716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3" name="Text Box 22"/>
          <p:cNvSpPr/>
          <p:nvPr/>
        </p:nvSpPr>
        <p:spPr>
          <a:xfrm>
            <a:off x="5387400" y="3638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4" name="Object 23"/>
              <p:cNvSpPr txBox="1"/>
              <p:nvPr/>
            </p:nvSpPr>
            <p:spPr>
              <a:xfrm>
                <a:off x="6012000" y="3429000"/>
                <a:ext cx="18730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5" name="Text Box 24"/>
          <p:cNvSpPr/>
          <p:nvPr/>
        </p:nvSpPr>
        <p:spPr>
          <a:xfrm>
            <a:off x="3400920" y="46735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t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25"/>
          <p:cNvSpPr/>
          <p:nvPr/>
        </p:nvSpPr>
        <p:spPr>
          <a:xfrm>
            <a:off x="4500000" y="4718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8" name="Object 27"/>
              <p:cNvSpPr txBox="1"/>
              <p:nvPr/>
            </p:nvSpPr>
            <p:spPr>
              <a:xfrm>
                <a:off x="4962600" y="4653000"/>
                <a:ext cx="17701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1" dur="indefinite" restart="never" nodeType="tmRoot">
          <p:childTnLst>
            <p:seq>
              <p:cTn id="1752" dur="indefinite" nodeType="mainSeq">
                <p:childTnLst>
                  <p:par>
                    <p:cTn id="1753" fill="hold">
                      <p:stCondLst>
                        <p:cond delay="0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"/>
                            </p:stCondLst>
                            <p:childTnLst>
                              <p:par>
                                <p:cTn id="17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9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4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9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9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500"/>
                            </p:stCondLst>
                            <p:childTnLst>
                              <p:par>
                                <p:cTn id="17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3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8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500"/>
                            </p:stCondLst>
                            <p:childTnLst>
                              <p:par>
                                <p:cTn id="18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500"/>
                            </p:stCondLst>
                            <p:childTnLst>
                              <p:par>
                                <p:cTn id="18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500"/>
                            </p:stCondLst>
                            <p:childTnLst>
                              <p:par>
                                <p:cTn id="18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FB59-1725-4A86-867B-733DB18552CD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589B166B-A9B0-4758-B138-7D238AC80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99640" y="980640"/>
            <a:ext cx="7272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hat soal Latihan 6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ang Mursita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ematika Lanjut Untuk Perguruan Tingg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kayasa Sains, Bandung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95F3-B66C-4ED8-95EB-2709FD721F17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0414010A-5C34-462D-B6C6-90C3AB45B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kah fungsi berikut periodik ? Bila ya, tentukan periodeny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22280" indent="-53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f(t)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22280" indent="-53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f(t)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t + 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)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22280" indent="-53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f(t)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2 t 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22280" indent="-53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f(t) = t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2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(t + 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/3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cot 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t - 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22280" indent="-53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f(t)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2 t 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4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Gambarkan grafik dari fungsi berikut yang dipandang periodik dengan periode diketahu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1387440" y="4238640"/>
                <a:ext cx="42642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6"/>
              <p:cNvSpPr txBox="1"/>
              <p:nvPr/>
            </p:nvSpPr>
            <p:spPr>
              <a:xfrm>
                <a:off x="1403280" y="5102280"/>
                <a:ext cx="53308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135E-BC83-498D-A4EE-736FD6F03B80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98A2F583-981F-4987-A68B-75D43ED10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Fungsi Kontinu Bagian demi Bagi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5640" y="1052280"/>
            <a:ext cx="7201080" cy="28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99"/>
                </a:solidFill>
                <a:latin typeface="Arial"/>
              </a:rPr>
              <a:t>Fungsi f(t) disebut </a:t>
            </a:r>
            <a:r>
              <a:rPr b="1" lang="id-ID" sz="2400" spc="-1" strike="noStrike">
                <a:solidFill>
                  <a:srgbClr val="ff3300"/>
                </a:solidFill>
                <a:latin typeface="Arial"/>
              </a:rPr>
              <a:t>fungsi kontinu bagian demi bagian</a:t>
            </a:r>
            <a:r>
              <a:rPr b="0" lang="id-ID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d-ID" sz="2400" spc="-1" strike="noStrike">
                <a:solidFill>
                  <a:srgbClr val="000099"/>
                </a:solidFill>
                <a:latin typeface="Arial"/>
              </a:rPr>
              <a:t>pada interval [a,b] bila dipenuh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99"/>
                </a:solidFill>
                <a:latin typeface="Arial"/>
              </a:rPr>
              <a:t>Interval [ a,b ] dapat dibagi menjadi sebanyak hingga sub interval sehingga f(t) kontinu pada sub interval terseb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99"/>
                </a:solidFill>
                <a:latin typeface="Arial"/>
              </a:rPr>
              <a:t>Limit dari f(t) pada setiap ujung dari sub interval adalah berhing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7"/>
          <p:cNvGrpSpPr/>
          <p:nvPr/>
        </p:nvGrpSpPr>
        <p:grpSpPr>
          <a:xfrm>
            <a:off x="2413080" y="4005000"/>
            <a:ext cx="3311280" cy="1871640"/>
            <a:chOff x="2413080" y="4005000"/>
            <a:chExt cx="3311280" cy="1871640"/>
          </a:xfrm>
        </p:grpSpPr>
        <p:sp>
          <p:nvSpPr>
            <p:cNvPr id="120" name="Line 28"/>
            <p:cNvSpPr/>
            <p:nvPr/>
          </p:nvSpPr>
          <p:spPr>
            <a:xfrm flipV="1">
              <a:off x="3852720" y="400500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9"/>
            <p:cNvSpPr/>
            <p:nvPr/>
          </p:nvSpPr>
          <p:spPr>
            <a:xfrm>
              <a:off x="2413080" y="5084640"/>
              <a:ext cx="33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0"/>
            <p:cNvSpPr/>
            <p:nvPr/>
          </p:nvSpPr>
          <p:spPr>
            <a:xfrm>
              <a:off x="3132000" y="4773600"/>
              <a:ext cx="936720" cy="74304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1"/>
            <p:cNvSpPr/>
            <p:nvPr/>
          </p:nvSpPr>
          <p:spPr>
            <a:xfrm>
              <a:off x="4068720" y="4076640"/>
              <a:ext cx="1224000" cy="5047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2"/>
            <p:cNvSpPr/>
            <p:nvPr/>
          </p:nvSpPr>
          <p:spPr>
            <a:xfrm>
              <a:off x="4068720" y="4581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3"/>
            <p:cNvSpPr/>
            <p:nvPr/>
          </p:nvSpPr>
          <p:spPr>
            <a:xfrm>
              <a:off x="5292720" y="4078080"/>
              <a:ext cx="0" cy="1006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4"/>
            <p:cNvSpPr/>
            <p:nvPr/>
          </p:nvSpPr>
          <p:spPr>
            <a:xfrm>
              <a:off x="3132000" y="5084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5"/>
            <p:cNvSpPr/>
            <p:nvPr/>
          </p:nvSpPr>
          <p:spPr>
            <a:xfrm>
              <a:off x="2991240" y="4744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6"/>
            <p:cNvSpPr/>
            <p:nvPr/>
          </p:nvSpPr>
          <p:spPr>
            <a:xfrm>
              <a:off x="5151600" y="5103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7"/>
            <p:cNvSpPr/>
            <p:nvPr/>
          </p:nvSpPr>
          <p:spPr>
            <a:xfrm>
              <a:off x="3946320" y="5087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8C1E-F753-447E-AD3B-8EE5CBF6142F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86F65D5B-5D94-4F90-9259-F48283F8F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Koefisien Fourier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(t) didefinisikan pada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L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periodik dengan periode 2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kontinu bagian demi bagian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eret Fourier dari f(t) didefinisik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4"/>
              <p:cNvSpPr txBox="1"/>
              <p:nvPr/>
            </p:nvSpPr>
            <p:spPr>
              <a:xfrm>
                <a:off x="882720" y="2558880"/>
                <a:ext cx="5129280" cy="7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7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1336680" y="3373560"/>
                <a:ext cx="1506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L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Rectangle 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8"/>
              <p:cNvSpPr txBox="1"/>
              <p:nvPr/>
            </p:nvSpPr>
            <p:spPr>
              <a:xfrm>
                <a:off x="1257480" y="4300560"/>
                <a:ext cx="21636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L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</m:t>
                            </m:r>
                            <m:r>
                              <m:t xml:space="preserve">n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Rectangle 1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0"/>
              <p:cNvSpPr txBox="1"/>
              <p:nvPr/>
            </p:nvSpPr>
            <p:spPr>
              <a:xfrm>
                <a:off x="1278000" y="5138640"/>
                <a:ext cx="21938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L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</m:t>
                            </m:r>
                            <m:r>
                              <m:t xml:space="preserve">n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Rectangle 1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7"/>
              <p:cNvSpPr txBox="1"/>
              <p:nvPr/>
            </p:nvSpPr>
            <p:spPr>
              <a:xfrm>
                <a:off x="4067280" y="3487680"/>
                <a:ext cx="2665440" cy="24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oefisien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urier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ari</m:t>
                              </m:r>
                              <m:r>
                                <m:t xml:space="preserve"> </m:t>
                              </m:r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split dir="in" orient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6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9A78-98C7-4335-A449-9309D71174D1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7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54BE2D5B-E86A-4EBB-BE21-1E451585D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Koefisien Fourier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6"/>
              <p:cNvSpPr txBox="1"/>
              <p:nvPr/>
            </p:nvSpPr>
            <p:spPr>
              <a:xfrm>
                <a:off x="3778200" y="2133720"/>
                <a:ext cx="6494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π</m:t>
                        </m:r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6"/>
              <p:cNvSpPr txBox="1"/>
              <p:nvPr/>
            </p:nvSpPr>
            <p:spPr>
              <a:xfrm>
                <a:off x="2340000" y="3068640"/>
                <a:ext cx="136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π</m:t>
                        </m:r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8"/>
              <p:cNvSpPr txBox="1"/>
              <p:nvPr/>
            </p:nvSpPr>
            <p:spPr>
              <a:xfrm>
                <a:off x="3759120" y="3068640"/>
                <a:ext cx="1173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π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n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Rectangle 5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6"/>
              <p:cNvSpPr txBox="1"/>
              <p:nvPr/>
            </p:nvSpPr>
            <p:spPr>
              <a:xfrm>
                <a:off x="606600" y="1093680"/>
                <a:ext cx="252540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</m:t>
                              </m:r>
                              <m:r>
                                <m:t xml:space="preserve">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</m:t>
                              </m:r>
                              <m:r>
                                <m:t xml:space="preserve">0</m:t>
                              </m:r>
                              <m:r>
                                <m:t xml:space="preserve">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</m:t>
                              </m:r>
                              <m:r>
                                <m:t xml:space="preserve">t</m:t>
                              </m:r>
                              <m:r>
                                <m:t xml:space="preserve"></m:t>
                              </m:r>
                              <m:r>
                                <m:t xml:space="preserve">&lt;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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</m:t>
                              </m:r>
                              <m:r>
                                <m:t xml:space="preserve">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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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Rectangle 9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3418560" y="126756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 t + </a:t>
            </a: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id-ID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f(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5037480" y="126756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t) periodik dengan p = </a:t>
            </a: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id-ID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12"/>
              <p:cNvSpPr txBox="1"/>
              <p:nvPr/>
            </p:nvSpPr>
            <p:spPr>
              <a:xfrm>
                <a:off x="539640" y="2054160"/>
                <a:ext cx="15112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1" name="Rectangle 1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4"/>
              <p:cNvSpPr txBox="1"/>
              <p:nvPr/>
            </p:nvSpPr>
            <p:spPr>
              <a:xfrm>
                <a:off x="2124000" y="2060640"/>
                <a:ext cx="15829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π</m:t>
                        </m:r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π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Text Box 18"/>
          <p:cNvSpPr/>
          <p:nvPr/>
        </p:nvSpPr>
        <p:spPr>
          <a:xfrm>
            <a:off x="4500720" y="2311560"/>
            <a:ext cx="68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9"/>
              <p:cNvSpPr txBox="1"/>
              <p:nvPr/>
            </p:nvSpPr>
            <p:spPr>
              <a:xfrm>
                <a:off x="611280" y="2922480"/>
                <a:ext cx="17287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π</m:t>
                        </m:r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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3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30"/>
              <p:cNvSpPr txBox="1"/>
              <p:nvPr/>
            </p:nvSpPr>
            <p:spPr>
              <a:xfrm>
                <a:off x="611280" y="3884760"/>
                <a:ext cx="201600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π</m:t>
                        </m:r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Rectangle 3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32"/>
              <p:cNvSpPr txBox="1"/>
              <p:nvPr/>
            </p:nvSpPr>
            <p:spPr>
              <a:xfrm>
                <a:off x="2627280" y="4076640"/>
                <a:ext cx="1295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t xml:space="preserve">|</m:t>
                    </m:r>
                    <m:m>
                      <m:mr>
                        <m:e>
                          <m:r>
                            <m:t xml:space="preserve">π</m:t>
                          </m:r>
                          <m:r>
                            <m:t xml:space="preserve">2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Rectangle 3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4"/>
              <p:cNvSpPr txBox="1"/>
              <p:nvPr/>
            </p:nvSpPr>
            <p:spPr>
              <a:xfrm>
                <a:off x="3943440" y="4159080"/>
                <a:ext cx="1473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nπ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2" name=""/>
          <p:cNvGraphicFramePr/>
          <p:nvPr/>
        </p:nvGraphicFramePr>
        <p:xfrm>
          <a:off x="5580000" y="2349360"/>
          <a:ext cx="3106800" cy="3108600"/>
        </p:xfrm>
        <a:graphic>
          <a:graphicData uri="http://schemas.openxmlformats.org/drawingml/2006/table">
            <a:tbl>
              <a:tblPr/>
              <a:tblGrid>
                <a:gridCol w="1035000"/>
                <a:gridCol w="1036800"/>
                <a:gridCol w="10350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/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 Box 71"/>
          <p:cNvSpPr/>
          <p:nvPr/>
        </p:nvSpPr>
        <p:spPr>
          <a:xfrm>
            <a:off x="663480" y="5103720"/>
            <a:ext cx="35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eret Fourier dari f(t)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620"/>
                            </p:stCondLst>
                            <p:childTnLst>
                              <p:par>
                                <p:cTn id="2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F3CE-DFBB-411C-B82A-5AC060499B4C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47A542C3-C3C6-4C91-9D29-F9310DEAA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Koefisien Fourier # 3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539640" y="1052640"/>
                <a:ext cx="21607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</m:t>
                              </m:r>
                              <m:r>
                                <m:t xml:space="preserve">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</m:t>
                              </m:r>
                              <m:r>
                                <m:t xml:space="preserve">0</m:t>
                              </m:r>
                              <m:r>
                                <m:t xml:space="preserve">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</m:t>
                              </m:r>
                              <m:r>
                                <m:t xml:space="preserve">t</m:t>
                              </m:r>
                              <m:r>
                                <m:t xml:space="preserve"></m:t>
                              </m:r>
                              <m:r>
                                <m:t xml:space="preserve">&lt;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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</m:t>
                              </m:r>
                              <m:r>
                                <m:t xml:space="preserve">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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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9" name="Rectangle 6"/>
          <p:cNvSpPr/>
          <p:nvPr/>
        </p:nvSpPr>
        <p:spPr>
          <a:xfrm>
            <a:off x="3058200" y="112464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 t + </a:t>
            </a: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id-ID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f(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12640" y="1819440"/>
            <a:ext cx="46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et Fourier dari f(t) dituliskan beriku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9"/>
              <p:cNvSpPr txBox="1"/>
              <p:nvPr/>
            </p:nvSpPr>
            <p:spPr>
              <a:xfrm>
                <a:off x="611280" y="2395440"/>
                <a:ext cx="43210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3" name="Text Box 11"/>
          <p:cNvSpPr/>
          <p:nvPr/>
        </p:nvSpPr>
        <p:spPr>
          <a:xfrm>
            <a:off x="5270760" y="2484360"/>
            <a:ext cx="17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gan L = 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8"/>
          <p:cNvGrpSpPr/>
          <p:nvPr/>
        </p:nvGrpSpPr>
        <p:grpSpPr>
          <a:xfrm>
            <a:off x="6594480" y="2997360"/>
            <a:ext cx="1793880" cy="1950480"/>
            <a:chOff x="6594480" y="2997360"/>
            <a:chExt cx="1793880" cy="1950480"/>
          </a:xfrm>
        </p:grpSpPr>
        <p:sp>
          <p:nvSpPr>
            <p:cNvPr id="187" name="Text Box 13"/>
            <p:cNvSpPr/>
            <p:nvPr/>
          </p:nvSpPr>
          <p:spPr>
            <a:xfrm>
              <a:off x="6594480" y="2997360"/>
              <a:ext cx="896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Object 14"/>
                <p:cNvSpPr txBox="1"/>
                <p:nvPr/>
              </p:nvSpPr>
              <p:spPr>
                <a:xfrm>
                  <a:off x="6659640" y="3435120"/>
                  <a:ext cx="1439640" cy="72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π</m:t>
                              </m:r>
                              <m:r>
                                <m:t xml:space="preserve">2</m:t>
                              </m:r>
                            </m:e>
                          </m:d>
                        </m:num>
                        <m:den>
                          <m:r>
                            <m:t xml:space="preserve">nπ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Object 16"/>
                <p:cNvSpPr txBox="1"/>
                <p:nvPr/>
              </p:nvSpPr>
              <p:spPr>
                <a:xfrm>
                  <a:off x="6730920" y="4275000"/>
                  <a:ext cx="165744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π</m:t>
                              </m:r>
                              <m:r>
                                <m:t xml:space="preserve">2</m:t>
                              </m:r>
                            </m:e>
                          </m:d>
                        </m:num>
                        <m:den>
                          <m:r>
                            <m:t xml:space="preserve">nπ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0" name="Rectangle 20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620"/>
                            </p:stCondLst>
                            <p:childTnLst>
                              <p:par>
                                <p:cTn id="3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02:30:10Z</dcterms:created>
  <dc:creator>Danang</dc:creator>
  <dc:description/>
  <dc:language>en-US</dc:language>
  <cp:lastModifiedBy>My Computer</cp:lastModifiedBy>
  <dcterms:modified xsi:type="dcterms:W3CDTF">2012-05-07T03:04:39Z</dcterms:modified>
  <cp:revision>99</cp:revision>
  <dc:subject/>
  <dc:title>Slide 1</dc:title>
</cp:coreProperties>
</file>