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6AE8-F91F-4A70-8FCB-C29FA481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F232-5ACC-4B85-B9CD-C27C2EFA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A48E-06C1-4136-B5F7-D93CC8C0F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BDBD-6BA8-4B04-87F3-E7A3DAD93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3DEF-EA0C-44CC-81B7-64B280DB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9FC6-AAD5-4B3A-A03B-D8111B19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939D-080B-4806-9E90-D8F0DFCE9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F02B-6606-4541-B8DB-C9D4ED45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A4F0-083B-49A6-902F-0D511321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99E3-1BB1-4BD2-8471-7E2C698AA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9DC9-D536-4CA4-922F-A6FEAE3F6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C740-3EB7-481F-9F30-E25A1DEB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A1BE-6B28-4DC5-9A55-79E4D1CD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AAC2-C856-4827-A1C1-147DBB2B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F10B-FA40-4DF2-A7B8-2FC7B9632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4DD6-BC0E-4F2A-8FF3-70869BF14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AA61-7503-4E37-9D26-61F3BBA8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852B-34C9-4D98-80E9-DD1E9CA1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6B77-EA1F-43A4-B219-F1D6D6B0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DB1C-587D-4297-A09E-5B9138EF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BC78-09A7-40B5-8761-1FD3DC9D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2D9-4BD2-419E-9E1E-B20CF4ED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868-4551-48A8-813A-1295EEC4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1563-3BCA-4D05-A417-4CEE8B30F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48B5-F1C0-4680-B280-336D43302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3039-74C2-4E5C-A61B-1B91CACF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36FA-1C6F-4F79-BD57-83A9F2AE2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4F0E-EEC7-4C00-8AE6-AB94366C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7A77-6A1B-4953-BFDD-D88FAE623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2F40-2BC2-4D5B-B206-D8FD70219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4AE0-55D7-4FE2-A15A-A922DA4F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110-6309-44DF-986A-A218A8E6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0CB8-DF71-4314-BB3F-8C1C34626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6F69-B5AE-47EB-8CE4-3F6FC421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4F0C-46E1-4BFC-A9CF-274F2AE18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2F4D-EF1B-42B3-AFB7-DF5EE0CD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DD32-C848-45AC-A0DE-3E425DE94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8814-58B1-45B2-884D-D5087AACF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CA51-C1AA-4261-AE29-835B4B9B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A68D-E4BF-4C52-B99E-9492AD6B7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7605-CA6A-4F0A-B065-2BED88DC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5FB1-19C7-4DEE-B727-CF7B7D8E9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4466-3CA3-4057-A7FB-926D9F4DD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66CF-6D9F-44F4-B3D2-8435EFD52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FE2B-1C82-46EE-85A4-507E1C2E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F04-A745-482A-8BA9-19DEF4B2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F4E-3809-4339-BF74-4C4FBE1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3BD-FC45-419C-BEC8-77233156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D94-731F-40AC-B691-BCD0BCB1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DE0-B6C0-4532-ADFD-4A6FF30F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E20-45D3-4979-B1DC-389EBE1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C17-A686-4BD3-A4BA-140367F3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DD1-E99A-4ADC-8FF0-B7D0F3E7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67E-D5A9-4EA7-A735-63A8236D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6CD-0675-41D7-A722-98D93786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E86-0840-425D-A049-213777E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445-0C50-4EDB-AA4F-80B28B9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A321-B3EF-4BD4-8BED-8DB91B3EF4C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B19EBB8B-C38D-4E06-B0E0-BD151F56C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07CF-97B6-4659-9FB5-A07BDF0D63E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6126312A-969C-4450-8C4C-746F831ED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Deret Fourier dan Transformasi Fourier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Peri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efisien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et Fourier Fungsi Genap dan Fungsi Ganj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uasan Fung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et Fourier Kompl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si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fat Transformasi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46DF-A585-4842-AA02-766904D2DDD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9A0C62ED-FA2B-4D0B-9247-067D4F9C0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didefinisikan pada (-L , L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iodik dengan periode 2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kontinu bagian demi bagian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ret Fourier dari f(t) didefinisik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882720" y="2486160"/>
                <a:ext cx="5129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7"/>
              <p:cNvSpPr txBox="1"/>
              <p:nvPr/>
            </p:nvSpPr>
            <p:spPr>
              <a:xfrm>
                <a:off x="1143000" y="3213000"/>
                <a:ext cx="1528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1187280" y="4149720"/>
                <a:ext cx="2163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1116000" y="4941720"/>
                <a:ext cx="2808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4067280" y="3429000"/>
                <a:ext cx="2665440" cy="24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oefisien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urier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ari</m:t>
                              </m:r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plit dir="in" orient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6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BFA2-6BFC-4122-81E8-02426E42619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08D988F6-4447-421D-A1BF-07E133761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3489480" y="1492200"/>
                <a:ext cx="1369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π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π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2700360" y="2139840"/>
                <a:ext cx="2735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749160" y="2924280"/>
                <a:ext cx="1230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den>
                    </m:f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π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π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Rectangle 6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592200" y="981000"/>
                <a:ext cx="2395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418560" y="98028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 t +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(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029560" y="965880"/>
            <a:ext cx="35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t) periodik dengan p =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528480" y="1341360"/>
                <a:ext cx="15354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2154240" y="1363680"/>
                <a:ext cx="13381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Rectangle 1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8"/>
              <p:cNvSpPr txBox="1"/>
              <p:nvPr/>
            </p:nvSpPr>
            <p:spPr>
              <a:xfrm>
                <a:off x="461880" y="2133720"/>
                <a:ext cx="2238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0"/>
              <p:cNvSpPr txBox="1"/>
              <p:nvPr/>
            </p:nvSpPr>
            <p:spPr>
              <a:xfrm>
                <a:off x="531720" y="3625920"/>
                <a:ext cx="2384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π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2"/>
              <p:cNvSpPr txBox="1"/>
              <p:nvPr/>
            </p:nvSpPr>
            <p:spPr>
              <a:xfrm>
                <a:off x="2957400" y="3686040"/>
                <a:ext cx="3157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4"/>
              <p:cNvSpPr txBox="1"/>
              <p:nvPr/>
            </p:nvSpPr>
            <p:spPr>
              <a:xfrm>
                <a:off x="900000" y="4494240"/>
                <a:ext cx="4260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55"/>
          <p:cNvSpPr/>
          <p:nvPr/>
        </p:nvSpPr>
        <p:spPr>
          <a:xfrm>
            <a:off x="4912920" y="15778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60"/>
          <p:cNvGrpSpPr/>
          <p:nvPr/>
        </p:nvGrpSpPr>
        <p:grpSpPr>
          <a:xfrm>
            <a:off x="5546880" y="1392120"/>
            <a:ext cx="3346200" cy="1739880"/>
            <a:chOff x="5546880" y="1392120"/>
            <a:chExt cx="3346200" cy="1739880"/>
          </a:xfrm>
        </p:grpSpPr>
        <p:sp>
          <p:nvSpPr>
            <p:cNvPr id="234" name="Text Box 57"/>
            <p:cNvSpPr/>
            <p:nvPr/>
          </p:nvSpPr>
          <p:spPr>
            <a:xfrm>
              <a:off x="5546880" y="1392120"/>
              <a:ext cx="3346200" cy="1739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Integral Parsial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 = t + 1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u = dt  d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v = cos nt dt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v = 1/n sin 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58"/>
                <p:cNvSpPr txBox="1"/>
                <p:nvPr/>
              </p:nvSpPr>
              <p:spPr>
                <a:xfrm>
                  <a:off x="6162840" y="2328840"/>
                  <a:ext cx="193824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u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e>
                      </m:nary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uv</m:t>
                      </m:r>
                      <m:r>
                        <m:t xml:space="preserve">|</m:t>
                      </m:r>
                      <m:m>
                        <m:mr>
                          <m:e>
                            <m:r>
                              <m:t xml:space="preserve">b</m:t>
                            </m:r>
                          </m:e>
                        </m:mr>
                        <m:mr>
                          <m:e>
                            <m:r>
                              <m:t xml:space="preserve">a</m:t>
                            </m:r>
                          </m:e>
                        </m:mr>
                      </m:m>
                      <m:r>
                        <m:t xml:space="preserve">−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v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Text Box 61"/>
          <p:cNvSpPr/>
          <p:nvPr/>
        </p:nvSpPr>
        <p:spPr>
          <a:xfrm>
            <a:off x="2078280" y="2925720"/>
            <a:ext cx="32835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t + 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 = dt  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 = sin nt d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 = -1/n co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3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2"/>
              <p:cNvSpPr txBox="1"/>
              <p:nvPr/>
            </p:nvSpPr>
            <p:spPr>
              <a:xfrm>
                <a:off x="900000" y="5157720"/>
                <a:ext cx="12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39" name=""/>
          <p:cNvGraphicFramePr/>
          <p:nvPr/>
        </p:nvGraphicFramePr>
        <p:xfrm>
          <a:off x="6276960" y="3289320"/>
          <a:ext cx="1552680" cy="2436840"/>
        </p:xfrm>
        <a:graphic>
          <a:graphicData uri="http://schemas.openxmlformats.org/drawingml/2006/table">
            <a:tbl>
              <a:tblPr/>
              <a:tblGrid>
                <a:gridCol w="743040"/>
                <a:gridCol w="8096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mb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350"/>
                            </p:stCondLst>
                            <p:childTnLst>
                              <p:par>
                                <p:cTn id="4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850"/>
                            </p:stCondLst>
                            <p:childTnLst>
                              <p:par>
                                <p:cTn id="4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9CC2-EDA0-458C-A4DA-9EFD2D48EBC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731BA80D-8056-44E8-B555-6FECFAC0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berikut dipandang periodik dengan periode 2. Gambar grafik dan perderetkan dalam deret Four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9640" y="3357360"/>
            <a:ext cx="77774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entukan deret Fourier dari fungsi periodik dengan periode p = 2L, sket grafik f(t) dan jumlah partial deret untuk n = 3, bila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t) = 2t, 0 &lt; t &lt;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L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 ( 0 &lt; t &lt; 1 ) 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1203480" y="2028960"/>
                <a:ext cx="4520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3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E7F-CA7E-4195-A715-1342A2BE999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6CE00644-C1ED-4A18-A47E-46B3A3E5C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disebut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fungsi genap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bila berlaku  f(-t) = f(t) untuk setiap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id-ID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ungsi f(t) disebut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fungsi ganjil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bila berlaku f(-t) = -f(t) untuk setiap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id-ID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f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rafik fungsi genap, y = f(t) simetris terhadap sumbu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rafik fungsi ganjil, y = f(t)  simetris terhadap titik pusat salib sum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Hasilkali dua  fungsi gen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gsi ge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asilkali dua fungsi ganji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fungsi ge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asilkali  fungsi gen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ganji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fungsi ganj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66"/>
                            </p:stCondLst>
                            <p:childTnLst>
                              <p:par>
                                <p:cTn id="5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98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8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98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98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98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98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98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98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C5B-BD30-40D7-87E5-E29B616FB2E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84D9E371-720C-45F6-B4DB-228DC6A87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2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258" name="Group 69"/>
          <p:cNvGrpSpPr/>
          <p:nvPr/>
        </p:nvGrpSpPr>
        <p:grpSpPr>
          <a:xfrm>
            <a:off x="324000" y="855720"/>
            <a:ext cx="2447640" cy="1565280"/>
            <a:chOff x="324000" y="855720"/>
            <a:chExt cx="2447640" cy="1565280"/>
          </a:xfrm>
        </p:grpSpPr>
        <p:sp>
          <p:nvSpPr>
            <p:cNvPr id="259" name="Arc 11"/>
            <p:cNvSpPr/>
            <p:nvPr/>
          </p:nvSpPr>
          <p:spPr>
            <a:xfrm flipV="1">
              <a:off x="1547640" y="1313640"/>
              <a:ext cx="663840" cy="7095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"/>
            <p:cNvSpPr/>
            <p:nvPr/>
          </p:nvSpPr>
          <p:spPr>
            <a:xfrm flipV="1">
              <a:off x="1547640" y="101772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>
              <a:off x="324000" y="20239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1586160" y="855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18"/>
            <p:cNvSpPr/>
            <p:nvPr/>
          </p:nvSpPr>
          <p:spPr>
            <a:xfrm flipV="1" rot="5400000">
              <a:off x="855720" y="1341720"/>
              <a:ext cx="709560" cy="6526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198520" y="1490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896760" y="1490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2097360" y="203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765360" y="20397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23"/>
          <p:cNvSpPr/>
          <p:nvPr/>
        </p:nvSpPr>
        <p:spPr>
          <a:xfrm>
            <a:off x="3990960" y="10317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t) fungsi gena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"/>
              <p:cNvSpPr txBox="1"/>
              <p:nvPr/>
            </p:nvSpPr>
            <p:spPr>
              <a:xfrm>
                <a:off x="6583320" y="836640"/>
                <a:ext cx="1776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0" name="Group 38"/>
          <p:cNvGrpSpPr/>
          <p:nvPr/>
        </p:nvGrpSpPr>
        <p:grpSpPr>
          <a:xfrm>
            <a:off x="579600" y="2708280"/>
            <a:ext cx="1944360" cy="1780920"/>
            <a:chOff x="579600" y="2708280"/>
            <a:chExt cx="1944360" cy="1780920"/>
          </a:xfrm>
        </p:grpSpPr>
        <p:sp>
          <p:nvSpPr>
            <p:cNvPr id="271" name="Arc 14"/>
            <p:cNvSpPr/>
            <p:nvPr/>
          </p:nvSpPr>
          <p:spPr>
            <a:xfrm flipV="1" rot="10800000">
              <a:off x="943560" y="3749040"/>
              <a:ext cx="608040" cy="739080"/>
            </a:xfrm>
            <a:prstGeom prst="pie">
              <a:avLst/>
            </a:pr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rc 15"/>
            <p:cNvSpPr/>
            <p:nvPr/>
          </p:nvSpPr>
          <p:spPr>
            <a:xfrm flipV="1">
              <a:off x="1550160" y="3010320"/>
              <a:ext cx="608040" cy="739080"/>
            </a:xfrm>
            <a:prstGeom prst="pie">
              <a:avLst/>
            </a:prstGeom>
            <a:noFill/>
            <a:ln w="28440">
              <a:solidFill>
                <a:srgbClr val="000099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6"/>
            <p:cNvGrpSpPr/>
            <p:nvPr/>
          </p:nvGrpSpPr>
          <p:grpSpPr>
            <a:xfrm>
              <a:off x="579600" y="2708280"/>
              <a:ext cx="1944360" cy="1780920"/>
              <a:chOff x="579600" y="2708280"/>
              <a:chExt cx="1944360" cy="1780920"/>
            </a:xfrm>
          </p:grpSpPr>
          <p:sp>
            <p:nvSpPr>
              <p:cNvPr id="274" name="Line 27"/>
              <p:cNvSpPr/>
              <p:nvPr/>
            </p:nvSpPr>
            <p:spPr>
              <a:xfrm flipV="1">
                <a:off x="1551240" y="2852280"/>
                <a:ext cx="0" cy="163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8"/>
              <p:cNvSpPr/>
              <p:nvPr/>
            </p:nvSpPr>
            <p:spPr>
              <a:xfrm>
                <a:off x="579600" y="375012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29"/>
              <p:cNvSpPr/>
              <p:nvPr/>
            </p:nvSpPr>
            <p:spPr>
              <a:xfrm>
                <a:off x="1582560" y="2708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Line 31"/>
            <p:cNvSpPr/>
            <p:nvPr/>
          </p:nvSpPr>
          <p:spPr>
            <a:xfrm>
              <a:off x="2119320" y="3274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2"/>
            <p:cNvSpPr/>
            <p:nvPr/>
          </p:nvSpPr>
          <p:spPr>
            <a:xfrm>
              <a:off x="983880" y="37501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3"/>
            <p:cNvSpPr/>
            <p:nvPr/>
          </p:nvSpPr>
          <p:spPr>
            <a:xfrm>
              <a:off x="2040120" y="3764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906480" y="34884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35"/>
          <p:cNvSpPr/>
          <p:nvPr/>
        </p:nvSpPr>
        <p:spPr>
          <a:xfrm>
            <a:off x="3992400" y="184464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t) fungsi ganji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7"/>
          <p:cNvSpPr/>
          <p:nvPr/>
        </p:nvSpPr>
        <p:spPr>
          <a:xfrm>
            <a:off x="3447360" y="2491560"/>
            <a:ext cx="54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gsi ganjil dan cos 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gsi genap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6"/>
              <p:cNvSpPr txBox="1"/>
              <p:nvPr/>
            </p:nvSpPr>
            <p:spPr>
              <a:xfrm>
                <a:off x="6608880" y="1628640"/>
                <a:ext cx="1168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3635280" y="3009960"/>
          <a:ext cx="4824360" cy="1584360"/>
        </p:xfrm>
        <a:graphic>
          <a:graphicData uri="http://schemas.openxmlformats.org/drawingml/2006/table">
            <a:tbl>
              <a:tblPr/>
              <a:tblGrid>
                <a:gridCol w="1608120"/>
                <a:gridCol w="1608120"/>
                <a:gridCol w="1608120"/>
              </a:tblGrid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t) sin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t) cos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j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j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j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Rectangle 7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70"/>
              <p:cNvSpPr txBox="1"/>
              <p:nvPr/>
            </p:nvSpPr>
            <p:spPr>
              <a:xfrm>
                <a:off x="2340000" y="4941720"/>
                <a:ext cx="3672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7" name="Oval 72"/>
          <p:cNvSpPr/>
          <p:nvPr/>
        </p:nvSpPr>
        <p:spPr>
          <a:xfrm>
            <a:off x="5580000" y="3500280"/>
            <a:ext cx="1008000" cy="57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73"/>
          <p:cNvSpPr/>
          <p:nvPr/>
        </p:nvSpPr>
        <p:spPr>
          <a:xfrm>
            <a:off x="7124760" y="4044960"/>
            <a:ext cx="1008000" cy="57636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AutoShape 74"/>
          <p:cNvCxnSpPr>
            <a:stCxn id="288" idx="4"/>
          </p:cNvCxnSpPr>
          <p:nvPr/>
        </p:nvCxnSpPr>
        <p:spPr>
          <a:xfrm rot="5400000">
            <a:off x="6438960" y="4193280"/>
            <a:ext cx="762480" cy="1618200"/>
          </a:xfrm>
          <a:prstGeom prst="bentConnector2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290" name="AutoShape 75"/>
          <p:cNvCxnSpPr/>
          <p:nvPr/>
        </p:nvCxnSpPr>
        <p:spPr>
          <a:xfrm rot="5400000">
            <a:off x="3535560" y="2869560"/>
            <a:ext cx="1316160" cy="3709080"/>
          </a:xfrm>
          <a:prstGeom prst="bentConnector4">
            <a:avLst>
              <a:gd name="adj1" fmla="val 54391"/>
              <a:gd name="adj2" fmla="val 106163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p:transition spd="slow">
    <p:circl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FAE5-CBF0-46B2-B4FE-A8C472F78E0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94D78FA-62D3-4AED-98A8-7BBC36829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3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00" y="981000"/>
            <a:ext cx="662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fungsi genap terdefinisi pada  ( -L,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kontinu bagian demi bagian d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iodik dengan periode p = 2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6"/>
              <p:cNvSpPr txBox="1"/>
              <p:nvPr/>
            </p:nvSpPr>
            <p:spPr>
              <a:xfrm>
                <a:off x="1476360" y="5013360"/>
                <a:ext cx="4824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8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8"/>
              <p:cNvSpPr txBox="1"/>
              <p:nvPr/>
            </p:nvSpPr>
            <p:spPr>
              <a:xfrm>
                <a:off x="1547640" y="2349360"/>
                <a:ext cx="37450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1619280" y="3627360"/>
                <a:ext cx="3816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/>
          <p:cNvSpPr/>
          <p:nvPr/>
        </p:nvSpPr>
        <p:spPr>
          <a:xfrm>
            <a:off x="5796000" y="2349360"/>
            <a:ext cx="2736720" cy="151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Cosi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66"/>
                            </p:stCondLst>
                            <p:childTnLst>
                              <p:par>
                                <p:cTn id="6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98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66"/>
                            </p:stCondLst>
                            <p:childTnLst>
                              <p:par>
                                <p:cTn id="6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98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7066"/>
                            </p:stCondLst>
                            <p:childTnLst>
                              <p:par>
                                <p:cTn id="6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98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9A6B-CB9B-492D-9265-CB62D1CA4E0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6CE64EA6-9F09-4D8C-A781-7F62033B7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3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187280" y="1052640"/>
            <a:ext cx="6769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fungsi 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jil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terdefinisi pada  ( -L,L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kontinu bagian demi bagian d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iodik dengan periode p = 2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1763640" y="5229360"/>
                <a:ext cx="48243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4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2"/>
              <p:cNvSpPr txBox="1"/>
              <p:nvPr/>
            </p:nvSpPr>
            <p:spPr>
              <a:xfrm>
                <a:off x="1619280" y="2276640"/>
                <a:ext cx="2232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4"/>
              <p:cNvSpPr txBox="1"/>
              <p:nvPr/>
            </p:nvSpPr>
            <p:spPr>
              <a:xfrm>
                <a:off x="1620720" y="3284640"/>
                <a:ext cx="28800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L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7"/>
              <p:cNvSpPr txBox="1"/>
              <p:nvPr/>
            </p:nvSpPr>
            <p:spPr>
              <a:xfrm>
                <a:off x="1547640" y="4221000"/>
                <a:ext cx="25196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3" name="AutoShape 19"/>
          <p:cNvSpPr/>
          <p:nvPr/>
        </p:nvSpPr>
        <p:spPr>
          <a:xfrm>
            <a:off x="5292720" y="3284640"/>
            <a:ext cx="2448000" cy="1296720"/>
          </a:xfrm>
          <a:prstGeom prst="wedgeEllipseCallout">
            <a:avLst>
              <a:gd name="adj1" fmla="val -92800"/>
              <a:gd name="adj2" fmla="val 53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Si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CAA-BB95-4807-BC75-A5D7D8A555B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D01ACD27-9B31-4989-899A-F6DEEFC86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95280" y="1143000"/>
                <a:ext cx="23050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Text Box 4"/>
          <p:cNvSpPr/>
          <p:nvPr/>
        </p:nvSpPr>
        <p:spPr>
          <a:xfrm>
            <a:off x="2770920" y="121608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 + 6) = 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7"/>
          <p:cNvGrpSpPr/>
          <p:nvPr/>
        </p:nvGrpSpPr>
        <p:grpSpPr>
          <a:xfrm>
            <a:off x="611280" y="1916280"/>
            <a:ext cx="2592360" cy="1800000"/>
            <a:chOff x="611280" y="1916280"/>
            <a:chExt cx="2592360" cy="1800000"/>
          </a:xfrm>
        </p:grpSpPr>
        <p:grpSp>
          <p:nvGrpSpPr>
            <p:cNvPr id="331" name="Group 8"/>
            <p:cNvGrpSpPr/>
            <p:nvPr/>
          </p:nvGrpSpPr>
          <p:grpSpPr>
            <a:xfrm>
              <a:off x="611280" y="1916280"/>
              <a:ext cx="2592360" cy="1800000"/>
              <a:chOff x="611280" y="1916280"/>
              <a:chExt cx="2592360" cy="1800000"/>
            </a:xfrm>
          </p:grpSpPr>
          <p:sp>
            <p:nvSpPr>
              <p:cNvPr id="332" name="Rectangle 9"/>
              <p:cNvSpPr/>
              <p:nvPr/>
            </p:nvSpPr>
            <p:spPr>
              <a:xfrm>
                <a:off x="828720" y="26341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0"/>
              <p:cNvSpPr/>
              <p:nvPr/>
            </p:nvSpPr>
            <p:spPr>
              <a:xfrm flipV="1">
                <a:off x="1908000" y="1916280"/>
                <a:ext cx="0" cy="180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1"/>
              <p:cNvSpPr/>
              <p:nvPr/>
            </p:nvSpPr>
            <p:spPr>
              <a:xfrm>
                <a:off x="611280" y="2995560"/>
                <a:ext cx="25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2"/>
              <p:cNvSpPr/>
              <p:nvPr/>
            </p:nvSpPr>
            <p:spPr>
              <a:xfrm>
                <a:off x="1908000" y="2492280"/>
                <a:ext cx="93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13"/>
              <p:cNvSpPr/>
              <p:nvPr/>
            </p:nvSpPr>
            <p:spPr>
              <a:xfrm>
                <a:off x="971280" y="3500280"/>
                <a:ext cx="93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14"/>
              <p:cNvSpPr/>
              <p:nvPr/>
            </p:nvSpPr>
            <p:spPr>
              <a:xfrm>
                <a:off x="2843280" y="2492280"/>
                <a:ext cx="0" cy="5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15"/>
              <p:cNvSpPr/>
              <p:nvPr/>
            </p:nvSpPr>
            <p:spPr>
              <a:xfrm>
                <a:off x="971280" y="2997000"/>
                <a:ext cx="0" cy="50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6"/>
              <p:cNvSpPr/>
              <p:nvPr/>
            </p:nvSpPr>
            <p:spPr>
              <a:xfrm>
                <a:off x="2681280" y="3016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Text Box 17"/>
            <p:cNvSpPr/>
            <p:nvPr/>
          </p:nvSpPr>
          <p:spPr>
            <a:xfrm>
              <a:off x="1602000" y="229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1889280" y="33033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29"/>
          <p:cNvSpPr/>
          <p:nvPr/>
        </p:nvSpPr>
        <p:spPr>
          <a:xfrm>
            <a:off x="3203640" y="1989000"/>
            <a:ext cx="1297080" cy="496440"/>
          </a:xfrm>
          <a:prstGeom prst="wedgeRoundRectCallout">
            <a:avLst>
              <a:gd name="adj1" fmla="val -93060"/>
              <a:gd name="adj2" fmla="val 28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j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37"/>
              <p:cNvSpPr txBox="1"/>
              <p:nvPr/>
            </p:nvSpPr>
            <p:spPr>
              <a:xfrm>
                <a:off x="4897440" y="1116000"/>
                <a:ext cx="2084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5" name="Rectangle 4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9"/>
              <p:cNvSpPr txBox="1"/>
              <p:nvPr/>
            </p:nvSpPr>
            <p:spPr>
              <a:xfrm>
                <a:off x="5219640" y="1916280"/>
                <a:ext cx="3168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1"/>
              <p:cNvSpPr txBox="1"/>
              <p:nvPr/>
            </p:nvSpPr>
            <p:spPr>
              <a:xfrm>
                <a:off x="5292720" y="2781360"/>
                <a:ext cx="3024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π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π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9" name="Rectangle 4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43"/>
              <p:cNvSpPr txBox="1"/>
              <p:nvPr/>
            </p:nvSpPr>
            <p:spPr>
              <a:xfrm>
                <a:off x="5305320" y="3500280"/>
                <a:ext cx="3154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1" name="Rectangle 4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45"/>
              <p:cNvSpPr txBox="1"/>
              <p:nvPr/>
            </p:nvSpPr>
            <p:spPr>
              <a:xfrm>
                <a:off x="5364000" y="4221000"/>
                <a:ext cx="1513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Rectangle 4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7"/>
              <p:cNvSpPr txBox="1"/>
              <p:nvPr/>
            </p:nvSpPr>
            <p:spPr>
              <a:xfrm>
                <a:off x="5003640" y="4941720"/>
                <a:ext cx="21607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355" name="AutoShape 49"/>
          <p:cNvCxnSpPr/>
          <p:nvPr/>
        </p:nvCxnSpPr>
        <p:spPr>
          <a:xfrm flipH="1" flipV="1" rot="10800000">
            <a:off x="4896360" y="1506600"/>
            <a:ext cx="106920" cy="3892680"/>
          </a:xfrm>
          <a:prstGeom prst="bentConnector3">
            <a:avLst>
              <a:gd name="adj1" fmla="val -214864"/>
            </a:avLst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6" name="Rectangle 5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50"/>
              <p:cNvSpPr txBox="1"/>
              <p:nvPr/>
            </p:nvSpPr>
            <p:spPr>
              <a:xfrm>
                <a:off x="512640" y="3860640"/>
                <a:ext cx="29354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Rectangle 5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2"/>
              <p:cNvSpPr txBox="1"/>
              <p:nvPr/>
            </p:nvSpPr>
            <p:spPr>
              <a:xfrm>
                <a:off x="900000" y="4653000"/>
                <a:ext cx="2448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3ED-01BA-4DDE-88D6-AEAA6ACEA3F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159F9402-8B6D-47FF-9B96-2355221F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Fungsi Genap dan Fungsi Ganjil # 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468360" y="1125360"/>
                <a:ext cx="2717640" cy="6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π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5" name="Text Box 6"/>
          <p:cNvSpPr/>
          <p:nvPr/>
        </p:nvSpPr>
        <p:spPr>
          <a:xfrm>
            <a:off x="3418560" y="1197000"/>
            <a:ext cx="16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 + 2 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= f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9"/>
          <p:cNvGrpSpPr/>
          <p:nvPr/>
        </p:nvGrpSpPr>
        <p:grpSpPr>
          <a:xfrm>
            <a:off x="468360" y="1773360"/>
            <a:ext cx="3960720" cy="1800000"/>
            <a:chOff x="468360" y="1773360"/>
            <a:chExt cx="3960720" cy="1800000"/>
          </a:xfrm>
        </p:grpSpPr>
        <p:sp>
          <p:nvSpPr>
            <p:cNvPr id="367" name="Line 20"/>
            <p:cNvSpPr/>
            <p:nvPr/>
          </p:nvSpPr>
          <p:spPr>
            <a:xfrm>
              <a:off x="468360" y="3068640"/>
              <a:ext cx="39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1"/>
            <p:cNvSpPr/>
            <p:nvPr/>
          </p:nvSpPr>
          <p:spPr>
            <a:xfrm flipV="1">
              <a:off x="2340000" y="177336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3060720" y="234936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3"/>
            <p:cNvSpPr/>
            <p:nvPr/>
          </p:nvSpPr>
          <p:spPr>
            <a:xfrm>
              <a:off x="3566160" y="306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V="1">
              <a:off x="2340000" y="2349000"/>
              <a:ext cx="720720" cy="718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H="1" flipV="1">
              <a:off x="3060720" y="2349000"/>
              <a:ext cx="720720" cy="7189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6"/>
            <p:cNvSpPr/>
            <p:nvPr/>
          </p:nvSpPr>
          <p:spPr>
            <a:xfrm>
              <a:off x="2934000" y="3068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7"/>
            <p:cNvSpPr/>
            <p:nvPr/>
          </p:nvSpPr>
          <p:spPr>
            <a:xfrm>
              <a:off x="1982880" y="21333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8"/>
            <p:cNvSpPr/>
            <p:nvPr/>
          </p:nvSpPr>
          <p:spPr>
            <a:xfrm flipH="1">
              <a:off x="2340000" y="23493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Line 30"/>
          <p:cNvSpPr/>
          <p:nvPr/>
        </p:nvSpPr>
        <p:spPr>
          <a:xfrm flipH="1" flipV="1">
            <a:off x="1620720" y="2349360"/>
            <a:ext cx="720720" cy="719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1"/>
          <p:cNvSpPr/>
          <p:nvPr/>
        </p:nvSpPr>
        <p:spPr>
          <a:xfrm flipV="1">
            <a:off x="900000" y="2349360"/>
            <a:ext cx="720720" cy="719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2"/>
          <p:cNvSpPr/>
          <p:nvPr/>
        </p:nvSpPr>
        <p:spPr>
          <a:xfrm>
            <a:off x="1620720" y="234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3"/>
          <p:cNvSpPr/>
          <p:nvPr/>
        </p:nvSpPr>
        <p:spPr>
          <a:xfrm>
            <a:off x="162072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1457640" y="3013200"/>
            <a:ext cx="4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626040" y="303840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6"/>
          <p:cNvSpPr/>
          <p:nvPr/>
        </p:nvSpPr>
        <p:spPr>
          <a:xfrm>
            <a:off x="3564000" y="1700280"/>
            <a:ext cx="1368360" cy="503280"/>
          </a:xfrm>
          <a:prstGeom prst="wedgeRoundRectCallout">
            <a:avLst>
              <a:gd name="adj1" fmla="val -58351"/>
              <a:gd name="adj2" fmla="val 118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37"/>
              <p:cNvSpPr txBox="1"/>
              <p:nvPr/>
            </p:nvSpPr>
            <p:spPr>
              <a:xfrm>
                <a:off x="5229360" y="981000"/>
                <a:ext cx="1492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4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39"/>
              <p:cNvSpPr txBox="1"/>
              <p:nvPr/>
            </p:nvSpPr>
            <p:spPr>
              <a:xfrm>
                <a:off x="6869160" y="981000"/>
                <a:ext cx="1165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7" name="Rectangle 4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41"/>
              <p:cNvSpPr txBox="1"/>
              <p:nvPr/>
            </p:nvSpPr>
            <p:spPr>
              <a:xfrm>
                <a:off x="5580000" y="1844640"/>
                <a:ext cx="1008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9" name="Text Box 43"/>
          <p:cNvSpPr/>
          <p:nvPr/>
        </p:nvSpPr>
        <p:spPr>
          <a:xfrm>
            <a:off x="6568200" y="20779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5"/>
              <p:cNvSpPr txBox="1"/>
              <p:nvPr/>
            </p:nvSpPr>
            <p:spPr>
              <a:xfrm>
                <a:off x="5292720" y="2708280"/>
                <a:ext cx="17287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Rectangle 4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47"/>
              <p:cNvSpPr txBox="1"/>
              <p:nvPr/>
            </p:nvSpPr>
            <p:spPr>
              <a:xfrm>
                <a:off x="5651640" y="3573360"/>
                <a:ext cx="2160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Rectangle 5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9"/>
              <p:cNvSpPr txBox="1"/>
              <p:nvPr/>
            </p:nvSpPr>
            <p:spPr>
              <a:xfrm>
                <a:off x="5651640" y="4365720"/>
                <a:ext cx="129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π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96" name="Rectangle 5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51"/>
              <p:cNvSpPr txBox="1"/>
              <p:nvPr/>
            </p:nvSpPr>
            <p:spPr>
              <a:xfrm>
                <a:off x="5724360" y="5084640"/>
                <a:ext cx="158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Rectangle 5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53"/>
              <p:cNvSpPr txBox="1"/>
              <p:nvPr/>
            </p:nvSpPr>
            <p:spPr>
              <a:xfrm>
                <a:off x="611280" y="3873600"/>
                <a:ext cx="3240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0" name="Rectangle 5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5"/>
              <p:cNvSpPr txBox="1"/>
              <p:nvPr/>
            </p:nvSpPr>
            <p:spPr>
              <a:xfrm>
                <a:off x="1052640" y="4724280"/>
                <a:ext cx="27874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6511-85F8-434F-A2F7-CE24F6F9952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783BBCCB-3222-425A-AAF3-35CE7B29B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Selidiki apakah fungsi berikut genap, ganjil atau tidak kedu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t( 1 - t ) , 0 &lt; t &lt; 1 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4360" y="2924280"/>
            <a:ext cx="77040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iketahui f(t) periodik dengan peri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itentukan oleh f(t) = t ( t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)  untuk 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&lt; t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Tentukan deret Fourier f(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berikut dipandang periodik dengan periode 2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Tentukan Deret Fouri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"/>
              <p:cNvSpPr txBox="1"/>
              <p:nvPr/>
            </p:nvSpPr>
            <p:spPr>
              <a:xfrm>
                <a:off x="1332000" y="2260440"/>
                <a:ext cx="546552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π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1338120" y="4941720"/>
                <a:ext cx="38815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A85-0AC1-4A1A-B674-1BBEE7CAEAA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7555EB47-2E5E-487B-8048-9DD30457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ungsi Periodik # 1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920" y="1267920"/>
            <a:ext cx="7058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d-ID" sz="2400" spc="-1" strike="noStrike" u="sng">
                <a:solidFill>
                  <a:srgbClr val="000000"/>
                </a:solidFill>
                <a:uFillTx/>
                <a:latin typeface="Arial"/>
              </a:rPr>
              <a:t>fungsi periodik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bi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 bilangan 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sehingga berlaku f(t+p) = f(t) untuk setiap 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 terkecil disebut </a:t>
            </a:r>
            <a:r>
              <a:rPr b="1" lang="id-ID" sz="2400" spc="-1" strike="noStrike" u="sng">
                <a:solidFill>
                  <a:srgbClr val="000000"/>
                </a:solidFill>
                <a:uFillTx/>
                <a:latin typeface="Arial"/>
              </a:rPr>
              <a:t>periode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ari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Jumlah fungsi periodik merupakan fungsi periodik.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Misal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,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,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,….,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ungsi periodik dengan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 periode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,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,…,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, m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aka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f(t) = 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+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+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+….+ f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(t)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ungsi periodik dengan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 periode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 = K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elipata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ersekutua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erkecil (KPK ) dari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,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, …, p</a:t>
            </a:r>
            <a:r>
              <a:rPr b="0" lang="id-ID" sz="24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id-ID" sz="24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71D6-AEF0-42C7-9638-C9CF4FEACF6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59D561F-9522-4673-B5A9-1A8D1014C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rluasan Fungsi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1110960" y="1021320"/>
            <a:ext cx="59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isal fungsi f(t) terdefinisi pada  0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rc 4"/>
          <p:cNvSpPr/>
          <p:nvPr/>
        </p:nvSpPr>
        <p:spPr>
          <a:xfrm flipV="1" rot="6352200">
            <a:off x="1834920" y="2061360"/>
            <a:ext cx="504720" cy="647640"/>
          </a:xfrm>
          <a:prstGeom prst="pie">
            <a:avLst/>
          </a:prstGeom>
          <a:noFill/>
          <a:ln w="284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rc 6"/>
          <p:cNvSpPr/>
          <p:nvPr/>
        </p:nvSpPr>
        <p:spPr>
          <a:xfrm flipV="1">
            <a:off x="2340000" y="2059920"/>
            <a:ext cx="504720" cy="64764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8"/>
          <p:cNvSpPr/>
          <p:nvPr/>
        </p:nvSpPr>
        <p:spPr>
          <a:xfrm>
            <a:off x="183672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1260360" y="1699920"/>
            <a:ext cx="2232000" cy="1873080"/>
            <a:chOff x="1260360" y="1699920"/>
            <a:chExt cx="2232000" cy="1873080"/>
          </a:xfrm>
        </p:grpSpPr>
        <p:sp>
          <p:nvSpPr>
            <p:cNvPr id="421" name="Line 10"/>
            <p:cNvSpPr/>
            <p:nvPr/>
          </p:nvSpPr>
          <p:spPr>
            <a:xfrm flipV="1">
              <a:off x="2339640" y="169992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1"/>
            <p:cNvSpPr/>
            <p:nvPr/>
          </p:nvSpPr>
          <p:spPr>
            <a:xfrm>
              <a:off x="1260360" y="270828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rc 12"/>
            <p:cNvSpPr/>
            <p:nvPr/>
          </p:nvSpPr>
          <p:spPr>
            <a:xfrm flipV="1">
              <a:off x="2339640" y="2059920"/>
              <a:ext cx="505080" cy="64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3"/>
            <p:cNvSpPr/>
            <p:nvPr/>
          </p:nvSpPr>
          <p:spPr>
            <a:xfrm>
              <a:off x="2830320" y="22194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2695680" y="2670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15"/>
          <p:cNvSpPr/>
          <p:nvPr/>
        </p:nvSpPr>
        <p:spPr>
          <a:xfrm>
            <a:off x="1478160" y="26701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780000" y="177336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diperluas menjadi fungsi genap  pada (-L,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3859200" y="27813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0"/>
              <p:cNvSpPr txBox="1"/>
              <p:nvPr/>
            </p:nvSpPr>
            <p:spPr>
              <a:xfrm>
                <a:off x="3851280" y="3213000"/>
                <a:ext cx="1873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1"/>
              <p:cNvSpPr txBox="1"/>
              <p:nvPr/>
            </p:nvSpPr>
            <p:spPr>
              <a:xfrm>
                <a:off x="5940360" y="3213000"/>
                <a:ext cx="2808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3"/>
              <p:cNvSpPr txBox="1"/>
              <p:nvPr/>
            </p:nvSpPr>
            <p:spPr>
              <a:xfrm>
                <a:off x="1979640" y="4221000"/>
                <a:ext cx="36003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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Text Box 24"/>
          <p:cNvSpPr/>
          <p:nvPr/>
        </p:nvSpPr>
        <p:spPr>
          <a:xfrm>
            <a:off x="1979640" y="5267160"/>
            <a:ext cx="4392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F Cosin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ri f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-1810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2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5C1A-8D79-4AE0-AA45-D50BFDE3B62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156E675B-C451-4A1F-B034-28C5C7C11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erluasan Fungsi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966600" y="1021320"/>
            <a:ext cx="59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isal fungsi f(t) terdefinisi pada  0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5"/>
          <p:cNvSpPr/>
          <p:nvPr/>
        </p:nvSpPr>
        <p:spPr>
          <a:xfrm flipV="1" rot="10800000">
            <a:off x="1763640" y="2707200"/>
            <a:ext cx="504720" cy="64764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6"/>
          <p:cNvSpPr/>
          <p:nvPr/>
        </p:nvSpPr>
        <p:spPr>
          <a:xfrm flipV="1">
            <a:off x="2266920" y="2059920"/>
            <a:ext cx="504720" cy="647640"/>
          </a:xfrm>
          <a:prstGeom prst="pie">
            <a:avLst/>
          </a:pr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7"/>
          <p:cNvSpPr/>
          <p:nvPr/>
        </p:nvSpPr>
        <p:spPr>
          <a:xfrm>
            <a:off x="176364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9"/>
          <p:cNvGrpSpPr/>
          <p:nvPr/>
        </p:nvGrpSpPr>
        <p:grpSpPr>
          <a:xfrm>
            <a:off x="1187280" y="1699920"/>
            <a:ext cx="2232000" cy="1873080"/>
            <a:chOff x="1187280" y="1699920"/>
            <a:chExt cx="2232000" cy="1873080"/>
          </a:xfrm>
        </p:grpSpPr>
        <p:sp>
          <p:nvSpPr>
            <p:cNvPr id="444" name="Line 10"/>
            <p:cNvSpPr/>
            <p:nvPr/>
          </p:nvSpPr>
          <p:spPr>
            <a:xfrm flipV="1">
              <a:off x="2266560" y="169992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1187280" y="270828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rc 12"/>
            <p:cNvSpPr/>
            <p:nvPr/>
          </p:nvSpPr>
          <p:spPr>
            <a:xfrm flipV="1">
              <a:off x="2266560" y="2059920"/>
              <a:ext cx="505080" cy="64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3"/>
            <p:cNvSpPr/>
            <p:nvPr/>
          </p:nvSpPr>
          <p:spPr>
            <a:xfrm>
              <a:off x="2757240" y="22194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4"/>
            <p:cNvSpPr/>
            <p:nvPr/>
          </p:nvSpPr>
          <p:spPr>
            <a:xfrm>
              <a:off x="2622600" y="2670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5"/>
          <p:cNvSpPr/>
          <p:nvPr/>
        </p:nvSpPr>
        <p:spPr>
          <a:xfrm>
            <a:off x="1405080" y="26701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708360" y="170028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diperluas menjadi  fungsi ganjil  pada (-L,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3793680" y="2635200"/>
            <a:ext cx="243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da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8"/>
              <p:cNvSpPr txBox="1"/>
              <p:nvPr/>
            </p:nvSpPr>
            <p:spPr>
              <a:xfrm>
                <a:off x="3851280" y="3141720"/>
                <a:ext cx="2808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6" name="Rectangle 2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30"/>
              <p:cNvSpPr txBox="1"/>
              <p:nvPr/>
            </p:nvSpPr>
            <p:spPr>
              <a:xfrm>
                <a:off x="2124000" y="4076640"/>
                <a:ext cx="316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n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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8" name="Text Box 31"/>
          <p:cNvSpPr/>
          <p:nvPr/>
        </p:nvSpPr>
        <p:spPr>
          <a:xfrm>
            <a:off x="2202480" y="5227560"/>
            <a:ext cx="3602160" cy="45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b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F Sin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ri f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7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377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0197-CF34-45F2-9594-0CC7977ED6B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723102DD-8861-44B2-8850-7B7FA83E0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539640" y="98100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ukan DF Cosinus dari fungsi f(t) = t ; 0 &lt; t &lt; 2  yang dipandang periodik dengan periode p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5"/>
              <p:cNvSpPr txBox="1"/>
              <p:nvPr/>
            </p:nvSpPr>
            <p:spPr>
              <a:xfrm>
                <a:off x="611280" y="1700280"/>
                <a:ext cx="158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6"/>
              <p:cNvSpPr txBox="1"/>
              <p:nvPr/>
            </p:nvSpPr>
            <p:spPr>
              <a:xfrm>
                <a:off x="666720" y="2637000"/>
                <a:ext cx="21160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7"/>
              <p:cNvSpPr txBox="1"/>
              <p:nvPr/>
            </p:nvSpPr>
            <p:spPr>
              <a:xfrm>
                <a:off x="2268360" y="1765440"/>
                <a:ext cx="776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8" name="Text Box 8"/>
          <p:cNvSpPr/>
          <p:nvPr/>
        </p:nvSpPr>
        <p:spPr>
          <a:xfrm>
            <a:off x="3041280" y="20080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770640" y="1819440"/>
            <a:ext cx="5252400" cy="7038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= dt  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 = cos ( n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/2) d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=  (2/n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sin (n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11"/>
              <p:cNvSpPr txBox="1"/>
              <p:nvPr/>
            </p:nvSpPr>
            <p:spPr>
              <a:xfrm>
                <a:off x="2844720" y="2708280"/>
                <a:ext cx="2373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nπ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3"/>
              <p:cNvSpPr txBox="1"/>
              <p:nvPr/>
            </p:nvSpPr>
            <p:spPr>
              <a:xfrm>
                <a:off x="5435640" y="2637000"/>
                <a:ext cx="1965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nπ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Rectangle 1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5"/>
              <p:cNvSpPr txBox="1"/>
              <p:nvPr/>
            </p:nvSpPr>
            <p:spPr>
              <a:xfrm>
                <a:off x="1062000" y="3467160"/>
                <a:ext cx="1854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6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17"/>
              <p:cNvSpPr txBox="1"/>
              <p:nvPr/>
            </p:nvSpPr>
            <p:spPr>
              <a:xfrm>
                <a:off x="684360" y="4230720"/>
                <a:ext cx="22460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Rectangle 1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9"/>
              <p:cNvSpPr txBox="1"/>
              <p:nvPr/>
            </p:nvSpPr>
            <p:spPr>
              <a:xfrm>
                <a:off x="3021120" y="4202280"/>
                <a:ext cx="3135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Rectangle 2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1"/>
              <p:cNvSpPr txBox="1"/>
              <p:nvPr/>
            </p:nvSpPr>
            <p:spPr>
              <a:xfrm>
                <a:off x="969840" y="5054760"/>
                <a:ext cx="5046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Rectangle 2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23"/>
              <p:cNvSpPr txBox="1"/>
              <p:nvPr/>
            </p:nvSpPr>
            <p:spPr>
              <a:xfrm>
                <a:off x="5918040" y="5075280"/>
                <a:ext cx="2779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blinds dir="horz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2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35F6-F448-4AA3-8327-36C72AF718C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24FF9106-532B-482E-A7E6-77E4F3947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1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559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Nyatakan f(t) = t , ( 0 &lt; t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sebagai deret Fourier sinus dan gambar grafik perluasan periodik dari f(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a -5 &lt; t &lt; 5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bila f(t) dipandang periodik dengan periode  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lai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4"/>
              <p:cNvSpPr txBox="1"/>
              <p:nvPr/>
            </p:nvSpPr>
            <p:spPr>
              <a:xfrm>
                <a:off x="839880" y="2781360"/>
                <a:ext cx="30114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1" name="Text Box 6"/>
          <p:cNvSpPr/>
          <p:nvPr/>
        </p:nvSpPr>
        <p:spPr>
          <a:xfrm>
            <a:off x="4054320" y="2637000"/>
            <a:ext cx="4478400" cy="11912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= dt 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 = sin (n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) d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=  - 1/n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s (n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7"/>
              <p:cNvSpPr txBox="1"/>
              <p:nvPr/>
            </p:nvSpPr>
            <p:spPr>
              <a:xfrm>
                <a:off x="1500120" y="3973680"/>
                <a:ext cx="43671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t</m:t>
                        </m:r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9"/>
              <p:cNvSpPr txBox="1"/>
              <p:nvPr/>
            </p:nvSpPr>
            <p:spPr>
              <a:xfrm>
                <a:off x="1515960" y="4869000"/>
                <a:ext cx="44640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n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nπt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Date Placeholder 5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7244-8AFC-4F25-AA50-BCC2BA6829A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C59A4E56-4F37-40C6-8BAE-0174DF771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# 2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4"/>
              <p:cNvSpPr txBox="1"/>
              <p:nvPr/>
            </p:nvSpPr>
            <p:spPr>
              <a:xfrm>
                <a:off x="1116000" y="1916280"/>
                <a:ext cx="3527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1116000" y="1052640"/>
                <a:ext cx="4535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π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nπ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nπ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01" name=""/>
          <p:cNvGraphicFramePr/>
          <p:nvPr/>
        </p:nvGraphicFramePr>
        <p:xfrm>
          <a:off x="1187280" y="2708280"/>
          <a:ext cx="5616720" cy="1000080"/>
        </p:xfrm>
        <a:graphic>
          <a:graphicData uri="http://schemas.openxmlformats.org/drawingml/2006/table">
            <a:tbl>
              <a:tblPr/>
              <a:tblGrid>
                <a:gridCol w="1368720"/>
                <a:gridCol w="863640"/>
                <a:gridCol w="792000"/>
                <a:gridCol w="863640"/>
                <a:gridCol w="792000"/>
                <a:gridCol w="936720"/>
              </a:tblGrid>
              <a:tr h="54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3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8"/>
              <p:cNvSpPr txBox="1"/>
              <p:nvPr/>
            </p:nvSpPr>
            <p:spPr>
              <a:xfrm>
                <a:off x="1168560" y="3933720"/>
                <a:ext cx="3835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4" name="Rectangle 4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44"/>
              <p:cNvSpPr txBox="1"/>
              <p:nvPr/>
            </p:nvSpPr>
            <p:spPr>
              <a:xfrm>
                <a:off x="1185840" y="4797360"/>
                <a:ext cx="42498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π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nπ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A4BD-5E80-43EE-B05F-D3DBBEF5C4F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6229413F-3899-4DD2-A87E-59A45C1F6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# 3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k perluasan dari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= t , ( 0 &lt; t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gan periode p = 2 pada -5 &lt; t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Ganj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13"/>
          <p:cNvGrpSpPr/>
          <p:nvPr/>
        </p:nvGrpSpPr>
        <p:grpSpPr>
          <a:xfrm>
            <a:off x="1332000" y="2565000"/>
            <a:ext cx="6478920" cy="2663640"/>
            <a:chOff x="1332000" y="2565000"/>
            <a:chExt cx="6478920" cy="2663640"/>
          </a:xfrm>
        </p:grpSpPr>
        <p:sp>
          <p:nvSpPr>
            <p:cNvPr id="512" name="Line 4"/>
            <p:cNvSpPr/>
            <p:nvPr/>
          </p:nvSpPr>
          <p:spPr>
            <a:xfrm flipV="1">
              <a:off x="4140360" y="2565000"/>
              <a:ext cx="0" cy="26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1332000" y="3933720"/>
              <a:ext cx="64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 flipV="1">
              <a:off x="4140360" y="3429000"/>
              <a:ext cx="50292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7"/>
            <p:cNvSpPr/>
            <p:nvPr/>
          </p:nvSpPr>
          <p:spPr>
            <a:xfrm>
              <a:off x="46432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8"/>
            <p:cNvSpPr/>
            <p:nvPr/>
          </p:nvSpPr>
          <p:spPr>
            <a:xfrm flipH="1">
              <a:off x="4140000" y="342900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9"/>
            <p:cNvSpPr/>
            <p:nvPr/>
          </p:nvSpPr>
          <p:spPr>
            <a:xfrm>
              <a:off x="4435920" y="4024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3853080" y="3213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7544880" y="40050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12"/>
          <p:cNvSpPr/>
          <p:nvPr/>
        </p:nvSpPr>
        <p:spPr>
          <a:xfrm flipV="1">
            <a:off x="4643280" y="39333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3635280" y="39333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132000" y="34290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6"/>
          <p:cNvSpPr/>
          <p:nvPr/>
        </p:nvSpPr>
        <p:spPr>
          <a:xfrm flipV="1">
            <a:off x="5148360" y="34290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7"/>
          <p:cNvSpPr/>
          <p:nvPr/>
        </p:nvSpPr>
        <p:spPr>
          <a:xfrm flipV="1">
            <a:off x="5653080" y="39333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8"/>
          <p:cNvSpPr/>
          <p:nvPr/>
        </p:nvSpPr>
        <p:spPr>
          <a:xfrm flipV="1">
            <a:off x="6156360" y="34290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9"/>
          <p:cNvSpPr/>
          <p:nvPr/>
        </p:nvSpPr>
        <p:spPr>
          <a:xfrm flipV="1">
            <a:off x="2627280" y="393228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0"/>
          <p:cNvSpPr/>
          <p:nvPr/>
        </p:nvSpPr>
        <p:spPr>
          <a:xfrm>
            <a:off x="3635280" y="443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1"/>
          <p:cNvSpPr/>
          <p:nvPr/>
        </p:nvSpPr>
        <p:spPr>
          <a:xfrm flipV="1">
            <a:off x="36352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2"/>
          <p:cNvSpPr/>
          <p:nvPr/>
        </p:nvSpPr>
        <p:spPr>
          <a:xfrm flipV="1">
            <a:off x="46432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3"/>
          <p:cNvSpPr/>
          <p:nvPr/>
        </p:nvSpPr>
        <p:spPr>
          <a:xfrm flipV="1">
            <a:off x="565164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4"/>
          <p:cNvSpPr/>
          <p:nvPr/>
        </p:nvSpPr>
        <p:spPr>
          <a:xfrm flipV="1">
            <a:off x="26272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5"/>
          <p:cNvSpPr/>
          <p:nvPr/>
        </p:nvSpPr>
        <p:spPr>
          <a:xfrm flipV="1">
            <a:off x="3635280" y="342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6"/>
          <p:cNvSpPr/>
          <p:nvPr/>
        </p:nvSpPr>
        <p:spPr>
          <a:xfrm flipV="1">
            <a:off x="5651640" y="342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7"/>
          <p:cNvSpPr/>
          <p:nvPr/>
        </p:nvSpPr>
        <p:spPr>
          <a:xfrm flipV="1">
            <a:off x="2627280" y="3429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8"/>
          <p:cNvSpPr/>
          <p:nvPr/>
        </p:nvSpPr>
        <p:spPr>
          <a:xfrm flipV="1">
            <a:off x="2124000" y="34290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9"/>
          <p:cNvSpPr/>
          <p:nvPr/>
        </p:nvSpPr>
        <p:spPr>
          <a:xfrm flipV="1">
            <a:off x="1620720" y="39333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0"/>
          <p:cNvSpPr/>
          <p:nvPr/>
        </p:nvSpPr>
        <p:spPr>
          <a:xfrm flipV="1">
            <a:off x="161928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1"/>
          <p:cNvSpPr/>
          <p:nvPr/>
        </p:nvSpPr>
        <p:spPr>
          <a:xfrm flipV="1">
            <a:off x="6659640" y="3430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3"/>
          <p:cNvSpPr/>
          <p:nvPr/>
        </p:nvSpPr>
        <p:spPr>
          <a:xfrm rot="16200000">
            <a:off x="3996360" y="4221720"/>
            <a:ext cx="287640" cy="10062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5920 h 1006200"/>
              <a:gd name="textAreaBottom" fmla="*/ 980280 h 100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4"/>
          <p:cNvSpPr/>
          <p:nvPr/>
        </p:nvSpPr>
        <p:spPr>
          <a:xfrm>
            <a:off x="3746520" y="4724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5"/>
          <p:cNvSpPr/>
          <p:nvPr/>
        </p:nvSpPr>
        <p:spPr>
          <a:xfrm>
            <a:off x="4716360" y="2421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7"/>
          <p:cNvSpPr/>
          <p:nvPr/>
        </p:nvSpPr>
        <p:spPr>
          <a:xfrm rot="5400000">
            <a:off x="5002560" y="2564280"/>
            <a:ext cx="288720" cy="1008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"/>
          <p:cNvSpPr/>
          <p:nvPr/>
        </p:nvSpPr>
        <p:spPr>
          <a:xfrm>
            <a:off x="645192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0"/>
          <p:cNvSpPr/>
          <p:nvPr/>
        </p:nvSpPr>
        <p:spPr>
          <a:xfrm>
            <a:off x="1333080" y="3548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EC3-FE75-43AB-8100-20CB540E608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BB927489-31C8-4313-940F-37868431B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705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periodik dengan periode 2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ditentukan oleh 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- t ,  0 &lt; t &lt;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Tentukan deret Fourier sinu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mbar grafik perluasannya pada selang  – 3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t &lt;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periodik dengan periode 2 ditentukan oleh f(t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untuk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0 &lt; t &lt; 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an f(t) = 0 untuk ½ &lt; t &lt; 1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Tentukan deret Fouri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inus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mbarkan grafik perluasannya pada selang – 3 &lt; t &l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f(t) periodik dengan periode 2 ditentukan oleh f(t) = ( t - 1 )</a:t>
            </a:r>
            <a:r>
              <a:rPr b="0" lang="id-ID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 0 &lt; t &lt; 1. Tentukan deret Fouri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inus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mbarkan grafik perluasannya pada selang – 4 &lt; t &lt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67FE-8B0A-45FB-A76E-7B15AD63669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99E2F79F-1884-41E8-A96F-75AABA126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F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58560" y="1052640"/>
            <a:ext cx="67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al fungsi f(t) terdefinisi pada (0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k dengan periode p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inu bagian demi ba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dari fungsi f(t) dinyataka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1692360" y="2852640"/>
                <a:ext cx="3600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1763640" y="4221000"/>
                <a:ext cx="37450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784-55C3-4BFC-9E93-E4348E929DE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CD6A51B7-94FD-44F0-BCDA-33118A968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DF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1187280" y="981000"/>
                <a:ext cx="47818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Rectangle 6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7"/>
              <p:cNvSpPr txBox="1"/>
              <p:nvPr/>
            </p:nvSpPr>
            <p:spPr>
              <a:xfrm>
                <a:off x="1187280" y="2060640"/>
                <a:ext cx="31687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5" name="Rectangle 8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9"/>
              <p:cNvSpPr txBox="1"/>
              <p:nvPr/>
            </p:nvSpPr>
            <p:spPr>
              <a:xfrm>
                <a:off x="1476360" y="3141720"/>
                <a:ext cx="36003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7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11"/>
              <p:cNvSpPr txBox="1"/>
              <p:nvPr/>
            </p:nvSpPr>
            <p:spPr>
              <a:xfrm>
                <a:off x="1692360" y="4292640"/>
                <a:ext cx="3887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9" name="Rectangle 12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0"/>
              <p:cNvSpPr txBox="1"/>
              <p:nvPr/>
            </p:nvSpPr>
            <p:spPr>
              <a:xfrm>
                <a:off x="5076720" y="2043000"/>
                <a:ext cx="32403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cover dir="l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38E7-A733-4FCD-B385-045A32AE078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08681D0F-0A43-4155-9347-C8C9C8B7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DF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16"/>
              <p:cNvSpPr txBox="1"/>
              <p:nvPr/>
            </p:nvSpPr>
            <p:spPr>
              <a:xfrm>
                <a:off x="727200" y="1181160"/>
                <a:ext cx="7877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5" name="Rectangle 1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18"/>
              <p:cNvSpPr txBox="1"/>
              <p:nvPr/>
            </p:nvSpPr>
            <p:spPr>
              <a:xfrm>
                <a:off x="1476360" y="2276640"/>
                <a:ext cx="36003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7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20"/>
              <p:cNvSpPr txBox="1"/>
              <p:nvPr/>
            </p:nvSpPr>
            <p:spPr>
              <a:xfrm>
                <a:off x="1474920" y="3357720"/>
                <a:ext cx="252072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9" name="Rectangle 2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Object 22"/>
              <p:cNvSpPr txBox="1"/>
              <p:nvPr/>
            </p:nvSpPr>
            <p:spPr>
              <a:xfrm>
                <a:off x="1476360" y="4508640"/>
                <a:ext cx="540072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Object 24"/>
              <p:cNvSpPr txBox="1"/>
              <p:nvPr/>
            </p:nvSpPr>
            <p:spPr>
              <a:xfrm>
                <a:off x="4932360" y="3213000"/>
                <a:ext cx="3600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cover dir="l"/>
  </p:transition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0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8247-ADF8-4675-A38E-8EEFCB8F52A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04727D9-E717-45C9-A3BE-4159BBEA6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Periodik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4114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 y = sin 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sin 2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sin (n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inus"/>
          <p:cNvPicPr/>
          <p:nvPr/>
        </p:nvPicPr>
        <p:blipFill>
          <a:blip r:embed="rId1"/>
          <a:stretch/>
        </p:blipFill>
        <p:spPr>
          <a:xfrm>
            <a:off x="30240" y="765000"/>
            <a:ext cx="4541760" cy="400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in2x"/>
          <p:cNvPicPr/>
          <p:nvPr/>
        </p:nvPicPr>
        <p:blipFill>
          <a:blip r:embed="rId2"/>
          <a:stretch/>
        </p:blipFill>
        <p:spPr>
          <a:xfrm>
            <a:off x="4565520" y="765000"/>
            <a:ext cx="447048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4427640" y="4692600"/>
            <a:ext cx="46083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 y = cos (n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tan (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tan (n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y = tan (3x) + sin(5x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2427120" y="2052720"/>
            <a:ext cx="1152720" cy="7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V="1">
            <a:off x="2484360" y="1700280"/>
            <a:ext cx="1152720" cy="7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859120" y="2268000"/>
            <a:ext cx="1152360" cy="8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948360" y="170028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7669080" y="191628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7453440" y="249228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93E6-7ECF-4252-A5E2-7FC5BC517AB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06BA570E-2A42-422A-AE86-E9AA7DBC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tegral Fourier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7345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al f(t) terdefinisi pada (- ½ T, ½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k dengan periode p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inu bagian demi bag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efisien Fourier Kompleks dari f(t) dinyatak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5"/>
              <p:cNvSpPr txBox="1"/>
              <p:nvPr/>
            </p:nvSpPr>
            <p:spPr>
              <a:xfrm>
                <a:off x="1476360" y="4221000"/>
                <a:ext cx="5472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e</m:t>
                                </m:r>
                                <m:sSup>
                                  <m:e/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6"/>
              <p:cNvSpPr txBox="1"/>
              <p:nvPr/>
            </p:nvSpPr>
            <p:spPr>
              <a:xfrm>
                <a:off x="1476360" y="2882880"/>
                <a:ext cx="32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0" name="Rectangle 8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18"/>
              <p:cNvSpPr txBox="1"/>
              <p:nvPr/>
            </p:nvSpPr>
            <p:spPr>
              <a:xfrm>
                <a:off x="4859280" y="2901960"/>
                <a:ext cx="36734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comb dir="vert"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560"/>
                            </p:stCondLst>
                            <p:childTnLst>
                              <p:par>
                                <p:cTn id="1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60"/>
                            </p:stCondLst>
                            <p:childTnLst>
                              <p:par>
                                <p:cTn id="1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71BA-10E4-4C08-9B4F-388957C5F3A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55381FA3-292D-4815-BBD4-4B98FE2AD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tegral Fourier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1116000" y="981000"/>
                <a:ext cx="5184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e</m:t>
                                </m:r>
                                <m:sSup>
                                  <m:e/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0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9"/>
              <p:cNvSpPr txBox="1"/>
              <p:nvPr/>
            </p:nvSpPr>
            <p:spPr>
              <a:xfrm>
                <a:off x="1116000" y="2205000"/>
                <a:ext cx="1295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3203640" y="2205000"/>
                <a:ext cx="2448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Text Box 11"/>
          <p:cNvSpPr/>
          <p:nvPr/>
        </p:nvSpPr>
        <p:spPr>
          <a:xfrm>
            <a:off x="2554560" y="234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2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13"/>
              <p:cNvSpPr txBox="1"/>
              <p:nvPr/>
            </p:nvSpPr>
            <p:spPr>
              <a:xfrm>
                <a:off x="1619280" y="2852640"/>
                <a:ext cx="43210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sup>
                        </m:sSup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Rectangle 14"/>
          <p:cNvSpPr/>
          <p:nvPr/>
        </p:nvSpPr>
        <p:spPr>
          <a:xfrm>
            <a:off x="1092960" y="3907440"/>
            <a:ext cx="573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ila T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( 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x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d-ID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0) dan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x, mak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16"/>
              <p:cNvSpPr txBox="1"/>
              <p:nvPr/>
            </p:nvSpPr>
            <p:spPr>
              <a:xfrm>
                <a:off x="1116000" y="4437000"/>
                <a:ext cx="60483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9" name="Text Box 17"/>
          <p:cNvSpPr/>
          <p:nvPr/>
        </p:nvSpPr>
        <p:spPr>
          <a:xfrm>
            <a:off x="2194560" y="5445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isebut  Integral F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0" name="AutoShape 19"/>
          <p:cNvCxnSpPr/>
          <p:nvPr/>
        </p:nvCxnSpPr>
        <p:spPr>
          <a:xfrm flipH="1" flipV="1" rot="10800000">
            <a:off x="1115640" y="1539360"/>
            <a:ext cx="504000" cy="1834560"/>
          </a:xfrm>
          <a:prstGeom prst="bentConnector3">
            <a:avLst>
              <a:gd name="adj1" fmla="val -81987"/>
            </a:avLst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p:transition spd="slow">
    <p:comb dir="vert"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56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4B2E-564C-496B-9626-115F2DB126F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D60656D8-796B-40E0-84BE-984AED9B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ransformasi Fourier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3"/>
              <p:cNvSpPr txBox="1"/>
              <p:nvPr/>
            </p:nvSpPr>
            <p:spPr>
              <a:xfrm>
                <a:off x="1763640" y="1052640"/>
                <a:ext cx="60483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6" name="AutoShape 4"/>
          <p:cNvSpPr/>
          <p:nvPr/>
        </p:nvSpPr>
        <p:spPr>
          <a:xfrm>
            <a:off x="3564000" y="981000"/>
            <a:ext cx="287964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401040" y="2781360"/>
            <a:ext cx="72324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AutoShape 6"/>
          <p:cNvCxnSpPr>
            <a:stCxn id="636" idx="1"/>
            <a:endCxn id="637" idx="0"/>
          </p:cNvCxnSpPr>
          <p:nvPr/>
        </p:nvCxnSpPr>
        <p:spPr>
          <a:xfrm flipH="1">
            <a:off x="763200" y="1628640"/>
            <a:ext cx="2800800" cy="11534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639" name="Rectangle 7"/>
          <p:cNvSpPr/>
          <p:nvPr/>
        </p:nvSpPr>
        <p:spPr>
          <a:xfrm>
            <a:off x="5031000" y="2797920"/>
            <a:ext cx="38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formasi Four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f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8"/>
              <p:cNvSpPr txBox="1"/>
              <p:nvPr/>
            </p:nvSpPr>
            <p:spPr>
              <a:xfrm>
                <a:off x="1660680" y="2460600"/>
                <a:ext cx="33843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Text Box 9"/>
          <p:cNvSpPr/>
          <p:nvPr/>
        </p:nvSpPr>
        <p:spPr>
          <a:xfrm>
            <a:off x="1186920" y="2800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Object 11"/>
              <p:cNvSpPr txBox="1"/>
              <p:nvPr/>
            </p:nvSpPr>
            <p:spPr>
              <a:xfrm>
                <a:off x="1806480" y="3573360"/>
                <a:ext cx="2865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644" name="AutoShape 12"/>
          <p:cNvCxnSpPr/>
          <p:nvPr/>
        </p:nvCxnSpPr>
        <p:spPr>
          <a:xfrm flipH="1" flipV="1" rot="10800000">
            <a:off x="1762560" y="1537200"/>
            <a:ext cx="43560" cy="2545560"/>
          </a:xfrm>
          <a:prstGeom prst="bentConnector3">
            <a:avLst>
              <a:gd name="adj1" fmla="val -533333"/>
            </a:avLst>
          </a:prstGeom>
          <a:ln w="284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45" name="Rectangle 13"/>
          <p:cNvSpPr/>
          <p:nvPr/>
        </p:nvSpPr>
        <p:spPr>
          <a:xfrm>
            <a:off x="4703760" y="3693240"/>
            <a:ext cx="411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formasi Four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F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1887120" y="488808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5"/>
          <p:cNvSpPr/>
          <p:nvPr/>
        </p:nvSpPr>
        <p:spPr>
          <a:xfrm>
            <a:off x="2556000" y="5013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3493440" y="4869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7"/>
          <p:cNvSpPr/>
          <p:nvPr/>
        </p:nvSpPr>
        <p:spPr>
          <a:xfrm>
            <a:off x="1476360" y="4581360"/>
            <a:ext cx="3168720" cy="1079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4780440" y="4843440"/>
            <a:ext cx="40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angan Transformasi Fou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883C-4125-4052-B679-28C791BB5C0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76AEEF85-8DE6-4967-90ED-A6842B7F9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ransformasi Fourier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4"/>
              <p:cNvSpPr txBox="1"/>
              <p:nvPr/>
            </p:nvSpPr>
            <p:spPr>
              <a:xfrm>
                <a:off x="539640" y="1052640"/>
                <a:ext cx="2232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t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7" name="Rectangle 5"/>
          <p:cNvSpPr/>
          <p:nvPr/>
        </p:nvSpPr>
        <p:spPr>
          <a:xfrm>
            <a:off x="2916360" y="1213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a 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4115160" y="119052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s) = …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8"/>
              <p:cNvSpPr txBox="1"/>
              <p:nvPr/>
            </p:nvSpPr>
            <p:spPr>
              <a:xfrm>
                <a:off x="611280" y="1989000"/>
                <a:ext cx="21603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1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0"/>
              <p:cNvSpPr txBox="1"/>
              <p:nvPr/>
            </p:nvSpPr>
            <p:spPr>
              <a:xfrm>
                <a:off x="2916360" y="2060640"/>
                <a:ext cx="15112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2"/>
              <p:cNvSpPr txBox="1"/>
              <p:nvPr/>
            </p:nvSpPr>
            <p:spPr>
              <a:xfrm>
                <a:off x="4500720" y="2060640"/>
                <a:ext cx="14396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3"/>
              <p:cNvSpPr txBox="1"/>
              <p:nvPr/>
            </p:nvSpPr>
            <p:spPr>
              <a:xfrm>
                <a:off x="6012000" y="2028960"/>
                <a:ext cx="194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6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15"/>
              <p:cNvSpPr txBox="1"/>
              <p:nvPr/>
            </p:nvSpPr>
            <p:spPr>
              <a:xfrm>
                <a:off x="1042920" y="2997360"/>
                <a:ext cx="230508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x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68" name="Rectangle 1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7"/>
              <p:cNvSpPr txBox="1"/>
              <p:nvPr/>
            </p:nvSpPr>
            <p:spPr>
              <a:xfrm>
                <a:off x="3492360" y="3021120"/>
                <a:ext cx="2448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0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19"/>
              <p:cNvSpPr txBox="1"/>
              <p:nvPr/>
            </p:nvSpPr>
            <p:spPr>
              <a:xfrm>
                <a:off x="6156360" y="2989440"/>
                <a:ext cx="25192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2" name="Rectangle 2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21"/>
              <p:cNvSpPr txBox="1"/>
              <p:nvPr/>
            </p:nvSpPr>
            <p:spPr>
              <a:xfrm>
                <a:off x="1042920" y="3789360"/>
                <a:ext cx="1081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4" name="Rectangle 22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Object 23"/>
              <p:cNvSpPr txBox="1"/>
              <p:nvPr/>
            </p:nvSpPr>
            <p:spPr>
              <a:xfrm>
                <a:off x="971640" y="4869000"/>
                <a:ext cx="2376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6" name="AutoShape 24"/>
          <p:cNvSpPr/>
          <p:nvPr/>
        </p:nvSpPr>
        <p:spPr>
          <a:xfrm>
            <a:off x="3706920" y="5157720"/>
            <a:ext cx="649080" cy="216000"/>
          </a:xfrm>
          <a:prstGeom prst="leftRightArrow">
            <a:avLst>
              <a:gd name="adj1" fmla="val 50000"/>
              <a:gd name="adj2" fmla="val 598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5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6"/>
              <p:cNvSpPr txBox="1"/>
              <p:nvPr/>
            </p:nvSpPr>
            <p:spPr>
              <a:xfrm>
                <a:off x="4789440" y="4797360"/>
                <a:ext cx="17272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hecker dir="vert"/>
  </p:transition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43FD-D963-463A-A332-A43311AB5DD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59A98798-CC22-46AE-AFFD-6D3E9F94B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42560" y="981000"/>
            <a:ext cx="7643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entukan koefisien Fourier kompleks d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4"/>
              <p:cNvSpPr txBox="1"/>
              <p:nvPr/>
            </p:nvSpPr>
            <p:spPr>
              <a:xfrm>
                <a:off x="1473120" y="1716120"/>
                <a:ext cx="5835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6"/>
              <p:cNvSpPr txBox="1"/>
              <p:nvPr/>
            </p:nvSpPr>
            <p:spPr>
              <a:xfrm>
                <a:off x="1476360" y="2828880"/>
                <a:ext cx="5400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Rectangle 8"/>
          <p:cNvSpPr/>
          <p:nvPr/>
        </p:nvSpPr>
        <p:spPr>
          <a:xfrm>
            <a:off x="971640" y="3860640"/>
            <a:ext cx="7643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entuk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si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Fouri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9"/>
              <p:cNvSpPr txBox="1"/>
              <p:nvPr/>
            </p:nvSpPr>
            <p:spPr>
              <a:xfrm>
                <a:off x="1492200" y="4468680"/>
                <a:ext cx="34401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</m:t>
                              </m:r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</m:t>
                              </m:r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1340-A818-46FD-B9D0-C365172ADB7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474FD8D3-9EE4-4677-B1FC-BD0DF0B1E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Transformasi Fourie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7490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 mendapatkan TF dari sebuah fung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gunakan Rumus (Versi Mat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gunakan T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gunakan Sifat T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fat Shifting dan Stre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fat Konvolu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8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8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8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8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6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8A99-A7E2-42DC-9C1A-89D9F254D8A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C4BA1EAA-D870-422A-85FB-EADF6B83B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Shifting dan Stretching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/ Pergese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ing / Simila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dan Str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5"/>
              <p:cNvSpPr txBox="1"/>
              <p:nvPr/>
            </p:nvSpPr>
            <p:spPr>
              <a:xfrm>
                <a:off x="5364000" y="1990800"/>
                <a:ext cx="3240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7"/>
              <p:cNvSpPr txBox="1"/>
              <p:nvPr/>
            </p:nvSpPr>
            <p:spPr>
              <a:xfrm>
                <a:off x="5364000" y="2924280"/>
                <a:ext cx="2808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5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9"/>
              <p:cNvSpPr txBox="1"/>
              <p:nvPr/>
            </p:nvSpPr>
            <p:spPr>
              <a:xfrm>
                <a:off x="5364000" y="4076640"/>
                <a:ext cx="3529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p>
                    </m:sSup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7" name="Text Box 10"/>
          <p:cNvSpPr/>
          <p:nvPr/>
        </p:nvSpPr>
        <p:spPr>
          <a:xfrm>
            <a:off x="3557160" y="10717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1"/>
          <p:cNvSpPr/>
          <p:nvPr/>
        </p:nvSpPr>
        <p:spPr>
          <a:xfrm>
            <a:off x="4297320" y="134136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5287320" y="1071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5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9AA1-B9C1-4E54-9C0E-044EFE8CD1B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CE99C88A-41FC-4782-ADFE-E969B3549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Shifting dan Stretching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3"/>
              <p:cNvSpPr txBox="1"/>
              <p:nvPr/>
            </p:nvSpPr>
            <p:spPr>
              <a:xfrm>
                <a:off x="3841920" y="1978200"/>
                <a:ext cx="2376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3913200" y="3105000"/>
                <a:ext cx="20811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5"/>
              <p:cNvSpPr txBox="1"/>
              <p:nvPr/>
            </p:nvSpPr>
            <p:spPr>
              <a:xfrm>
                <a:off x="1177920" y="979560"/>
                <a:ext cx="2376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7" name="AutoShape 6"/>
          <p:cNvSpPr/>
          <p:nvPr/>
        </p:nvSpPr>
        <p:spPr>
          <a:xfrm>
            <a:off x="3913200" y="1268280"/>
            <a:ext cx="649440" cy="216000"/>
          </a:xfrm>
          <a:prstGeom prst="leftRightArrow">
            <a:avLst>
              <a:gd name="adj1" fmla="val 50000"/>
              <a:gd name="adj2" fmla="val 59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7"/>
              <p:cNvSpPr txBox="1"/>
              <p:nvPr/>
            </p:nvSpPr>
            <p:spPr>
              <a:xfrm>
                <a:off x="4995720" y="907920"/>
                <a:ext cx="17272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nary>
                          <m:naryPr>
                            <m:chr m:val="∏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8"/>
              <p:cNvSpPr txBox="1"/>
              <p:nvPr/>
            </p:nvSpPr>
            <p:spPr>
              <a:xfrm>
                <a:off x="1212840" y="1989000"/>
                <a:ext cx="154800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0"/>
              <p:cNvSpPr txBox="1"/>
              <p:nvPr/>
            </p:nvSpPr>
            <p:spPr>
              <a:xfrm>
                <a:off x="1320840" y="3046320"/>
                <a:ext cx="12700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12"/>
              <p:cNvSpPr txBox="1"/>
              <p:nvPr/>
            </p:nvSpPr>
            <p:spPr>
              <a:xfrm>
                <a:off x="1233360" y="4129200"/>
                <a:ext cx="1455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4" name="Text Box 13"/>
          <p:cNvSpPr/>
          <p:nvPr/>
        </p:nvSpPr>
        <p:spPr>
          <a:xfrm>
            <a:off x="2876400" y="21002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4"/>
          <p:cNvSpPr/>
          <p:nvPr/>
        </p:nvSpPr>
        <p:spPr>
          <a:xfrm>
            <a:off x="2876400" y="312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2947680" y="4205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7"/>
              <p:cNvSpPr txBox="1"/>
              <p:nvPr/>
            </p:nvSpPr>
            <p:spPr>
              <a:xfrm>
                <a:off x="3956040" y="4149720"/>
                <a:ext cx="2921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500"/>
                            </p:stCondLst>
                            <p:childTnLst>
                              <p:par>
                                <p:cTn id="14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5A2D-0E01-4375-80D0-C361D467D47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CCC836B5-48D2-4732-8D57-86363E96C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volusi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226080" y="843480"/>
            <a:ext cx="706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Konvolusi dari dua fungsi g(t) dan fungsi f(t) didefinisik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Object 4"/>
              <p:cNvSpPr txBox="1"/>
              <p:nvPr/>
            </p:nvSpPr>
            <p:spPr>
              <a:xfrm>
                <a:off x="468360" y="1341360"/>
                <a:ext cx="3024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Rectangle 5"/>
          <p:cNvSpPr/>
          <p:nvPr/>
        </p:nvSpPr>
        <p:spPr>
          <a:xfrm>
            <a:off x="2641680" y="3741480"/>
            <a:ext cx="25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6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7"/>
              <p:cNvSpPr txBox="1"/>
              <p:nvPr/>
            </p:nvSpPr>
            <p:spPr>
              <a:xfrm>
                <a:off x="468360" y="2133720"/>
                <a:ext cx="24480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8" name="Text Box 8"/>
          <p:cNvSpPr/>
          <p:nvPr/>
        </p:nvSpPr>
        <p:spPr>
          <a:xfrm>
            <a:off x="3202200" y="22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Object 10"/>
              <p:cNvSpPr txBox="1"/>
              <p:nvPr/>
            </p:nvSpPr>
            <p:spPr>
              <a:xfrm>
                <a:off x="3772080" y="2205000"/>
                <a:ext cx="209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1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Object 12"/>
              <p:cNvSpPr txBox="1"/>
              <p:nvPr/>
            </p:nvSpPr>
            <p:spPr>
              <a:xfrm>
                <a:off x="468360" y="3057480"/>
                <a:ext cx="2879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3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14"/>
              <p:cNvSpPr txBox="1"/>
              <p:nvPr/>
            </p:nvSpPr>
            <p:spPr>
              <a:xfrm>
                <a:off x="1403280" y="3860640"/>
                <a:ext cx="1440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5" name="Rectangle 15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16"/>
              <p:cNvSpPr txBox="1"/>
              <p:nvPr/>
            </p:nvSpPr>
            <p:spPr>
              <a:xfrm>
                <a:off x="1403280" y="4869000"/>
                <a:ext cx="15130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 </m:t>
                        </m:r>
                      </m:e>
                    </m:nary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7" name="Text Box 17"/>
          <p:cNvSpPr/>
          <p:nvPr/>
        </p:nvSpPr>
        <p:spPr>
          <a:xfrm>
            <a:off x="3976920" y="285264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768200" y="2878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20"/>
              <p:cNvSpPr txBox="1"/>
              <p:nvPr/>
            </p:nvSpPr>
            <p:spPr>
              <a:xfrm>
                <a:off x="5292720" y="2897280"/>
                <a:ext cx="1944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Rectangle 21"/>
          <p:cNvSpPr/>
          <p:nvPr/>
        </p:nvSpPr>
        <p:spPr>
          <a:xfrm>
            <a:off x="3997440" y="357120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0 &lt; t &lt;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5028480" y="3565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24"/>
              <p:cNvSpPr txBox="1"/>
              <p:nvPr/>
            </p:nvSpPr>
            <p:spPr>
              <a:xfrm>
                <a:off x="5416560" y="3192480"/>
                <a:ext cx="34052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5" name="Rectangle 25"/>
          <p:cNvSpPr/>
          <p:nvPr/>
        </p:nvSpPr>
        <p:spPr>
          <a:xfrm>
            <a:off x="3924360" y="4457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1 &lt; t &l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6"/>
          <p:cNvSpPr/>
          <p:nvPr/>
        </p:nvSpPr>
        <p:spPr>
          <a:xfrm>
            <a:off x="5076360" y="4417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28"/>
              <p:cNvSpPr txBox="1"/>
              <p:nvPr/>
            </p:nvSpPr>
            <p:spPr>
              <a:xfrm>
                <a:off x="5510160" y="4367160"/>
                <a:ext cx="23036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9" name="Rectangle 2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30"/>
              <p:cNvSpPr txBox="1"/>
              <p:nvPr/>
            </p:nvSpPr>
            <p:spPr>
              <a:xfrm>
                <a:off x="5651640" y="5084640"/>
                <a:ext cx="2520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1" name="Text Box 31"/>
          <p:cNvSpPr/>
          <p:nvPr/>
        </p:nvSpPr>
        <p:spPr>
          <a:xfrm>
            <a:off x="5076360" y="5149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2"/>
          <p:cNvSpPr/>
          <p:nvPr/>
        </p:nvSpPr>
        <p:spPr>
          <a:xfrm>
            <a:off x="3924360" y="514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inn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8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8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"/>
                            </p:stCondLst>
                            <p:childTnLst>
                              <p:par>
                                <p:cTn id="15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500"/>
                            </p:stCondLst>
                            <p:childTnLst>
                              <p:par>
                                <p:cTn id="15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16CD-16A5-4119-A335-00EE48C5C1D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7407B30E-44FE-4C65-A7E4-C84CFB8C2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volusi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46040" y="2565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itungan rinci dapat dilihat d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Ronald N Bracewell,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The Fourier Transform and its Application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, 3rd,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Gr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Hi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ok Co.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, Singapore, 2000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5"/>
              <p:cNvSpPr txBox="1"/>
              <p:nvPr/>
            </p:nvSpPr>
            <p:spPr>
              <a:xfrm>
                <a:off x="539640" y="1190520"/>
                <a:ext cx="34560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0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7"/>
              <p:cNvSpPr txBox="1"/>
              <p:nvPr/>
            </p:nvSpPr>
            <p:spPr>
              <a:xfrm>
                <a:off x="5076720" y="1468440"/>
                <a:ext cx="3313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2" name="Text Box 8"/>
          <p:cNvSpPr/>
          <p:nvPr/>
        </p:nvSpPr>
        <p:spPr>
          <a:xfrm>
            <a:off x="4283280" y="162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C4D2-3FF2-440A-9818-4C9E001410A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77418E2A-137E-4D64-9AF0-30C3F6708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Periodik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16000" y="227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f(t) dipandang periodik dengan peri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4.Gambarkan f(t) pada interval [ -6,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258920" y="1052640"/>
                <a:ext cx="3097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4" name="Group 25"/>
          <p:cNvGrpSpPr/>
          <p:nvPr/>
        </p:nvGrpSpPr>
        <p:grpSpPr>
          <a:xfrm>
            <a:off x="2268360" y="3573360"/>
            <a:ext cx="4319640" cy="2160360"/>
            <a:chOff x="2268360" y="3573360"/>
            <a:chExt cx="4319640" cy="2160360"/>
          </a:xfrm>
        </p:grpSpPr>
        <p:sp>
          <p:nvSpPr>
            <p:cNvPr id="85" name="Line 9"/>
            <p:cNvSpPr/>
            <p:nvPr/>
          </p:nvSpPr>
          <p:spPr>
            <a:xfrm>
              <a:off x="4356000" y="357336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0"/>
            <p:cNvSpPr/>
            <p:nvPr/>
          </p:nvSpPr>
          <p:spPr>
            <a:xfrm>
              <a:off x="2268360" y="4725720"/>
              <a:ext cx="43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 flipV="1">
              <a:off x="4356000" y="4005000"/>
              <a:ext cx="57600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 flipH="1" flipV="1">
              <a:off x="3707640" y="4004640"/>
              <a:ext cx="646200" cy="72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5"/>
            <p:cNvSpPr/>
            <p:nvPr/>
          </p:nvSpPr>
          <p:spPr>
            <a:xfrm>
              <a:off x="4932000" y="400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6"/>
            <p:cNvSpPr/>
            <p:nvPr/>
          </p:nvSpPr>
          <p:spPr>
            <a:xfrm>
              <a:off x="3708000" y="400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7"/>
            <p:cNvSpPr/>
            <p:nvPr/>
          </p:nvSpPr>
          <p:spPr>
            <a:xfrm>
              <a:off x="4770360" y="4673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8"/>
            <p:cNvSpPr/>
            <p:nvPr/>
          </p:nvSpPr>
          <p:spPr>
            <a:xfrm>
              <a:off x="3494160" y="47448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19"/>
          <p:cNvSpPr/>
          <p:nvPr/>
        </p:nvSpPr>
        <p:spPr>
          <a:xfrm flipV="1">
            <a:off x="3132000" y="400536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 flipV="1">
            <a:off x="5580000" y="400536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 flipH="1" flipV="1">
            <a:off x="4933440" y="4005360"/>
            <a:ext cx="646200" cy="72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 flipH="1" flipV="1">
            <a:off x="2484000" y="4005360"/>
            <a:ext cx="646200" cy="72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>
            <a:off x="2484360" y="4005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6156360" y="4005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544212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6066000" y="46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970360" y="47131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21280" y="468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6754-BE19-4050-91F9-E2F8CA43E74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652F2591-93C7-4B54-8EFF-ECE16E2F6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volusi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isal diberikan pasangan transformas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 (t)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F(s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g (t)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G (s) 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h (t) =  (g * f) (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ifat aljabar dari konvolusi fungsi dan konvolusi transforma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 * g = g *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f * g ) * h = f * (g * 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 * ( g + h ) = ( f * g ) + ( f * 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 f  g ) * ( h k 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( F * G ) ( H * 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 f + g ) ( h + k 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( F + G ) * ( H + 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 ( g * h 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F * ( G H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Object 5"/>
              <p:cNvSpPr txBox="1"/>
              <p:nvPr/>
            </p:nvSpPr>
            <p:spPr>
              <a:xfrm>
                <a:off x="1619280" y="1989000"/>
                <a:ext cx="41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8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8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8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8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1000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1000"/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7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7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7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7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7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1000"/>
                                        <p:tgtEl>
                                          <p:spTgt spid="7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7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7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6CFC-6515-45E5-B9B9-BD03C5CFA04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B820DB5F-A27C-4F0A-8F79-7D59AE90C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nvolusi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unan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isal diberikan pasangan transformasi Fourier, f(t) </a:t>
            </a:r>
            <a:r>
              <a:rPr b="0" lang="id-ID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 F(s), maka transformasi dari turunan fungsi, f ‘ (t) adal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‘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t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s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t) </a:t>
            </a:r>
            <a:r>
              <a:rPr b="0" lang="id-ID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i s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Object 5"/>
              <p:cNvSpPr txBox="1"/>
              <p:nvPr/>
            </p:nvSpPr>
            <p:spPr>
              <a:xfrm>
                <a:off x="4788000" y="1197000"/>
                <a:ext cx="1800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s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7" name="Rectangle 6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7"/>
              <p:cNvSpPr txBox="1"/>
              <p:nvPr/>
            </p:nvSpPr>
            <p:spPr>
              <a:xfrm>
                <a:off x="539640" y="1125360"/>
                <a:ext cx="2519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Text Box 8"/>
          <p:cNvSpPr/>
          <p:nvPr/>
        </p:nvSpPr>
        <p:spPr>
          <a:xfrm>
            <a:off x="3727440" y="1316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10"/>
              <p:cNvSpPr txBox="1"/>
              <p:nvPr/>
            </p:nvSpPr>
            <p:spPr>
              <a:xfrm>
                <a:off x="468360" y="2238480"/>
                <a:ext cx="3186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Π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ainnya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2" name="Text Box 11"/>
          <p:cNvSpPr/>
          <p:nvPr/>
        </p:nvSpPr>
        <p:spPr>
          <a:xfrm>
            <a:off x="3727440" y="2395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13"/>
              <p:cNvSpPr txBox="1"/>
              <p:nvPr/>
            </p:nvSpPr>
            <p:spPr>
              <a:xfrm>
                <a:off x="6877080" y="2205000"/>
                <a:ext cx="1511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Rectangle 14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15"/>
              <p:cNvSpPr txBox="1"/>
              <p:nvPr/>
            </p:nvSpPr>
            <p:spPr>
              <a:xfrm>
                <a:off x="4643280" y="2349360"/>
                <a:ext cx="20894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EAFC-9DED-45A4-8ACD-BA728A6F612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D6A84C8-B560-47E4-A31A-362EC81CB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Delta Dirac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ungsi delta diract atau  fungsi impulse satuan, dinyatak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angan Transforma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5"/>
              <p:cNvSpPr txBox="1"/>
              <p:nvPr/>
            </p:nvSpPr>
            <p:spPr>
              <a:xfrm>
                <a:off x="1258920" y="1773360"/>
                <a:ext cx="2808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tuk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7"/>
              <p:cNvSpPr txBox="1"/>
              <p:nvPr/>
            </p:nvSpPr>
            <p:spPr>
              <a:xfrm>
                <a:off x="1332000" y="2249640"/>
                <a:ext cx="1511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9"/>
              <p:cNvSpPr txBox="1"/>
              <p:nvPr/>
            </p:nvSpPr>
            <p:spPr>
              <a:xfrm>
                <a:off x="1398600" y="3730680"/>
                <a:ext cx="2021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11"/>
              <p:cNvSpPr txBox="1"/>
              <p:nvPr/>
            </p:nvSpPr>
            <p:spPr>
              <a:xfrm>
                <a:off x="1332000" y="4303800"/>
                <a:ext cx="2647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0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560"/>
                            </p:stCondLst>
                            <p:childTnLst>
                              <p:par>
                                <p:cTn id="17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060"/>
                            </p:stCondLst>
                            <p:childTnLst>
                              <p:par>
                                <p:cTn id="17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Date Placeholder 4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8B37-457D-4A35-A5E0-D3577ACF074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oter Placeholder 5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EFFE6241-6EAF-40D4-9A05-844AA0637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tep Function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3"/>
              <p:cNvSpPr txBox="1"/>
              <p:nvPr/>
            </p:nvSpPr>
            <p:spPr>
              <a:xfrm>
                <a:off x="3348000" y="3503520"/>
                <a:ext cx="17287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468360" y="1052640"/>
                <a:ext cx="2448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t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Text Box 5"/>
          <p:cNvSpPr/>
          <p:nvPr/>
        </p:nvSpPr>
        <p:spPr>
          <a:xfrm>
            <a:off x="3183840" y="12891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7"/>
              <p:cNvSpPr txBox="1"/>
              <p:nvPr/>
            </p:nvSpPr>
            <p:spPr>
              <a:xfrm>
                <a:off x="3708360" y="1052640"/>
                <a:ext cx="15271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9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Object 9"/>
              <p:cNvSpPr txBox="1"/>
              <p:nvPr/>
            </p:nvSpPr>
            <p:spPr>
              <a:xfrm>
                <a:off x="5364000" y="1125360"/>
                <a:ext cx="100836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1" name="Rectangle 1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11"/>
              <p:cNvSpPr txBox="1"/>
              <p:nvPr/>
            </p:nvSpPr>
            <p:spPr>
              <a:xfrm>
                <a:off x="6516720" y="1106640"/>
                <a:ext cx="19764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Object 12"/>
              <p:cNvSpPr txBox="1"/>
              <p:nvPr/>
            </p:nvSpPr>
            <p:spPr>
              <a:xfrm>
                <a:off x="1547640" y="2319480"/>
                <a:ext cx="16606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4" name="Text Box 13"/>
          <p:cNvSpPr/>
          <p:nvPr/>
        </p:nvSpPr>
        <p:spPr>
          <a:xfrm>
            <a:off x="523080" y="2513160"/>
            <a:ext cx="790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AutoShape 14"/>
          <p:cNvCxnSpPr/>
          <p:nvPr/>
        </p:nvCxnSpPr>
        <p:spPr>
          <a:xfrm flipH="1" flipV="1" rot="10800000">
            <a:off x="467280" y="1494360"/>
            <a:ext cx="1910520" cy="824760"/>
          </a:xfrm>
          <a:prstGeom prst="bentConnector4">
            <a:avLst>
              <a:gd name="adj1" fmla="val -11967"/>
              <a:gd name="adj2" fmla="val 76855"/>
            </a:avLst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826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16"/>
              <p:cNvSpPr txBox="1"/>
              <p:nvPr/>
            </p:nvSpPr>
            <p:spPr>
              <a:xfrm>
                <a:off x="469800" y="3259080"/>
                <a:ext cx="2014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→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Rectangle 1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18"/>
              <p:cNvSpPr txBox="1"/>
              <p:nvPr/>
            </p:nvSpPr>
            <p:spPr>
              <a:xfrm>
                <a:off x="468360" y="4200480"/>
                <a:ext cx="21495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0" name="Text Box 19"/>
          <p:cNvSpPr/>
          <p:nvPr/>
        </p:nvSpPr>
        <p:spPr>
          <a:xfrm>
            <a:off x="3399840" y="2513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21"/>
              <p:cNvSpPr txBox="1"/>
              <p:nvPr/>
            </p:nvSpPr>
            <p:spPr>
              <a:xfrm>
                <a:off x="3995640" y="2276640"/>
                <a:ext cx="1871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3" name="Text Box 22"/>
          <p:cNvSpPr/>
          <p:nvPr/>
        </p:nvSpPr>
        <p:spPr>
          <a:xfrm>
            <a:off x="5387400" y="3638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Object 23"/>
              <p:cNvSpPr txBox="1"/>
              <p:nvPr/>
            </p:nvSpPr>
            <p:spPr>
              <a:xfrm>
                <a:off x="6012000" y="3429000"/>
                <a:ext cx="1873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5" name="Text Box 24"/>
          <p:cNvSpPr/>
          <p:nvPr/>
        </p:nvSpPr>
        <p:spPr>
          <a:xfrm>
            <a:off x="3400920" y="4673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5"/>
          <p:cNvSpPr/>
          <p:nvPr/>
        </p:nvSpPr>
        <p:spPr>
          <a:xfrm>
            <a:off x="4500000" y="471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Object 27"/>
              <p:cNvSpPr txBox="1"/>
              <p:nvPr/>
            </p:nvSpPr>
            <p:spPr>
              <a:xfrm>
                <a:off x="4962600" y="4653000"/>
                <a:ext cx="17701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fill="hold">
                      <p:stCondLst>
                        <p:cond delay="0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500"/>
                            </p:stCondLst>
                            <p:childTnLst>
                              <p:par>
                                <p:cTn id="17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00"/>
                            </p:stCondLst>
                            <p:childTnLst>
                              <p:par>
                                <p:cTn id="18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500"/>
                            </p:stCondLst>
                            <p:childTnLst>
                              <p:par>
                                <p:cTn id="18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3767-E189-4EEE-B203-6B716F53AF2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4D2E55CC-7688-4663-9236-2878EFE39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7272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hat soal Latihan 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ang Mursita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matika Lanjut Untuk Perguruan Tingg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kayasa Sains, Bandung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E353-ECDC-490F-A023-7292F89074C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79B1DD9C-8229-49BF-B252-BDA0D8110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kah fungsi berikut periodik ? Bila ya, tentukan periodeny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 +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)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2 t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t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(t +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/3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cot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 -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22280" indent="-53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f(t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2 t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4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Gambarkan grafik dari fungsi berikut yang dipandang periodik dengan periode diketah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1387440" y="4238640"/>
                <a:ext cx="4264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1403280" y="5102280"/>
                <a:ext cx="53308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D3B8-0406-40CC-AD67-02147D95BE70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7044CB0-8E93-403A-83A7-F1F3993E6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Kontinu Bagian demi Bagi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5640" y="1052280"/>
            <a:ext cx="720108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99"/>
                </a:solidFill>
                <a:latin typeface="Arial"/>
              </a:rPr>
              <a:t>Fungsi f(t) disebut </a:t>
            </a:r>
            <a:r>
              <a:rPr b="1" lang="id-ID" sz="2400" spc="-1" strike="noStrike">
                <a:solidFill>
                  <a:srgbClr val="ff3300"/>
                </a:solidFill>
                <a:latin typeface="Arial"/>
              </a:rPr>
              <a:t>fungsi kontinu bagian demi bagian</a:t>
            </a:r>
            <a:r>
              <a:rPr b="0" lang="id-ID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99"/>
                </a:solidFill>
                <a:latin typeface="Arial"/>
              </a:rPr>
              <a:t>pada interval [a,b] bila dipenuh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99"/>
                </a:solidFill>
                <a:latin typeface="Arial"/>
              </a:rPr>
              <a:t>Interval [ a,b ] dapat dibagi menjadi sebanyak hingga sub interval sehingga f(t) kontinu pada sub interval terseb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99"/>
                </a:solidFill>
                <a:latin typeface="Arial"/>
              </a:rPr>
              <a:t>Limit dari f(t) pada setiap ujung dari sub interval adalah berhing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7"/>
          <p:cNvGrpSpPr/>
          <p:nvPr/>
        </p:nvGrpSpPr>
        <p:grpSpPr>
          <a:xfrm>
            <a:off x="2413080" y="4005000"/>
            <a:ext cx="3311280" cy="1871640"/>
            <a:chOff x="2413080" y="4005000"/>
            <a:chExt cx="3311280" cy="1871640"/>
          </a:xfrm>
        </p:grpSpPr>
        <p:sp>
          <p:nvSpPr>
            <p:cNvPr id="120" name="Line 28"/>
            <p:cNvSpPr/>
            <p:nvPr/>
          </p:nvSpPr>
          <p:spPr>
            <a:xfrm flipV="1">
              <a:off x="3852720" y="400500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9"/>
            <p:cNvSpPr/>
            <p:nvPr/>
          </p:nvSpPr>
          <p:spPr>
            <a:xfrm>
              <a:off x="2413080" y="5084640"/>
              <a:ext cx="33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3132000" y="4773600"/>
              <a:ext cx="936720" cy="7430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1"/>
            <p:cNvSpPr/>
            <p:nvPr/>
          </p:nvSpPr>
          <p:spPr>
            <a:xfrm>
              <a:off x="4068720" y="4076640"/>
              <a:ext cx="1224000" cy="5047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>
              <a:off x="4068720" y="4581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3"/>
            <p:cNvSpPr/>
            <p:nvPr/>
          </p:nvSpPr>
          <p:spPr>
            <a:xfrm>
              <a:off x="5292720" y="407808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4"/>
            <p:cNvSpPr/>
            <p:nvPr/>
          </p:nvSpPr>
          <p:spPr>
            <a:xfrm>
              <a:off x="3132000" y="5084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5"/>
            <p:cNvSpPr/>
            <p:nvPr/>
          </p:nvSpPr>
          <p:spPr>
            <a:xfrm>
              <a:off x="2991240" y="4744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6"/>
            <p:cNvSpPr/>
            <p:nvPr/>
          </p:nvSpPr>
          <p:spPr>
            <a:xfrm>
              <a:off x="5151600" y="510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7"/>
            <p:cNvSpPr/>
            <p:nvPr/>
          </p:nvSpPr>
          <p:spPr>
            <a:xfrm>
              <a:off x="3946320" y="508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951B-7FF1-42E7-8DA1-E8AB5BDF156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2EDB99E-3793-49CE-B332-6785C524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f(t) didefinisikan pada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L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iodik dengan periode 2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kontinu bagian demi bagian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eret Fourier dari f(t) didefinisik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882720" y="2558880"/>
                <a:ext cx="512928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336680" y="3373560"/>
                <a:ext cx="1506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1257480" y="4300560"/>
                <a:ext cx="2163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1278000" y="5138640"/>
                <a:ext cx="21938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L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</m:t>
                            </m:r>
                            <m:r>
                              <m:t xml:space="preserve">n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1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7"/>
              <p:cNvSpPr txBox="1"/>
              <p:nvPr/>
            </p:nvSpPr>
            <p:spPr>
              <a:xfrm>
                <a:off x="4067280" y="3487680"/>
                <a:ext cx="2665440" cy="24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oefisien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urier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ari</m:t>
                              </m:r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plit dir="in" orient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6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3804-0508-4159-B71A-05E029CE39E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7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FE4DFB4E-F221-4DA8-8870-312EB11B8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6"/>
              <p:cNvSpPr txBox="1"/>
              <p:nvPr/>
            </p:nvSpPr>
            <p:spPr>
              <a:xfrm>
                <a:off x="3778200" y="2133720"/>
                <a:ext cx="649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6"/>
              <p:cNvSpPr txBox="1"/>
              <p:nvPr/>
            </p:nvSpPr>
            <p:spPr>
              <a:xfrm>
                <a:off x="2340000" y="3068640"/>
                <a:ext cx="136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8"/>
              <p:cNvSpPr txBox="1"/>
              <p:nvPr/>
            </p:nvSpPr>
            <p:spPr>
              <a:xfrm>
                <a:off x="3759120" y="3068640"/>
                <a:ext cx="117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π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n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Rectangle 5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606600" y="1093680"/>
                <a:ext cx="252540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0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</m:t>
                              </m:r>
                              <m:r>
                                <m:t xml:space="preserve">t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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418560" y="126756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 t +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(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037480" y="126756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t) periodik dengan p =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2"/>
              <p:cNvSpPr txBox="1"/>
              <p:nvPr/>
            </p:nvSpPr>
            <p:spPr>
              <a:xfrm>
                <a:off x="539640" y="2054160"/>
                <a:ext cx="15112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2124000" y="2060640"/>
                <a:ext cx="1582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 Box 18"/>
          <p:cNvSpPr/>
          <p:nvPr/>
        </p:nvSpPr>
        <p:spPr>
          <a:xfrm>
            <a:off x="4500720" y="2311560"/>
            <a:ext cx="6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9"/>
              <p:cNvSpPr txBox="1"/>
              <p:nvPr/>
            </p:nvSpPr>
            <p:spPr>
              <a:xfrm>
                <a:off x="611280" y="2922480"/>
                <a:ext cx="1728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0"/>
              <p:cNvSpPr txBox="1"/>
              <p:nvPr/>
            </p:nvSpPr>
            <p:spPr>
              <a:xfrm>
                <a:off x="611280" y="3884760"/>
                <a:ext cx="20160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3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2"/>
              <p:cNvSpPr txBox="1"/>
              <p:nvPr/>
            </p:nvSpPr>
            <p:spPr>
              <a:xfrm>
                <a:off x="2627280" y="4076640"/>
                <a:ext cx="1295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π</m:t>
                          </m:r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3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4"/>
              <p:cNvSpPr txBox="1"/>
              <p:nvPr/>
            </p:nvSpPr>
            <p:spPr>
              <a:xfrm>
                <a:off x="3943440" y="4159080"/>
                <a:ext cx="1473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nπ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2" name=""/>
          <p:cNvGraphicFramePr/>
          <p:nvPr/>
        </p:nvGraphicFramePr>
        <p:xfrm>
          <a:off x="5580000" y="2349360"/>
          <a:ext cx="3106800" cy="3108600"/>
        </p:xfrm>
        <a:graphic>
          <a:graphicData uri="http://schemas.openxmlformats.org/drawingml/2006/table">
            <a:tbl>
              <a:tblPr/>
              <a:tblGrid>
                <a:gridCol w="1035000"/>
                <a:gridCol w="1036800"/>
                <a:gridCol w="10350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71"/>
          <p:cNvSpPr/>
          <p:nvPr/>
        </p:nvSpPr>
        <p:spPr>
          <a:xfrm>
            <a:off x="663480" y="510372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ret Fourier dari f(t)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20"/>
                            </p:stCondLst>
                            <p:childTnLst>
                              <p:par>
                                <p:cTn id="2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539640" y="6265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1FF5-5AE9-4D83-8B8F-AE42EAA5F56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Arial"/>
              </a:rPr>
              <a:t>Matematika Rekayasa 2 (FT 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I / </a:t>
            </a:r>
            <a:fld id="{877B68FB-64B0-4720-8029-05F2BF29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Koefisien Fourier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539640" y="1052640"/>
                <a:ext cx="2160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0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</m:t>
                              </m:r>
                              <m:r>
                                <m:t xml:space="preserve">t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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</m:t>
                              </m:r>
                              <m:r>
                                <m:t xml:space="preserve">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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Rectangle 6"/>
          <p:cNvSpPr/>
          <p:nvPr/>
        </p:nvSpPr>
        <p:spPr>
          <a:xfrm>
            <a:off x="3058200" y="11246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 t +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d-ID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f(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12640" y="181944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t Fourier dari f(t) dituliskan beriku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611280" y="2395440"/>
                <a:ext cx="4321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3" name="Text Box 11"/>
          <p:cNvSpPr/>
          <p:nvPr/>
        </p:nvSpPr>
        <p:spPr>
          <a:xfrm>
            <a:off x="5270760" y="248436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gan L = </a:t>
            </a:r>
            <a:r>
              <a:rPr b="0" lang="id-ID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8"/>
          <p:cNvGrpSpPr/>
          <p:nvPr/>
        </p:nvGrpSpPr>
        <p:grpSpPr>
          <a:xfrm>
            <a:off x="6594480" y="2997360"/>
            <a:ext cx="1793880" cy="1950480"/>
            <a:chOff x="6594480" y="2997360"/>
            <a:chExt cx="1793880" cy="1950480"/>
          </a:xfrm>
        </p:grpSpPr>
        <p:sp>
          <p:nvSpPr>
            <p:cNvPr id="187" name="Text Box 13"/>
            <p:cNvSpPr/>
            <p:nvPr/>
          </p:nvSpPr>
          <p:spPr>
            <a:xfrm>
              <a:off x="6594480" y="2997360"/>
              <a:ext cx="896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14"/>
                <p:cNvSpPr txBox="1"/>
                <p:nvPr/>
              </p:nvSpPr>
              <p:spPr>
                <a:xfrm>
                  <a:off x="6659640" y="3435120"/>
                  <a:ext cx="1439640" cy="72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π</m:t>
                              </m:r>
                              <m:r>
                                <m:t xml:space="preserve">2</m:t>
                              </m:r>
                            </m:e>
                          </m:d>
                        </m:num>
                        <m:den>
                          <m:r>
                            <m:t xml:space="preserve">nπ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Object 16"/>
                <p:cNvSpPr txBox="1"/>
                <p:nvPr/>
              </p:nvSpPr>
              <p:spPr>
                <a:xfrm>
                  <a:off x="6730920" y="4275000"/>
                  <a:ext cx="165744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π</m:t>
                              </m:r>
                              <m:r>
                                <m:t xml:space="preserve">2</m:t>
                              </m:r>
                            </m:e>
                          </m:d>
                        </m:num>
                        <m:den>
                          <m:r>
                            <m:t xml:space="preserve">nπ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Rectangle 2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20"/>
                            </p:stCondLst>
                            <p:childTnLst>
                              <p:par>
                                <p:cTn id="3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5-07T03:04:39Z</dcterms:modified>
  <cp:revision>99</cp:revision>
  <dc:subject/>
  <dc:title>Slide 1</dc:title>
</cp:coreProperties>
</file>