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gif" ContentType="image/gif"/>
  <Override PartName="/ppt/media/image13.png" ContentType="image/png"/>
  <Override PartName="/ppt/media/image5.png" ContentType="image/png"/>
  <Override PartName="/ppt/media/image10.png" ContentType="image/png"/>
  <Override PartName="/ppt/media/Brouwer,%20Gebroeders%20-%20Il%20Silenzio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0E89-5DA4-4166-A211-E231FDA9A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0331-9EB3-4544-8DC0-ACFE4C398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B620-475F-4542-8D72-480120A45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27C2-D840-479F-8ED7-E17676F71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4CA1-2BB6-49B6-BD62-B5B96386F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D96F-801B-4A06-A310-9D641BF43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8335-537A-49B2-8FDE-11EE8F21D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D9C1-795A-4A7F-88A8-5DCCDE089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2967-039D-43B4-B90F-607CC6E57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FA15-4372-4AE4-8A40-494808E2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DEAB-3D63-422E-B1CE-C2F187E4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93D7-5CC7-429C-B728-80D844D8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8A063-7AF3-4AAD-B3A3-AF5E05ECF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ouwer,%20Gebroeders%20-%20Il%20Silenzio.wav"/><Relationship Id="rId3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47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132000" y="6426360"/>
            <a:ext cx="3024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De rugzak</a:t>
            </a:r>
            <a:endParaRPr b="1" lang="en-US" sz="2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nl-BE" sz="3200" spc="-1" strike="noStrike">
                <a:solidFill>
                  <a:srgbClr val="000000"/>
                </a:solidFill>
                <a:latin typeface="Black Chancery"/>
              </a:rPr>
              <a:t>Maar er is nog veel van waarde,</a:t>
            </a:r>
            <a:br>
              <a:rPr sz="3200"/>
            </a:br>
            <a:r>
              <a:rPr b="0" lang="nl-BE" sz="3200" spc="-1" strike="noStrike">
                <a:solidFill>
                  <a:srgbClr val="000000"/>
                </a:solidFill>
                <a:latin typeface="Black Chancery"/>
              </a:rPr>
              <a:t>wat men koestert, graag behou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3428640"/>
            <a:ext cx="313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Black Chancery"/>
              </a:rPr>
              <a:t>Al schijnen het soms kleinigheden,</a:t>
            </a:r>
            <a:br>
              <a:rPr sz="3200"/>
            </a:br>
            <a:r>
              <a:rPr b="0" lang="nl-BE" sz="3200" spc="-1" strike="noStrike">
                <a:solidFill>
                  <a:srgbClr val="000000"/>
                </a:solidFill>
                <a:latin typeface="Black Chancery"/>
              </a:rPr>
              <a:t>het zijn herinneringen, meer dan g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nl-BE" sz="3200" spc="-1" strike="noStrike">
                <a:solidFill>
                  <a:srgbClr val="000000"/>
                </a:solidFill>
                <a:latin typeface="Black Chancery"/>
              </a:rPr>
              <a:t>Ieder draagt zijn eigen rugzak,</a:t>
            </a:r>
            <a:br>
              <a:rPr sz="3200"/>
            </a:br>
            <a:r>
              <a:rPr b="0" lang="nl-BE" sz="3200" spc="-1" strike="noStrike">
                <a:solidFill>
                  <a:srgbClr val="000000"/>
                </a:solidFill>
                <a:latin typeface="Black Chancery"/>
              </a:rPr>
              <a:t>niemand die hem overneem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Black Chancery"/>
              </a:rPr>
              <a:t>en men hoeft niet te vrezen,</a:t>
            </a:r>
            <a:br>
              <a:rPr sz="3200"/>
            </a:br>
            <a:r>
              <a:rPr b="0" lang="nl-BE" sz="3200" spc="-1" strike="noStrike">
                <a:solidFill>
                  <a:srgbClr val="000000"/>
                </a:solidFill>
                <a:latin typeface="Black Chancery"/>
              </a:rPr>
              <a:t>dat een dief hem ontvreem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780000" y="6093000"/>
            <a:ext cx="2016000" cy="49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Speed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195640" y="5445000"/>
            <a:ext cx="538776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8600"/>
                            </p:stCondLst>
                            <p:childTnLst>
                              <p:par>
                                <p:cTn id="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9600"/>
                            </p:stCondLst>
                            <p:childTnLst>
                              <p:par>
                                <p:cTn id="104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5" dur="500" fill="hold"/>
                                        <p:tgtEl>
                                          <p:spTgt spid="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96000" y="-360"/>
            <a:ext cx="3348000" cy="31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Black Chancery"/>
              </a:rPr>
              <a:t>Ieder mens draagt in zijn leven</a:t>
            </a:r>
            <a:br>
              <a:rPr sz="3200"/>
            </a:br>
            <a:r>
              <a:rPr b="0" lang="nl-BE" sz="3200" spc="-1" strike="noStrike">
                <a:solidFill>
                  <a:srgbClr val="000000"/>
                </a:solidFill>
                <a:latin typeface="Black Chancery"/>
              </a:rPr>
              <a:t>een onzichtbare rugzak m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157360"/>
            <a:ext cx="58435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Black Chancery"/>
              </a:rPr>
              <a:t>bergt daarin zijn vreugde en zorgen,</a:t>
            </a:r>
            <a:br>
              <a:rPr sz="3200"/>
            </a:br>
            <a:r>
              <a:rPr b="0" lang="nl-BE" sz="3200" spc="-1" strike="noStrike">
                <a:solidFill>
                  <a:srgbClr val="000000"/>
                </a:solidFill>
                <a:latin typeface="Black Chancery"/>
              </a:rPr>
              <a:t>verzameling van wel en w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51664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Black Chancery"/>
              </a:rPr>
              <a:t>Soms is de rugzak zwaar van stenen,</a:t>
            </a:r>
            <a:br>
              <a:rPr sz="3200"/>
            </a:br>
            <a:r>
              <a:rPr b="0" lang="nl-BE" sz="3200" spc="-1" strike="noStrike">
                <a:solidFill>
                  <a:srgbClr val="000000"/>
                </a:solidFill>
                <a:latin typeface="Black Chancery"/>
              </a:rPr>
              <a:t>dan weer vederlich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32720" y="-360"/>
            <a:ext cx="2411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nl-BE" sz="3200" spc="-1" strike="noStrike">
                <a:solidFill>
                  <a:srgbClr val="000000"/>
                </a:solidFill>
                <a:latin typeface="Black Chancery"/>
              </a:rPr>
              <a:t>blijft er nog wat ruimte over,</a:t>
            </a:r>
            <a:br>
              <a:rPr sz="3200"/>
            </a:br>
            <a:r>
              <a:rPr b="0" lang="nl-BE" sz="3200" spc="-1" strike="noStrike">
                <a:solidFill>
                  <a:srgbClr val="000000"/>
                </a:solidFill>
                <a:latin typeface="Black Chancery"/>
              </a:rPr>
              <a:t>maar dikwijls kan hij niet meer d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912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56000" y="0"/>
            <a:ext cx="2987640" cy="30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Black Chancery"/>
              </a:rPr>
              <a:t>Kijk je in een verloren uurtje</a:t>
            </a:r>
            <a:br>
              <a:rPr sz="3200"/>
            </a:br>
            <a:r>
              <a:rPr b="0" lang="nl-BE" sz="3200" spc="-1" strike="noStrike">
                <a:solidFill>
                  <a:srgbClr val="000000"/>
                </a:solidFill>
                <a:latin typeface="Black Chancery"/>
              </a:rPr>
              <a:t>heel de inhoud nog eens d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16720" y="0"/>
            <a:ext cx="2627280" cy="29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nl-BE" sz="3200" spc="-1" strike="noStrike">
                <a:solidFill>
                  <a:srgbClr val="000000"/>
                </a:solidFill>
                <a:latin typeface="Black Chancery"/>
              </a:rPr>
              <a:t>kan er meestal iets verdwijnen,</a:t>
            </a:r>
            <a:br>
              <a:rPr sz="3200"/>
            </a:br>
            <a:r>
              <a:rPr b="0" lang="nl-BE" sz="3200" spc="-1" strike="noStrike">
                <a:solidFill>
                  <a:srgbClr val="000000"/>
                </a:solidFill>
                <a:latin typeface="Black Chancery"/>
              </a:rPr>
              <a:t>wat zijn waarde reeds verl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73360"/>
            <a:ext cx="8229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Bradley Hand ITC"/>
              </a:rPr>
              <a:t>Langzaam wordt de rugzak leger</a:t>
            </a:r>
            <a:br>
              <a:rPr sz="3200"/>
            </a:br>
            <a:r>
              <a:rPr b="1" lang="nl-BE" sz="3200" spc="-1" strike="noStrike">
                <a:solidFill>
                  <a:srgbClr val="000000"/>
                </a:solidFill>
                <a:latin typeface="Bradley Hand ITC"/>
              </a:rPr>
              <a:t>‘s levensmiddag gaat voorbi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0" r="0" b="275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5880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nl-BE" sz="3200" spc="-1" strike="noStrike">
                <a:solidFill>
                  <a:srgbClr val="000000"/>
                </a:solidFill>
                <a:latin typeface="Black Chancery"/>
              </a:rPr>
              <a:t>en bij het naderen van de avond,</a:t>
            </a:r>
            <a:br>
              <a:rPr sz="3200"/>
            </a:br>
            <a:r>
              <a:rPr b="0" lang="nl-BE" sz="3200" spc="-1" strike="noStrike">
                <a:solidFill>
                  <a:srgbClr val="000000"/>
                </a:solidFill>
                <a:latin typeface="Black Chancery"/>
              </a:rPr>
              <a:t>werpt men een deel der last opzi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2T10:21:27Z</dcterms:created>
  <dc:creator>poes</dc:creator>
  <dc:description/>
  <dc:language>en-US</dc:language>
  <cp:lastModifiedBy>Smets</cp:lastModifiedBy>
  <dcterms:modified xsi:type="dcterms:W3CDTF">2008-11-04T17:50:26Z</dcterms:modified>
  <cp:revision>9</cp:revision>
  <dc:subject/>
  <dc:title>Dia 1</dc:title>
</cp:coreProperties>
</file>