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E63-6B9D-44ED-8B59-49592254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075-D144-4D34-B8C4-CAAC3254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848-2F1B-4BFF-B30A-011081B6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CD4-D2C6-4915-BC1D-A7E01C31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781-F6DC-4D04-B9A1-748F98A2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E81-2B6E-4708-B188-C1055C61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9BE-B02B-4845-9D86-FF231F7E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D35-40F5-4111-BD0A-3F2D0FA0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B5A-1231-48D4-B95D-E4758DEE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B14-6779-4B9A-A2FA-034E1A0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72F-1DDB-49C7-BC23-0512CF3D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13D-DFCB-4608-9520-76591735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3309B-3FD1-4AC7-8939-F61B5ADA8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11DFE-5ABB-4BB6-B6D1-700135533C2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8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9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8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9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1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8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9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8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9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3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18" descr=""/>
            <p:cNvPicPr/>
            <p:nvPr/>
          </p:nvPicPr>
          <p:blipFill>
            <a:blip r:embed="rId4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9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20" descr=""/>
          <p:cNvPicPr/>
          <p:nvPr/>
        </p:nvPicPr>
        <p:blipFill>
          <a:blip r:embed="rId5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5:09:29Z</dcterms:created>
  <dc:creator>최봉수</dc:creator>
  <dc:description/>
  <dc:language>en-US</dc:language>
  <cp:lastModifiedBy>군만두 맛있다</cp:lastModifiedBy>
  <dcterms:modified xsi:type="dcterms:W3CDTF">2023-07-01T03:28:08Z</dcterms:modified>
  <cp:revision>6</cp:revision>
  <dc:subject/>
  <dc:title>슬라이드 1</dc:title>
</cp:coreProperties>
</file>