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DAD1-0E19-45FB-BBFA-00AB295C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2424-AE1D-4698-A8CB-DE64049E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F5ED-0176-41F1-A2FC-A38E83F8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0280-8CAC-4AB9-B948-CEB6CD8B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3581-A741-4890-85A9-360B89EB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3666-741F-4C75-8E2F-5C73BD00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259F-1177-4D2F-8CF5-DF6BAE4C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D86B-B12B-434C-BC23-4FDD4758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12F5-1D92-4106-84FE-8058EEAC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3DA0-2900-4EA5-857A-426C68E4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E6ED-202D-4CA1-9392-F8C07AB3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681E-55B7-4316-89DC-65E1BC71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53DD6-137A-462C-9F3E-1B5C909FF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410CD-FE62-4694-A4CB-CFCF3EA35507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7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8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9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7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8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9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1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7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8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9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7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8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9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6" descr=""/>
            <p:cNvPicPr/>
            <p:nvPr/>
          </p:nvPicPr>
          <p:blipFill>
            <a:blip r:embed="rId1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9" descr=""/>
            <p:cNvPicPr/>
            <p:nvPr/>
          </p:nvPicPr>
          <p:blipFill>
            <a:blip r:embed="rId2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0" name="Picture 12" descr=""/>
            <p:cNvPicPr/>
            <p:nvPr/>
          </p:nvPicPr>
          <p:blipFill>
            <a:blip r:embed="rId3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17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3" name="Picture 18" descr=""/>
            <p:cNvPicPr/>
            <p:nvPr/>
          </p:nvPicPr>
          <p:blipFill>
            <a:blip r:embed="rId4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9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5" name="Picture 20" descr=""/>
          <p:cNvPicPr/>
          <p:nvPr/>
        </p:nvPicPr>
        <p:blipFill>
          <a:blip r:embed="rId5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5:09:29Z</dcterms:created>
  <dc:creator>최봉수</dc:creator>
  <dc:description/>
  <dc:language>en-US</dc:language>
  <cp:lastModifiedBy>군만두 맛있다</cp:lastModifiedBy>
  <dcterms:modified xsi:type="dcterms:W3CDTF">2023-07-01T03:28:08Z</dcterms:modified>
  <cp:revision>6</cp:revision>
  <dc:subject/>
  <dc:title>슬라이드 1</dc:title>
</cp:coreProperties>
</file>