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1B96-54DA-49A1-AB1D-898FAB4B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331D-4D87-4C4B-BABF-43C0EE4B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3E4C-5861-49F6-AE1D-6DB21DD64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7AEF-3666-4E65-8340-41BD6525D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9177-3862-49D6-BF95-C5BBDEA84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D4BF-DA97-4618-9737-6E4E0A18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1DAD-0623-4E98-95FA-7664011D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5559-9575-44E8-AADC-B47397AF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9C76-A31B-494F-ACA1-03F26230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1E59-BABA-43EA-8F9F-87D04C20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57EF-81A7-4C89-A269-6814AFED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BB89-7769-4FAF-BFEB-3C828C4F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F25B-995B-42AE-8637-CFFD8B3B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84D0-77D5-4683-A7CD-EBF111CE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F764-4934-406B-BF4B-F3A3D29C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2DA1-6A47-45CB-ACF7-982D43150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CE32-373B-47B9-8F96-891343EED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4203-021F-426F-9221-3808B9F0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1354-C99C-4447-9E37-6A273E1D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8DA8-3183-47AA-937B-31B7F4B3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2FDB-5997-4CFD-B17B-E96F0FA5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AB85-42B2-49B1-9D50-0CF45565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8AA7-9F9F-418A-AE1E-8AACE1F7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BB65-CAC8-47FB-A9F8-C6515B73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9083-16CE-420F-B4F2-588E019ACD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2B79-72FB-467C-85A5-4B6156CEBE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29718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URO MUSCULAR BLOKAD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LMIAH SAIDO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CN 2/2008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    Pavulon ( Pancuronium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on – anticholinesterase agents will reverse eff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mittent dosing 0.1 – 0.2 mg / kg every 1 to 3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ous infusion : loading dose 0.04 0.1 mg / kg followed by  1 -  1.7 mcg / kg/min or 0.06 to 0.1 mg /kg / 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to 3 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 to 90 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 Production of skeletal muscle paralysis  and facilitation of intubation after induction of anesthe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Used during mechanical ventilation to increase pulmonary compli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in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ersensitivity in pancuron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de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mild tarchycar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wheezing, apn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muscle weak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llergic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ucuron  ( Vecuronium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on : prevent neuromuscular transmission by blocking the effect of acetylcholine at the myoneural j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no histamine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mittent do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v bolus – initially 0.08 to 0.1 mg / k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. infusion  iv bolus 0.08 to 0.3 mg / k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to 3 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 to 40 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 Production of skeletal muscle paralysed and facilitate intubation of anesthesia in surgical proced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 used during mechanical venti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in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ersensitivity to vecuronium or brom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de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pn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muscle weak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lergic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meron  ( Rocuronium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ompeting with acethycholine for receptors at the motor end plate must be accompanied by adequate anesthesia or sedation as the drug has no effect on conscious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v  0.6 to 1. 2 mg / k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to 3 m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 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s adjunct to GA to facilitate ETT  intub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elaxation of skeletal muscle during mechanical venti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in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ersensitivity to rocuron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de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rrhytm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tarchycar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prur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wheezing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RSING RESPONSI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g must be perform by trained perso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supplies and equipment on stand by to maintain airway and provide mechanical venti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ing of vital sign, serum electroly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 patient that paralysed is temporary 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 and avoid pressure ulser and nerve compression  syndrome by proper nur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UROMUSCULAR BLOKA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drug can cause paralysed at the skeletal mus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Facilitate of mechanical venti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Facilitate of intubation and long proced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To facilitate cerebral resuscitation measures to ensure physiological control of  ICP  (patient with raised intracranial press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To decrease metabolic rate in patient of high metabolic demand, ex. Hypertherm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8088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18288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2 type of Neuromuscular blok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Depolari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Non - Depolari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olari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ccinylcholine (Scoli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on – short acting, prevent the muscle from contracting reduce response to acetylcho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- paralysed of levator muscle of eye-lid, mastication muscles, limb, abdominal and diaphrag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ult 0.6 mg / kg over 10-30 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 to 60 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to 6 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nct to GA to facilitate ETT intubation and to induce relaxation of skeletal muscle during mechanical ventilation and surge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aind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Myasthenia gravis – blocking of acetylcholine cholinergic receptor aggravates the neuromuscular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Renal or hepatic disease which could interfere with the metabolism of this drug, leading to toxic eff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Acute narrow angle glau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de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Hypo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Arrhythm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Bronchospa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Hyperkalem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N – DEPOLARI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 Atracurium  ( Tracium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ion 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revent acetylcholine effect by competing for the cholinergic receptor at the motor end pl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histamine release leading to hypoten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iven undiluted by iv bol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ly 0.4 – 0.5 mg / kg iv bolus followed by 0.08 to 0.1 mg / kg every 20 to 45 min after initial d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5 – 5 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 – 45 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assist in ETT intub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as an adjunct to anesthe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to induce relaxation of skeletal muscle during surg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ain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asthenia grav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nchiol asth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ton Lambert Syndr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de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VS -  bradycardia,hypo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iratory – wheezing, increase bronchiol secre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n – flush, pruritis, urtic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7:20:15Z</dcterms:created>
  <dc:creator>user</dc:creator>
  <dc:description/>
  <dc:language>en-US</dc:language>
  <cp:lastModifiedBy>user</cp:lastModifiedBy>
  <dcterms:modified xsi:type="dcterms:W3CDTF">2004-06-30T20:31:20Z</dcterms:modified>
  <cp:revision>3</cp:revision>
  <dc:subject/>
  <dc:title>NEURO MUSCULAR BLOKADE  SALMIAH SAIDON ICN 2/2008  </dc:title>
</cp:coreProperties>
</file>