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731-56D5-4885-A7C5-42787E74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155-2E99-4EE9-93CA-8C64FF02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BF9-CD68-47A9-A138-3F91C7A1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DA9-CAA9-451A-AF11-B7DFC2EE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1178-4777-422F-B7F7-7FE17B98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862D-B1F0-4DAE-8630-364B9D21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A661-0464-465D-9AE8-FED31B82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7820-1EBE-4BBB-9C88-4E46C19A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866E-2F88-42A1-BCCE-A71ABE95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776A-F6DE-4D85-A127-4F7F3B4F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3495-4BE5-410A-9604-FBD2459D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209F-2506-4364-B7C2-B9CD0964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3630-106D-43C6-A3E1-AD34D158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ED4B-7EFE-4CB9-9D8D-C8A19391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AB1B-B1AC-4586-B6E2-BEF286B2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99F8-30ED-40AA-8F1D-52C92C95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1C2F-A2BC-4DDE-A978-D01ACF34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70C-E2B7-49D9-9D8D-8652B56B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9896-E385-4E13-9BCA-6656F547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6A3-CD7F-40A1-A3AB-C51CD250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1651-A322-4207-95A4-CCB86A46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32A-0C9A-4157-B0C2-0993B249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FAA-1B17-4796-88CA-C2CEFB31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420F-C63E-4B3D-BCA0-188FB29E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8D19-8D1E-46FF-A015-E0A257E469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8C49-FEB2-46D1-A8EE-FD821074F8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29718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URO MUSCULAR BLOKAD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MIAH SAID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CN 2/2008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   Pavulon ( Pancuronium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on – anticholinesterase agents will reverse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mittent dosing 0.1 – 0.2 mg / kg every 1 to 3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ous infusion : loading dose 0.04 0.1 mg / kg followed by  1 -  1.7 mcg / kg/min or 0.06 to 0.1 mg /kg / 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to 3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 to 90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 Production of skeletal muscle paralysis  and facilitation of intubation after induction of anesth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Used during mechanical ventilation to increase pulmonary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in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sensitivity in pancuron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ild tarchycar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wheezing, apn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uscle wea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llergic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ucuron  ( Vecuronium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on : prevent neuromuscular transmission by blocking the effect of acetylcholine at the myoneural j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no histamine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mittent d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 bolus – initially 0.08 to 0.1 mg /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. infusion  iv bolus 0.08 to 0.3 mg /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to 3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 to 40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 Production of skeletal muscle paralysed and facilitate intubation of anesthesia in surgical proced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 used during mechanical venti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in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sensitivity to vecuronium or brom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pn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uscle wea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lergic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meron  ( Rocuronium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mpeting with acethycholine for receptors at the motor end plate must be accompanied by adequate anesthesia or sedation as the drug has no effect on conscious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  0.6 to 1. 2 mg /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to 3 m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s adjunct to GA to facilitate ETT  intub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elaxation of skeletal muscle during mechanical venti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in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sensitivity to rocuron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rrhytm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archycar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rur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wheezing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ING RESPONS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g must be perform by trained perso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supplies and equipment on stand by to maintain airway and provide mechanical venti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of vital sign, serum electroly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 patient that paralysed is temporary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and avoid pressure ulser and nerve compression  syndrome by proper nur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UROMUSCULAR BLOK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drug can cause paralysed at the skeletal mus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Facilitate of mechanical venti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Facilitate of intubation and long 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To facilitate cerebral resuscitation measures to ensure physiological control of  ICP  (patient with raised intracranial pres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To decrease metabolic rate in patient of high metabolic demand, ex. Hypertherm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8288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2 type of Neuromuscular blok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Depolari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Non - Depolari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lar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cinylcholine (Scol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on – short acting, prevent the muscle from contracting reduce response to acetylcho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paralysed of levator muscle of eye-lid, mastication muscles, limb, abdominal and diaphrag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ult 0.6 mg / kg over 10-30 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 to 60 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to 6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nct to GA to facilitate ETT intubation and to induce relaxation of skeletal muscle during mechanical ventilation and surg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ind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Myasthenia gravis – blocking of acetylcholine cholinergic receptor aggravates the neuromuscular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Renal or hepatic disease which could interfere with the metabolism of this drug, leading to toxic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Acute narrow angle glau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Hypo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Arrhythm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Bronchosp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Hyperkalem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 – DEPOLARI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 Atracurium  ( Tracium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on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revent acetylcholine effect by competing for the cholinergic receptor at the motor end pl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histamine release leading to hypo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ven undiluted by iv bol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ly 0.4 – 0.5 mg / kg iv bolus followed by 0.08 to 0.1 mg / kg every 20 to 45 min after initial d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5 – 5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 – 45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ssist in ETT intub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s an adjunct to anesth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to induce relaxation of skeletal muscle during surg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in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asthenia grav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nchiol asth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on Lambert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VS -  bradycardia,hypo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– wheezing, increase bronchiol secr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– flush, pruritis, urtic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7:20:15Z</dcterms:created>
  <dc:creator>user</dc:creator>
  <dc:description/>
  <dc:language>en-US</dc:language>
  <cp:lastModifiedBy>user</cp:lastModifiedBy>
  <dcterms:modified xsi:type="dcterms:W3CDTF">2004-06-30T20:31:20Z</dcterms:modified>
  <cp:revision>3</cp:revision>
  <dc:subject/>
  <dc:title>NEURO MUSCULAR BLOKADE  SALMIAH SAIDON ICN 2/2008  </dc:title>
</cp:coreProperties>
</file>