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22.jpeg" ContentType="image/jpeg"/>
  <Override PartName="/ppt/media/ketelbinkie.wav" ContentType="audio/x-wav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7.gif" ContentType="image/gif"/>
  <Override PartName="/ppt/media/image2.jpeg" ContentType="image/jpeg"/>
  <Override PartName="/ppt/media/image2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38.gif" ContentType="image/gif"/>
  <Override PartName="/ppt/media/image17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6136-4419-4DAC-84D1-3C4A593F8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2ABD-789F-4A0B-A9D4-0218EFEB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0EE9-D4D9-4A25-BCCD-A10D7E6F2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41D8-B8C0-41F6-AACD-F13F76C88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069F-3542-4029-AB48-3A99A2AD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2E76-D3E6-441D-9DC9-73A2E537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BBEF-82DF-42F1-A377-A1DF9C62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E888-9253-4298-8734-BE4AB55C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3FD7-0682-4B71-B03D-E9D50071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91FA-8AD3-4A1C-8034-2D8FF516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224B-83FA-4EE1-9096-85886C19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6276-F0C3-44D1-A8C1-852B0FA9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C345-F553-4220-B427-7F5D3CF3F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audio" Target="../media/ketelbinkie.wav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gif"/><Relationship Id="rId5" Type="http://schemas.openxmlformats.org/officeDocument/2006/relationships/image" Target="../media/image37.gif"/><Relationship Id="rId6" Type="http://schemas.openxmlformats.org/officeDocument/2006/relationships/image" Target="../media/image38.gif"/><Relationship Id="rId7" Type="http://schemas.openxmlformats.org/officeDocument/2006/relationships/image" Target="../media/image38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838080" y="304920"/>
            <a:ext cx="876312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89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PowerPoint  Di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presenteerd 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KETELBINKIE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advTm="8000">
    <p:zoom dir="out"/>
    <p:sndAc>
      <p:stSnd>
        <p:snd r:embed="rId8" name="ketelbinki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8001000" cy="5181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39640" y="551664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j werd gescholden door de sto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1280" y="602136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mdat – ie van de eerste d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7619760" cy="5589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55640" y="55897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en wij maar net de pier uitwa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609588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 zeeziek in het ‘foc – sle ‘lag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8229600" cy="5334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39640" y="56610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 met jenever en citro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60120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rd hij weer op de been gebr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7848720" cy="48434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00000" y="602136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 brengen schade aan de vracht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54450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nt zieke zeelui zijn nadeli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572000" y="304920"/>
            <a:ext cx="4267080" cy="5181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880" y="601200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s - ie dan sjouwend met zijn ke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00800" y="4343400"/>
            <a:ext cx="1828800" cy="380880"/>
          </a:xfrm>
          <a:prstGeom prst="rect">
            <a:avLst/>
          </a:prstGeom>
          <a:solidFill>
            <a:srgbClr val="765700"/>
          </a:solidFill>
          <a:ln w="9360">
            <a:solidFill>
              <a:srgbClr val="765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ketelbink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rcRect l="0" t="0" r="0" b="22440"/>
          <a:stretch/>
        </p:blipFill>
        <p:spPr>
          <a:xfrm>
            <a:off x="380880" y="304920"/>
            <a:ext cx="4114800" cy="5181480"/>
          </a:xfrm>
          <a:prstGeom prst="rect">
            <a:avLst/>
          </a:prstGeom>
          <a:ln w="0">
            <a:noFill/>
          </a:ln>
        </p:spPr>
      </p:pic>
    </p:spTree>
  </p:cSld>
  <p:transition advTm="8000">
    <p:zoom dir="ou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85800" y="380880"/>
            <a:ext cx="7924680" cy="5334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85800" y="608796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n de kombuis naar voren kw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zoom dir="ou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8153280" cy="5105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33520" y="601992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n was het net een brokkie wanh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zoom dir="ou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8153280" cy="5200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3520" y="60120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e straatjongen uit Rotterdam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zoom dir="ou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8153280" cy="5516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39640" y="55897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nneer hij ‘s avonds in zijn kooi 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6095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 na het sjouwen eind’lijk sli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8153280" cy="5516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68360" y="551664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n schold de man die ‘wacht – te – kooi’ h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6012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mdat – ie om zijn moeder riep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71640" y="602136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 de “Edam “een ouwe sch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62064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en wij van Rotterdam vertro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7848720" cy="5064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85800" y="60199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 was in de Stille Oce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5589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en is – ie op een mooie mor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11280" y="0"/>
            <a:ext cx="7848360" cy="5589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09480" y="608796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iet van zijn kooi goed opgestaan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71640" y="55897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wijl ze brulden om hun koff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8001000" cy="5251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33520" y="6012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 toen de stuurman met kin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8001000" cy="5257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09480" y="61642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 wonderolie bij hem kw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zoom dir="ou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8001000" cy="5257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85800" y="58672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roeg hij een voorschot op zijn g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zoom dir="ou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85800" y="380880"/>
            <a:ext cx="7696080" cy="51818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62120" y="593568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or ‘t ouwe mens in Rotterdam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zoom dir="ou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7848720" cy="50198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11280" y="55166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zeildoek en met rooster ba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60213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rd hij dien dag op ‘t luik gez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8127720" cy="50594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84360" y="5589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 kapitein lichte zijn pet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602136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 sprak met grafstem een ge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8128080" cy="49197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85800" y="53737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 met  ‘n “Een – twee – drie – in Godsnaam!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59500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ing ‘t ketelbinkie overbo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8001000" cy="5068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11280" y="5445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e ‘t ouwetje niet durfde zo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60199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mdat dat niet bij zeelui hoort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8229600" cy="5410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11280" y="5445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 kakkerlakken in de midsche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60120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 rattennesten in ‘t voorui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33520" y="379440"/>
            <a:ext cx="7924680" cy="52941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09480" y="60120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 man een extra mokkie ‘schoot – an 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8153280" cy="51055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57200" y="60120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 ‘t ouwe mens een tele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zoom dir="ou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85800" y="380880"/>
            <a:ext cx="7772400" cy="5257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762120" y="6019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 was het einde van een ‘zeeman 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rcRect l="0" t="0" r="0" b="17998"/>
          <a:stretch/>
        </p:blipFill>
        <p:spPr>
          <a:xfrm>
            <a:off x="611280" y="0"/>
            <a:ext cx="7924680" cy="5410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755640" y="530064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e straatjongen uit Rotterdam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blipFill rotWithShape="0">
            <a:blip r:embed="rId3">
              <a:alphaModFix amt="48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>
    <p:zoom dir="ou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000"/>
                            </p:stCondLst>
                            <p:childTnLst>
                              <p:par>
                                <p:cTn id="15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2" dur="500" fill="hold"/>
                                        <p:tgtEl>
                                          <p:spTgt spid="1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250" autoRev="1" fill="hold"/>
                                        <p:tgtEl>
                                          <p:spTgt spid="1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9640" y="0"/>
            <a:ext cx="8153640" cy="5516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68360" y="551664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en hadden we een kleine jo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60120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s ‘ketelbink ‘bij ons aan bo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7696080" cy="5516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39640" y="551664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e voor de eersten keer naar zee 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608796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 nooit van haaien had gehoord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7619760" cy="4916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62120" y="593568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e van zijn moeder aan de k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8229600" cy="4876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5943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t schuchter lachend afscheid n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zoom dir="ou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8077320" cy="5105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09480" y="6012000"/>
            <a:ext cx="807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59436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mdat - ie haar niet durfde zo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7924680" cy="5072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09480" y="60120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e straatjongen uit Rotterdam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7T08:30:24Z</dcterms:created>
  <dc:creator>Powerpoint Dick</dc:creator>
  <dc:description/>
  <dc:language>en-US</dc:language>
  <cp:lastModifiedBy>Smets</cp:lastModifiedBy>
  <dcterms:modified xsi:type="dcterms:W3CDTF">2010-03-04T19:10:43Z</dcterms:modified>
  <cp:revision>3</cp:revision>
  <dc:subject/>
  <dc:title>Ketelbinki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