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ketelbinkie.wav" ContentType="audio/x-wav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8DE-75E0-4A08-B981-62056C72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92B-9666-4C51-B6F2-AAA6ED9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E75-37D3-4DE9-B74D-6637AD8C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61B-F14C-43D9-AF00-DC34288F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10D-7F50-4E88-BD33-792A4DCE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44A-77B0-4604-805A-96DBA319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E50-423A-4481-AF63-4E48F95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182-BDF6-4752-92C2-AD3EF56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B7C-DB5F-4167-9A08-FC6F40C7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AE8-EC5E-4E3B-BD30-5176A35D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CB2-A422-4B84-943F-5DD5D31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8A6-D5BF-45B7-83E3-8BF6B1A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41C-ABA2-4AF9-9B2B-23E051A7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ketelbinki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304920"/>
            <a:ext cx="8763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owerPoint  Di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presenteerd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KETELBINKI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8000">
    <p:zoom dir="out"/>
    <p:sndAc>
      <p:stSnd>
        <p:snd r:embed="rId8" name="ketelbink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18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5516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j werd gescholden door de st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0213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van de eerste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5589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maar net de pier uit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6095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zeeziek in het ‘foc – sle ‘la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661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jenever en citr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1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weer op de been geb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4843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6021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brengen schade aan de vrach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445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zieke zeelui zijn nadel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6012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- ie dan sjouwend met zijn k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343400"/>
            <a:ext cx="1828800" cy="380880"/>
          </a:xfrm>
          <a:prstGeom prst="rect">
            <a:avLst/>
          </a:prstGeom>
          <a:solidFill>
            <a:srgbClr val="765700"/>
          </a:solidFill>
          <a:ln w="9360">
            <a:solidFill>
              <a:srgbClr val="765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etelbin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0" r="0" b="22440"/>
          <a:stretch/>
        </p:blipFill>
        <p:spPr>
          <a:xfrm>
            <a:off x="380880" y="304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6087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 de kombuis naar voren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6019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was het net een brokkie 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200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6012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558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neer hij ‘s avonds in zijn kooi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a het sjouwen eind’lijk sli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schold de man die ‘wacht – te – kooi’ h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1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om zijn moeder rie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6021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de “Edam “een ouwe sch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20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van Rotterdam vertro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6019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was in de Stille Oce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is – ie op een mooie mo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589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60879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t van zijn kooi goed opgestaa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wijl ze brulden om hun kof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1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6012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toen de stuurman met k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616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wonderolie bij hem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5867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oeg hij een voorschot op zijn 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518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 ‘t ouwe mens in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01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zeildoek en met rooster 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02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dien dag op ‘t luik g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127720" cy="505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kapitein lichte zijn pe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602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prak met grafstem een ge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28080" cy="4919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5373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 ‘n “Een – twee – drie – in Godsnaam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95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ng ‘t ketelbinkie over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506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544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‘t ouwetje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019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dat niet bij zeelui hoor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4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kakkerlakken in de midsch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12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rattennesten in ‘t vooru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520" y="379440"/>
            <a:ext cx="7924680" cy="529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601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man een extra mokkie ‘schoot – 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6012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‘t ouwe mens een tele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6019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 was het einde van een ‘zeem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17998"/>
          <a:stretch/>
        </p:blipFill>
        <p:spPr>
          <a:xfrm>
            <a:off x="611280" y="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5300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153640" cy="551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hadden we een kleine jo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012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‘ketelbink ‘bij ons aan 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96080" cy="551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51664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oor de eersten keer naar zee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87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ooit van haaien had gehoor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491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an zijn moeder aan de 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943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 schuchter lachend afscheid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601200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43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- ie haar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924680" cy="5072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601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30:24Z</dcterms:created>
  <dc:creator>Powerpoint Dick</dc:creator>
  <dc:description/>
  <dc:language>en-US</dc:language>
  <cp:lastModifiedBy>Smets</cp:lastModifiedBy>
  <dcterms:modified xsi:type="dcterms:W3CDTF">2010-03-04T19:10:43Z</dcterms:modified>
  <cp:revision>3</cp:revision>
  <dc:subject/>
  <dc:title>Ketelbink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